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569-BA48-4E4A-8D96-6B41EEB4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D0A-1754-4B84-85C7-EACF9953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79A-14E6-4FAA-9870-00B1F9A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E68-5CCF-4387-A316-6E6F1AC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894-0D8C-4852-B3E3-C287CFA9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D21-BCA7-4212-B054-90D51893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426-2AB2-4B75-9C76-79D9DAF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C94-936B-485D-9041-056DAB65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0DC-D48C-4638-B9FE-BE26F34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D2E-3A06-4E0C-9BC7-75C1B86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882-757F-4F27-8456-94F66DA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DAA-FA12-47B7-ACC1-F6332CF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4DF85-13FD-4617-B572-11E6CDBDC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11BB0-3FBC-4463-870B-0205E39D4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of these planets…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eventh planet from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inner plan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atur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.  Jupi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6730920" y="4876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preardon\Local Settings\Temporary Internet Files\Content.IE5\JI0F9GEZ\MCj01875870000[1].wmf"/>
          <p:cNvPicPr/>
          <p:nvPr/>
        </p:nvPicPr>
        <p:blipFill>
          <a:blip r:embed="rId3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50" name="Picture 9" descr="scistartlogo2"/>
          <p:cNvPicPr/>
          <p:nvPr/>
        </p:nvPicPr>
        <p:blipFill>
          <a:blip r:embed="rId1"/>
          <a:stretch/>
        </p:blipFill>
        <p:spPr>
          <a:xfrm>
            <a:off x="6248520" y="228600"/>
            <a:ext cx="268596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2" descr=""/>
          <p:cNvPicPr/>
          <p:nvPr/>
        </p:nvPicPr>
        <p:blipFill>
          <a:blip r:embed="rId2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3"/>
          <a:stretch/>
        </p:blipFill>
        <p:spPr>
          <a:xfrm>
            <a:off x="0" y="4343400"/>
            <a:ext cx="27306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457200" y="2438280"/>
            <a:ext cx="5791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eventh planet from the su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inner planet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343400" y="334656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.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222960" y="243828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. 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2:39:11Z</dcterms:created>
  <dc:creator>Patricia Reardon</dc:creator>
  <dc:description/>
  <dc:language>en-US</dc:language>
  <cp:lastModifiedBy>Patricia Reardon</cp:lastModifiedBy>
  <dcterms:modified xsi:type="dcterms:W3CDTF">2008-12-12T02:42:58Z</dcterms:modified>
  <cp:revision>13</cp:revision>
  <dc:subject/>
  <dc:title>Slide 1</dc:title>
</cp:coreProperties>
</file>