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DD7-23EF-4E3F-B122-BEDBA2A2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2E8-991A-4FFC-955A-CBAC90BE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509-ADF1-47CB-ABDA-8B060A80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A2A-61F9-4C09-B989-59D10BE5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B4A-AC4B-43DF-84FB-1D0C9FAA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94F-851B-4204-A95D-BE899184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7C3-18BC-4EA3-BE0B-1CF310E7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7F1-5063-4176-ADB2-EE4296F7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89E-C50B-4A8C-BF80-61546E4B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79B-9018-46BB-8E73-54F0C5B4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9D3-A9B7-49BA-BF81-5BD06489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959-BB7C-4296-8A36-96F995C6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F932A-C7F5-45D4-BBCE-E57F23EA61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AFF64-ABC6-4134-8323-1A6D14257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Which of these planets…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57200" y="2142720"/>
            <a:ext cx="845820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 seventh planet from the su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n inner plan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atur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.  Jupi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lphaUcPeriod" startAt="3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Verdana"/>
              <a:buAutoNum type="alphaUcPeriod" startAt="3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44" name="Rectangle 12" descr=""/>
          <p:cNvPicPr/>
          <p:nvPr/>
        </p:nvPicPr>
        <p:blipFill>
          <a:blip r:embed="rId1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2"/>
          <a:stretch/>
        </p:blipFill>
        <p:spPr>
          <a:xfrm>
            <a:off x="6730920" y="4876920"/>
            <a:ext cx="1820880" cy="1676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C:\Documents and Settings\preardon\Local Settings\Temporary Internet Files\Content.IE5\JI0F9GEZ\MCj01875870000[1].wmf"/>
          <p:cNvPicPr/>
          <p:nvPr/>
        </p:nvPicPr>
        <p:blipFill>
          <a:blip r:embed="rId3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1601640"/>
            <a:ext cx="8458200" cy="520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Verdana"/>
              </a:rPr>
              <a:t>The answers ar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457200" y="0"/>
            <a:ext cx="4724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50" name="Picture 9" descr="scistartlogo2"/>
          <p:cNvPicPr/>
          <p:nvPr/>
        </p:nvPicPr>
        <p:blipFill>
          <a:blip r:embed="rId1"/>
          <a:stretch/>
        </p:blipFill>
        <p:spPr>
          <a:xfrm>
            <a:off x="6248520" y="228600"/>
            <a:ext cx="2685960" cy="5047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12" descr=""/>
          <p:cNvPicPr/>
          <p:nvPr/>
        </p:nvPicPr>
        <p:blipFill>
          <a:blip r:embed="rId2"/>
          <a:stretch/>
        </p:blipFill>
        <p:spPr>
          <a:xfrm>
            <a:off x="5376960" y="914400"/>
            <a:ext cx="87768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3"/>
          <a:stretch/>
        </p:blipFill>
        <p:spPr>
          <a:xfrm>
            <a:off x="0" y="4343400"/>
            <a:ext cx="273060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457200" y="2438280"/>
            <a:ext cx="579132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201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 seventh planet from the sun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4201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An inner planet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4343400" y="3346560"/>
            <a:ext cx="269244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.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6222960" y="2438280"/>
            <a:ext cx="2692440" cy="45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c. 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2:39:11Z</dcterms:created>
  <dc:creator>Patricia Reardon</dc:creator>
  <dc:description/>
  <dc:language>en-US</dc:language>
  <cp:lastModifiedBy>Patricia Reardon</cp:lastModifiedBy>
  <dcterms:modified xsi:type="dcterms:W3CDTF">2008-12-12T02:42:58Z</dcterms:modified>
  <cp:revision>13</cp:revision>
  <dc:subject/>
  <dc:title>Slide 1</dc:title>
</cp:coreProperties>
</file>