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41F-345A-406F-BD3E-81089FDC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0BB-9D1B-4C2C-8372-6E5EAD43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069-8362-421A-B7B4-3E25B83E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880-4FD0-4169-86F5-18D0018C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22D0-D563-4351-BCBF-6674B52D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0121-FD43-4CDB-9112-0A0ACDF5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3EF1-8172-4AAB-9311-FC21C665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08D0-5366-410C-831C-B7D2DD45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B22E-8E84-46DB-B17E-10078459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FA4E-8E25-4F6A-B19E-289F2F6A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CE8D-F399-48A6-A734-9DE25500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ADF-6B0E-4E69-930C-73BE922A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72BB-4360-41E3-8CD7-CF4804E3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E05A-86B9-47F5-828D-327B7DA5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E698-8F13-4875-BBA0-4EEEBB50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F70B-75B0-42A1-8843-DAA0B84B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17B6-E788-4411-9AF6-4F5FE8EB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DF7-1542-4629-B64B-4A7F8542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207-4D42-4DB4-B9D3-21DF9397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EA6-C90B-4583-ADD4-E2FE1C27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D49-D98E-40AC-B185-D4B002E8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438-AA4A-41AD-A358-3026F1B8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62A-1F6B-4891-AE2F-A084CEA8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22E-B951-4825-85FD-0AC289D3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32351-EDF6-4C8A-9E25-E1857C26BC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27B6F-CDAD-44E1-A5CC-0B3EF89AE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81F79-064E-490D-8D62-8BD423355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1077840"/>
            <a:ext cx="893448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Choose the best answ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0" y="1600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Why are different constellations of stars seen during different seas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304920" y="103320"/>
            <a:ext cx="65530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7315200" y="471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10253f"/>
                </a:solidFill>
                <a:latin typeface="Verdana"/>
              </a:rPr>
              <a:t>#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8" descr="C:\Documents and Settings\preardon\Local Settings\Temporary Internet Files\Content.IE5\WFSN4LS3\MCj04059520000[1].wmf"/>
          <p:cNvPicPr/>
          <p:nvPr/>
        </p:nvPicPr>
        <p:blipFill>
          <a:blip r:embed="rId1"/>
          <a:stretch/>
        </p:blipFill>
        <p:spPr>
          <a:xfrm>
            <a:off x="7848720" y="5867280"/>
            <a:ext cx="108576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228600" y="2692440"/>
            <a:ext cx="870588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. The Milky Way revolves to a different position with each seas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. Constellations move around the sun during different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. Seasonal changes in the magnetic poles create the northern lights, which block the 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. Earth is on a different side of the sun during each seas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04920" y="5140440"/>
            <a:ext cx="830556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. Earth is on a different side of the sun during each seas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23:41:26Z</dcterms:created>
  <dc:creator>Patricia Reardon</dc:creator>
  <dc:description/>
  <dc:language>en-US</dc:language>
  <cp:lastModifiedBy>Patricia Reardon</cp:lastModifiedBy>
  <dcterms:modified xsi:type="dcterms:W3CDTF">2008-12-12T02:42:39Z</dcterms:modified>
  <cp:revision>18</cp:revision>
  <dc:subject/>
  <dc:title>Slide 1</dc:title>
</cp:coreProperties>
</file>