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B1CA-4D11-4AC5-B32F-FD614B7A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5E7A-308B-4CCA-A945-FCEDB5B1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651F-FD14-4369-BA1E-6EDFB857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748-0B6A-4828-A170-6A8AD312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2067-97F7-45C2-A983-829B72B7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FF93-C87C-4BB8-8CF6-E808DEE4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A17B-192C-478D-873E-A9054B60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3D11-9AE4-473A-9A57-3FAA1BFB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4026-E1AB-409E-8DDB-BC331858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1098-749A-447F-A064-7121FBEB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A538-3D27-49F2-991C-778903A0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0007-0FA8-4025-9990-93B4656C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1389-CAC9-474A-928A-37C30179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754D-3804-4772-9F05-086D2ED0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DAC2-4F91-45FA-BA03-D2B5DDD8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6D50-FA97-4552-AA74-0E53AC73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A14D-28FE-4D88-AD11-CBADFE38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FC5-6F28-4AA9-BAAB-393D6A20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E5C0-CA9F-4109-AFFB-A5912B0B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CA34-05D9-4DEE-8352-EF024F01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FE41-38E2-4B7C-ADE0-6D934C59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B6F-12F5-4E61-B0F6-E8136063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5089-9994-4C91-ADD8-6EC43EDB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E821-FB62-4062-9E82-D27FA172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DF21A-AA8B-4A06-B2F1-5246287A93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B0BD7-4DE3-4FD4-8196-E7FBF6820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A138C-14BA-4C00-A70B-A4CA04E26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C:\Documents and Settings\preardon\Local Settings\Temporary Internet Files\Content.IE5\JI0F9GEZ\MCj01875870000[1].wmf"/>
          <p:cNvPicPr/>
          <p:nvPr/>
        </p:nvPicPr>
        <p:blipFill>
          <a:blip r:embed="rId2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C:\Documents and Settings\preardon\Local Settings\Temporary Internet Files\Content.IE5\JI0F9GEZ\MCj01875870000[1].wmf"/>
          <p:cNvPicPr/>
          <p:nvPr/>
        </p:nvPicPr>
        <p:blipFill>
          <a:blip r:embed="rId2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1077840"/>
            <a:ext cx="8934480" cy="520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Choose the best answe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0" y="1600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Why are different constellations of stars seen during different seas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304920" y="103320"/>
            <a:ext cx="65530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76092"/>
                </a:solidFill>
                <a:latin typeface="Abadi MT Condensed Extra Bold"/>
              </a:rPr>
              <a:t>Astronom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76092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7315200" y="4716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10253f"/>
                </a:solidFill>
                <a:latin typeface="Verdana"/>
              </a:rPr>
              <a:t>#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8" descr="C:\Documents and Settings\preardon\Local Settings\Temporary Internet Files\Content.IE5\WFSN4LS3\MCj04059520000[1].wmf"/>
          <p:cNvPicPr/>
          <p:nvPr/>
        </p:nvPicPr>
        <p:blipFill>
          <a:blip r:embed="rId1"/>
          <a:stretch/>
        </p:blipFill>
        <p:spPr>
          <a:xfrm>
            <a:off x="7848720" y="5867280"/>
            <a:ext cx="1085760" cy="99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Documents and Settings\preardon\Local Settings\Temporary Internet Files\Content.IE5\JI0F9GEZ\MCj01875870000[1].wmf"/>
          <p:cNvPicPr/>
          <p:nvPr/>
        </p:nvPicPr>
        <p:blipFill>
          <a:blip r:embed="rId2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228600" y="2692440"/>
            <a:ext cx="870588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. The Milky Way revolves to a different position with each seas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B. Constellations move around the sun during different seas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. Seasonal changes in the magnetic poles create the northern lights, which block the 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. Earth is on a different side of the sun during each seas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304920" y="5140440"/>
            <a:ext cx="830556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D. Earth is on a different side of the sun during each seas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23:41:26Z</dcterms:created>
  <dc:creator>Patricia Reardon</dc:creator>
  <dc:description/>
  <dc:language>en-US</dc:language>
  <cp:lastModifiedBy>Patricia Reardon</cp:lastModifiedBy>
  <dcterms:modified xsi:type="dcterms:W3CDTF">2008-12-12T02:42:39Z</dcterms:modified>
  <cp:revision>18</cp:revision>
  <dc:subject/>
  <dc:title>Slide 1</dc:title>
</cp:coreProperties>
</file>