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E86-06E6-424C-A812-03F750AF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4C5-BC4A-4420-9E66-1E2DE8FA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F42-59A8-4147-A327-99495F2A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673-418F-4B0E-BA14-A72F66EE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BD94-23B3-4104-8187-696B592E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3BD9-3013-4E42-8F30-1ED2F7A9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1530-3A2E-48EC-8AA8-CDF3C774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7E23-8836-4CBB-BC3E-D8C0773D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0C7F-15B8-4547-85BD-0C7BC908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8171-A510-4A46-80CE-A0E2BD4D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8208-53C2-4D49-96DB-CCA6C19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536-A2DF-4ECC-A2DB-A46F7E8A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38AA-A381-47BB-849A-B4B06BB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F147-510C-4BE0-80BC-F58C94D4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9518-4E93-4942-91AA-243B503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3199-36E8-4D20-B0F4-F8E0F76D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F415-FE7A-4762-9165-61C55B63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80B-2C9F-46DF-8077-94AAD551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030-5718-4F01-9E28-224D6FE8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672-0B3F-47F4-8735-6A5355F5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EFD-373B-4542-9E5E-9A2A18C1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817-C761-4255-95E6-10C51C4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389-FFBA-4EE1-8776-5AB17828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2F5-2DEB-402D-AB2F-6F7EF05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B28C6-B391-42AF-9B53-1E3645B770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C33EE-254B-4B35-BE93-DDD2763E2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107FD-2338-4751-A4A8-BA1CE4F68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ets list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52600" y="259092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planets in our solar system in order, starting with the one closest to the sun. (Hint: My very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inner planets. (Hint: those between the sun and the asteroid be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outer plane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wo ways the inner planets and the outer planets are diffe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457200" y="403200"/>
            <a:ext cx="65530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7343640" y="733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10253f"/>
                </a:solidFill>
                <a:latin typeface="Verdana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8" descr="C:\Documents and Settings\preardon\Local Settings\Temporary Internet Files\Content.IE5\WFSN4LS3\MCj04059520000[1].wmf"/>
          <p:cNvPicPr/>
          <p:nvPr/>
        </p:nvPicPr>
        <p:blipFill>
          <a:blip r:embed="rId1"/>
          <a:stretch/>
        </p:blipFill>
        <p:spPr>
          <a:xfrm>
            <a:off x="7286760" y="5448240"/>
            <a:ext cx="1123920" cy="110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1440"/>
            <a:ext cx="91440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nswers are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228600" y="5416560"/>
            <a:ext cx="8629560" cy="1191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ner planets have no rings and are made of rock. The outer planets  have many moons and are made of mostly g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523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the planets in our solar system in order, starting with the one closest to the sun. (Hint: My very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List the inner planets. (Hint: those between the sun and the asteroid be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List the outer plane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Name two ways the inner planets and the outer planets are diffe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28600" y="1447920"/>
            <a:ext cx="891540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rcury (closest to the sun) Venus, Earth, Mars, Jupiter, Saturn, Uranus, 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581280" y="3124080"/>
            <a:ext cx="527688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rcury, Venus, Earth and  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876920" y="3800520"/>
            <a:ext cx="3581280" cy="825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upiter, Saturn, Uranus, 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21:40:54Z</dcterms:created>
  <dc:creator>Patricia Reardon</dc:creator>
  <dc:description/>
  <dc:language>en-US</dc:language>
  <cp:lastModifiedBy>Tracy Trimpe</cp:lastModifiedBy>
  <dcterms:modified xsi:type="dcterms:W3CDTF">2008-12-15T23:46:49Z</dcterms:modified>
  <cp:revision>18</cp:revision>
  <dc:subject/>
  <dc:title>Slide 1</dc:title>
</cp:coreProperties>
</file>