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350-EEE5-49B1-B949-E27B5FD2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BC8-769B-4F7E-A20C-DF3D80D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52D-58A5-461D-9DD1-6BB04032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D37-F99E-4F09-9247-CB005373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6D9D-245C-4876-B8EC-6D5E1893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07B1-0C6D-4DD4-85D3-479E088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FD98-ADDD-404E-9AF1-4223413C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BAE3-E1A2-4873-A42D-DABEC0B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B979-FB03-416A-8EB4-67BEE362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1B13-CB21-4470-A970-7D3CCC5B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6E3B-F23B-43FE-B8D2-C0D77DE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621-7AA4-4198-9360-6D7D2EA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637B-730F-47CE-8AA3-0E36C56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1FF1-484D-4CE1-B3C6-7148786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75F0-2644-49F8-9602-80503E1B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EBC4-978F-4A65-A2AB-0A80C0F6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226C-63FB-4CA8-B099-013713B1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40B-D2E9-493A-9772-25158B8A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2FB-2428-4794-9DAC-D86ADC6E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A90-45A1-434C-8B57-9FB23B7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B43-0AAE-470C-AFA3-4E9C8267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FE1-F340-47AF-9FAE-B5E38A4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3BB-58D0-4948-81AE-A7195A7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6F4-F87A-4362-8321-F2B63FF2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1DEDC-3BFA-4E79-AA42-FCCD3DCE7F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3A196-C4C1-4809-9812-13B18469A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B0E95-9D57-41EC-9460-E3E5DADA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ets list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52600" y="259092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planets in our solar system in order, starting with the one closest to the sun. (Hint: My ver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inner planets. (Hint: those between the sun and the asteroid be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outer plane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wo ways the inner planets and the outer planets are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457200" y="403200"/>
            <a:ext cx="6553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343640" y="733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7286760" y="5448240"/>
            <a:ext cx="1123920" cy="11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1440"/>
            <a:ext cx="91440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nswers ar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228600" y="5416560"/>
            <a:ext cx="862956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ner planets have no rings and are made of rock. The outer planets  have many moons and are made of mostly g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523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planets in our solar system in order, starting with the one closest to the sun. (Hint: My ver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List the inner planets. (Hint: those between the sun and the asteroid be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List the outer plan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Name two ways the inner planets and the outer planets are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28600" y="1447920"/>
            <a:ext cx="89154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cury (closest to the sun) Venus, Earth, Mars, Jupiter, Saturn, Uranus, 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581280" y="3124080"/>
            <a:ext cx="52768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cury, Venus, Earth and  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876920" y="3800520"/>
            <a:ext cx="358128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upiter, Saturn, Uranus, 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21:40:54Z</dcterms:created>
  <dc:creator>Patricia Reardon</dc:creator>
  <dc:description/>
  <dc:language>en-US</dc:language>
  <cp:lastModifiedBy>Tracy Trimpe</cp:lastModifiedBy>
  <dcterms:modified xsi:type="dcterms:W3CDTF">2008-12-15T23:46:49Z</dcterms:modified>
  <cp:revision>18</cp:revision>
  <dc:subject/>
  <dc:title>Slide 1</dc:title>
</cp:coreProperties>
</file>