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A3C-088B-48F7-AF12-FA278A88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6BC-A300-4FD1-B0AF-69889227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EE8-89A2-4F33-92A8-7E89F1CE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870-8199-497F-8857-362B3218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A1C-1B18-46FD-B832-69AF956E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E8F-6B87-4CE4-8BC6-7F5199B2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2F8-D3A9-4109-9964-1B060B2A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737-95B6-467D-8239-7C8C9713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213-404C-4402-A0D5-3B8EE7C4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EBE-C87E-427F-AAC3-7D1D4007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D07-9931-4256-AECA-7C319EEF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F90-7637-49D5-B551-F396FE1B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68B92-587B-433A-8EC9-27DC11EC59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2E9C9-3C55-4F2F-B469-F4A734208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hich of these planets…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57200" y="2142720"/>
            <a:ext cx="845820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hird planet from the su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rgest of the eight plane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atur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.  Jupi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lphaUcPeriod" startAt="3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lphaUcPeriod" startAt="3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57200" y="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44" name="Rectangle 12" descr=""/>
          <p:cNvPicPr/>
          <p:nvPr/>
        </p:nvPicPr>
        <p:blipFill>
          <a:blip r:embed="rId1"/>
          <a:stretch/>
        </p:blipFill>
        <p:spPr>
          <a:xfrm>
            <a:off x="5376960" y="914400"/>
            <a:ext cx="877680" cy="53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2"/>
          <a:stretch/>
        </p:blipFill>
        <p:spPr>
          <a:xfrm>
            <a:off x="6730920" y="4876920"/>
            <a:ext cx="1820880" cy="1676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C:\Documents and Settings\preardon\Local Settings\Temporary Internet Files\Content.IE5\JI0F9GEZ\MCj01875870000[1].wmf"/>
          <p:cNvPicPr/>
          <p:nvPr/>
        </p:nvPicPr>
        <p:blipFill>
          <a:blip r:embed="rId3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answers ar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457200" y="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50" name="Picture 9" descr="scistartlogo2"/>
          <p:cNvPicPr/>
          <p:nvPr/>
        </p:nvPicPr>
        <p:blipFill>
          <a:blip r:embed="rId1"/>
          <a:stretch/>
        </p:blipFill>
        <p:spPr>
          <a:xfrm>
            <a:off x="6248520" y="228600"/>
            <a:ext cx="2685960" cy="5047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12" descr=""/>
          <p:cNvPicPr/>
          <p:nvPr/>
        </p:nvPicPr>
        <p:blipFill>
          <a:blip r:embed="rId2"/>
          <a:stretch/>
        </p:blipFill>
        <p:spPr>
          <a:xfrm>
            <a:off x="5376960" y="914400"/>
            <a:ext cx="87768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3"/>
          <a:stretch/>
        </p:blipFill>
        <p:spPr>
          <a:xfrm>
            <a:off x="0" y="4343400"/>
            <a:ext cx="273060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457200" y="2438280"/>
            <a:ext cx="579132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201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hird planet from the sun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4201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rgest of the eighth planets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248520" y="2438280"/>
            <a:ext cx="269244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6248520" y="3808440"/>
            <a:ext cx="269244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3:38:43Z</dcterms:created>
  <dc:creator>Patricia Reardon</dc:creator>
  <dc:description/>
  <dc:language>en-US</dc:language>
  <cp:lastModifiedBy>Tracy Trimpe</cp:lastModifiedBy>
  <dcterms:modified xsi:type="dcterms:W3CDTF">2008-12-15T23:46:23Z</dcterms:modified>
  <cp:revision>11</cp:revision>
  <dc:subject/>
  <dc:title>Slide 1</dc:title>
</cp:coreProperties>
</file>