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2D9-096D-4C32-953A-89161E7E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758-3F7B-4215-919A-52EBE35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C21-6648-4E87-9FD4-043DF60B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BBB-469D-44AF-A881-9398D2FA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C64-FB9F-48EA-830D-67400E0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DCD-5442-493C-8479-838D6DD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E99-A380-43B6-AA37-4684367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401-C745-4BDD-A25A-9A6E32A8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23A-6EC5-4243-BB8E-C5075A6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538-C282-4826-96F7-C641727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7DC-C597-42F3-B90A-813A8AEE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403-F4D9-4534-A1A7-8E994D1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B73FC-20E7-4A69-8F09-B1CBEF478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8E316-2F8E-4104-A71A-5FA2AEB84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ich of these planets…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planet from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st of the eight plane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tur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.  Jupi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6730920" y="4876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preardon\Local Settings\Temporary Internet Files\Content.IE5\JI0F9GEZ\MCj01875870000[1].wmf"/>
          <p:cNvPicPr/>
          <p:nvPr/>
        </p:nvPicPr>
        <p:blipFill>
          <a:blip r:embed="rId3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50" name="Picture 9" descr="scistartlogo2"/>
          <p:cNvPicPr/>
          <p:nvPr/>
        </p:nvPicPr>
        <p:blipFill>
          <a:blip r:embed="rId1"/>
          <a:stretch/>
        </p:blipFill>
        <p:spPr>
          <a:xfrm>
            <a:off x="6248520" y="228600"/>
            <a:ext cx="268596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2" descr=""/>
          <p:cNvPicPr/>
          <p:nvPr/>
        </p:nvPicPr>
        <p:blipFill>
          <a:blip r:embed="rId2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3"/>
          <a:stretch/>
        </p:blipFill>
        <p:spPr>
          <a:xfrm>
            <a:off x="0" y="4343400"/>
            <a:ext cx="27306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457200" y="2438280"/>
            <a:ext cx="5791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planet from the su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st of the eighth pla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248520" y="243828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248520" y="380844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3:38:43Z</dcterms:created>
  <dc:creator>Patricia Reardon</dc:creator>
  <dc:description/>
  <dc:language>en-US</dc:language>
  <cp:lastModifiedBy>Tracy Trimpe</cp:lastModifiedBy>
  <dcterms:modified xsi:type="dcterms:W3CDTF">2008-12-15T23:46:23Z</dcterms:modified>
  <cp:revision>11</cp:revision>
  <dc:subject/>
  <dc:title>Slide 1</dc:title>
</cp:coreProperties>
</file>