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4FB-46DC-4DCF-BBCA-6ECDF70A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3FC-DC95-42D2-BCBD-5953F6CD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446-3C45-4C25-B720-1AA89D86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5A7-A6B1-40EB-A4C6-8A5C6658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892-3548-4524-B16A-A05A0C9A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719-0E5B-4FA8-86D9-2F794E01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C4D-C0B4-4EE4-9391-0CDFD94A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53F-ED81-4DEA-924D-54C5D3EB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360-3228-4616-92BC-4E8A7354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BB0-F359-4D0C-8273-44A708D5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CEE-88E8-48AD-A9A6-4A315D94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878-AF10-4FB7-997F-0FA2F31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22A29-563E-404A-BA1A-3556414B06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B13A8-B150-426A-9279-8AEF65D3D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bi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62120" y="32828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m is the small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62120" y="2590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eight planets is the larg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457200" y="403200"/>
            <a:ext cx="472428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562720" y="995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8" descr="C:\Documents and Settings\preardon\Local Settings\Temporary Internet Files\Content.IE5\WFSN4LS3\MCj04059520000[1].wmf"/>
          <p:cNvPicPr/>
          <p:nvPr/>
        </p:nvPicPr>
        <p:blipFill>
          <a:blip r:embed="rId1"/>
          <a:stretch/>
        </p:blipFill>
        <p:spPr>
          <a:xfrm>
            <a:off x="1447920" y="5448240"/>
            <a:ext cx="1123920" cy="1109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2"/>
          <p:cNvSpPr/>
          <p:nvPr/>
        </p:nvSpPr>
        <p:spPr>
          <a:xfrm>
            <a:off x="762120" y="3882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largest planet bigger than the su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nswers are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- Adapted from 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8" descr="C:\Documents and Settings\preardon\Local Settings\Temporary Internet Files\Content.IE5\WFSN4LS3\MCj04059520000[1].wmf"/>
          <p:cNvPicPr/>
          <p:nvPr/>
        </p:nvPicPr>
        <p:blipFill>
          <a:blip r:embed="rId1"/>
          <a:stretch/>
        </p:blipFill>
        <p:spPr>
          <a:xfrm>
            <a:off x="2800440" y="490680"/>
            <a:ext cx="112392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9"/>
          <p:cNvSpPr/>
          <p:nvPr/>
        </p:nvSpPr>
        <p:spPr>
          <a:xfrm>
            <a:off x="762120" y="3962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m is the small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762120" y="25909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eight planets is the larg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762120" y="5029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largest planet bigger than the su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4495680" y="3052800"/>
            <a:ext cx="19051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4495680" y="4567320"/>
            <a:ext cx="190512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3924360" y="5629320"/>
            <a:ext cx="952560" cy="459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3:37:23Z</dcterms:created>
  <dc:creator>Patricia Reardon</dc:creator>
  <dc:description/>
  <dc:language>en-US</dc:language>
  <cp:lastModifiedBy>Tracy Trimpe</cp:lastModifiedBy>
  <dcterms:modified xsi:type="dcterms:W3CDTF">2008-12-15T23:45:56Z</dcterms:modified>
  <cp:revision>13</cp:revision>
  <dc:subject/>
  <dc:title>Slide 1</dc:title>
</cp:coreProperties>
</file>