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8E4-D166-41A4-81C8-1577310D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515-34A2-4CDC-9840-0A0739C1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0C0-3D02-4024-B198-7D8A7D8F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2D3-0C4D-4B91-8231-DDD63AC1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28E-7A25-41D8-BEE3-652E59FC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49B-94EC-4645-A723-493C9FCF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C57-5815-4C1A-AD30-C7B50D50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B7E-6611-4B09-AE5B-28D9987B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894-2EC8-4D5E-9119-5504490B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B13-ED46-45BF-B688-C9D6FFC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1DE-313B-4D36-A1C3-A83CCB95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4D7-4E60-42D7-A0BB-EC2CB81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03962-96B4-43E2-AAE6-F3168083A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69483-F668-4637-8B94-3A26E42BD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bi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62120" y="32828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m is the small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62120" y="259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eight planets is the larg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57200" y="403200"/>
            <a:ext cx="47242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562720" y="995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1447920" y="5448240"/>
            <a:ext cx="1123920" cy="1109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762120" y="3882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argest planet bigger than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nswers ar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- Adapted from 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2800440" y="490680"/>
            <a:ext cx="112392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76212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m is the small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762120" y="259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eight planets is the larg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62120" y="5029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argest planet bigger than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4495680" y="3052800"/>
            <a:ext cx="19051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4495680" y="4567320"/>
            <a:ext cx="19051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924360" y="5629320"/>
            <a:ext cx="9525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3:37:23Z</dcterms:created>
  <dc:creator>Patricia Reardon</dc:creator>
  <dc:description/>
  <dc:language>en-US</dc:language>
  <cp:lastModifiedBy>Tracy Trimpe</cp:lastModifiedBy>
  <dcterms:modified xsi:type="dcterms:W3CDTF">2008-12-15T23:45:56Z</dcterms:modified>
  <cp:revision>13</cp:revision>
  <dc:subject/>
  <dc:title>Slide 1</dc:title>
</cp:coreProperties>
</file>