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9C4E-DE30-4052-9F61-EC4AA6A6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744E-FD29-41D4-801C-B146447D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8DF6-BDBE-45BA-BE9A-BE84BEF3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A604-608A-4B8F-9836-C2497AAD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ECAE-1E2F-4A5F-9A18-CFAF4197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EE33-C9AC-401C-9A6E-2982BC6A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1B8A-9FF4-4416-B481-18A91567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29B4-A2EC-4D4C-A3EF-C88DBC35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325F-5B2F-4998-A9B2-736BDE00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CCB7-7E51-471F-B137-FFFE5EDE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3F3A-2DD8-472D-957C-A2CC420A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DFE8-158D-4368-9DF3-7E827BB2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4F2D-0774-4B8F-B9DE-EAF8E96A1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685800"/>
            <a:ext cx="853452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Name That Order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4038480"/>
            <a:ext cx="5181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llenge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identify the orders into which insects are classif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1109400">
            <a:off x="7467120" y="5029200"/>
            <a:ext cx="457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20005800">
            <a:off x="533520" y="5562360"/>
            <a:ext cx="4572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472800">
            <a:off x="1447920" y="5562720"/>
            <a:ext cx="5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1531200">
            <a:off x="1219320" y="4571640"/>
            <a:ext cx="500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439800">
            <a:off x="2437920" y="5943240"/>
            <a:ext cx="381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8" name=""/>
          <p:cNvSpPr txBox="1"/>
          <p:nvPr/>
        </p:nvSpPr>
        <p:spPr>
          <a:xfrm rot="20388000">
            <a:off x="7086240" y="4191120"/>
            <a:ext cx="380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9" name=""/>
          <p:cNvSpPr txBox="1"/>
          <p:nvPr/>
        </p:nvSpPr>
        <p:spPr>
          <a:xfrm rot="20503200">
            <a:off x="6324480" y="5866920"/>
            <a:ext cx="381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0" name=""/>
          <p:cNvSpPr txBox="1"/>
          <p:nvPr/>
        </p:nvSpPr>
        <p:spPr>
          <a:xfrm rot="734400">
            <a:off x="8305920" y="457164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1" name=""/>
          <p:cNvSpPr txBox="1"/>
          <p:nvPr/>
        </p:nvSpPr>
        <p:spPr>
          <a:xfrm rot="734400">
            <a:off x="8229600" y="594324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2" name=""/>
          <p:cNvSpPr txBox="1"/>
          <p:nvPr/>
        </p:nvSpPr>
        <p:spPr>
          <a:xfrm rot="20125800">
            <a:off x="533160" y="426708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3" name=""/>
          <p:cNvSpPr/>
          <p:nvPr/>
        </p:nvSpPr>
        <p:spPr>
          <a:xfrm>
            <a:off x="1893960" y="6519960"/>
            <a:ext cx="5333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77120" y="152280"/>
            <a:ext cx="23810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4800600"/>
            <a:ext cx="1828800" cy="1720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tch the each insect with its correct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990720"/>
            <a:ext cx="2590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Orthopter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Odonat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Hemipter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Homopter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.  Lepidopter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. Dipter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. Coleopter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. Hymenopter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 Mantode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. Phasm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990720"/>
            <a:ext cx="47246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Beetles &amp; weev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Flies &amp; mosquit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Stink bugs &amp; other true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Dragonflies &amp; damself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Cicadas, aphids, &amp; leafhop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Butterflies &amp; mo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 Ants, wasps, &amp; b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 Praying mant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 Grasshoppers &amp; cri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. Walking sti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he answers a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990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. Coleopt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990720"/>
            <a:ext cx="47246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Beetles &amp; weev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Flies &amp; mosquit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Stink bugs &amp; other true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Dragonflies &amp; damself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Cicadas, aphids, &amp; leafhop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Butterflies &amp; mo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 Ants, wasps, &amp; b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 Praying mant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 Grasshoppers &amp; cri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. Walking sti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1539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. Dipte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5943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. Phasm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2090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Hemipt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2641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Odon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31910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Homopte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37418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.  Lepidopt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42926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. Hymenopt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4842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 Manto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5392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Orthopte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5-31T19:08:41Z</dcterms:modified>
  <cp:revision>21</cp:revision>
  <dc:subject/>
  <dc:title>Slide 1</dc:title>
</cp:coreProperties>
</file>