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BACC-A766-4EF2-82BD-374112D86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DA9A-DBEF-436C-BD71-E112AB5D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2C89-EB00-48D5-84B1-4A0E7141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556E-E2AB-49C1-B1EF-A9AC4B1FF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531F-766A-4DD5-BBE9-895DF017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756D-A935-4E66-B946-E0C8CD62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2A8D-AE7D-405B-83DF-B847CFDB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FF5A-696B-410A-84DE-0FB739D2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0B3D-A288-4A6A-86F2-240FBB30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4DEF-773E-4F9C-8B00-CFFF2786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E9FC-38A6-4737-8FA7-35FDF8EE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2F92-2F0F-4C6C-8679-E6CC88AF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093B-7B18-4E40-A751-D03D20704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685800"/>
            <a:ext cx="853452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Name That Order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4038480"/>
            <a:ext cx="5181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llenge 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identify the orders into which insects are class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1109400">
            <a:off x="7467120" y="5029200"/>
            <a:ext cx="457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20005800">
            <a:off x="533520" y="5562360"/>
            <a:ext cx="4572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472800">
            <a:off x="1447920" y="5562720"/>
            <a:ext cx="5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1531200">
            <a:off x="1219320" y="4571640"/>
            <a:ext cx="500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439800">
            <a:off x="2437920" y="5943240"/>
            <a:ext cx="381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8" name=""/>
          <p:cNvSpPr txBox="1"/>
          <p:nvPr/>
        </p:nvSpPr>
        <p:spPr>
          <a:xfrm rot="20388000">
            <a:off x="7086240" y="4191120"/>
            <a:ext cx="380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9" name=""/>
          <p:cNvSpPr txBox="1"/>
          <p:nvPr/>
        </p:nvSpPr>
        <p:spPr>
          <a:xfrm rot="20503200">
            <a:off x="6324480" y="5866920"/>
            <a:ext cx="381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0" name=""/>
          <p:cNvSpPr txBox="1"/>
          <p:nvPr/>
        </p:nvSpPr>
        <p:spPr>
          <a:xfrm rot="734400">
            <a:off x="8305920" y="457164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1" name=""/>
          <p:cNvSpPr txBox="1"/>
          <p:nvPr/>
        </p:nvSpPr>
        <p:spPr>
          <a:xfrm rot="734400">
            <a:off x="8229600" y="594324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2" name=""/>
          <p:cNvSpPr txBox="1"/>
          <p:nvPr/>
        </p:nvSpPr>
        <p:spPr>
          <a:xfrm rot="20125800">
            <a:off x="533160" y="426708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3" name=""/>
          <p:cNvSpPr/>
          <p:nvPr/>
        </p:nvSpPr>
        <p:spPr>
          <a:xfrm>
            <a:off x="1893960" y="6519960"/>
            <a:ext cx="5333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77120" y="152280"/>
            <a:ext cx="23810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4800600"/>
            <a:ext cx="1828800" cy="1720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ch the each insect with its correct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1316160"/>
            <a:ext cx="2590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Dipter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Coleopter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Hymenopter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Mantode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. Phasm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990720"/>
            <a:ext cx="47246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Beetles &amp; weev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Flies &amp; mosquit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Ants, wasps, &amp; b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Praying mant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Walking sti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e answers a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914400"/>
            <a:ext cx="4724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Beetles &amp; weev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Flies &amp; mosquit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Ants, wasps, &amp; b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Praying mant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Walking sti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80880" y="1143000"/>
            <a:ext cx="8534520" cy="856080"/>
            <a:chOff x="380880" y="1143000"/>
            <a:chExt cx="8534520" cy="856080"/>
          </a:xfrm>
        </p:grpSpPr>
        <p:sp>
          <p:nvSpPr>
            <p:cNvPr id="62" name=""/>
            <p:cNvSpPr/>
            <p:nvPr/>
          </p:nvSpPr>
          <p:spPr>
            <a:xfrm>
              <a:off x="5600880" y="114300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spcAft>
                  <a:spcPts val="29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o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opte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0880" y="1600200"/>
              <a:ext cx="85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spcAft>
                  <a:spcPts val="2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nt: Beetles and weevils are “cool”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04920" y="2076480"/>
            <a:ext cx="8534160" cy="856080"/>
            <a:chOff x="304920" y="2076480"/>
            <a:chExt cx="8534160" cy="856080"/>
          </a:xfrm>
        </p:grpSpPr>
        <p:sp>
          <p:nvSpPr>
            <p:cNvPr id="65" name=""/>
            <p:cNvSpPr/>
            <p:nvPr/>
          </p:nvSpPr>
          <p:spPr>
            <a:xfrm>
              <a:off x="5524560" y="2076480"/>
              <a:ext cx="25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spcAft>
                  <a:spcPts val="29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i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e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4920" y="2533680"/>
              <a:ext cx="853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spcAft>
                  <a:spcPts val="2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nt: “Dip” yourself in bug spray to avoid flies &amp; mosquito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80880" y="3009960"/>
            <a:ext cx="8534520" cy="856080"/>
            <a:chOff x="380880" y="3009960"/>
            <a:chExt cx="8534520" cy="856080"/>
          </a:xfrm>
        </p:grpSpPr>
        <p:sp>
          <p:nvSpPr>
            <p:cNvPr id="68" name=""/>
            <p:cNvSpPr/>
            <p:nvPr/>
          </p:nvSpPr>
          <p:spPr>
            <a:xfrm>
              <a:off x="5600880" y="300996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spcAft>
                  <a:spcPts val="29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.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y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enopte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0880" y="3467160"/>
              <a:ext cx="85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spcAft>
                  <a:spcPts val="2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nt: Bees &amp; wasps live in “hy-ves”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80880" y="3943440"/>
            <a:ext cx="8534520" cy="856080"/>
            <a:chOff x="380880" y="3943440"/>
            <a:chExt cx="8534520" cy="856080"/>
          </a:xfrm>
        </p:grpSpPr>
        <p:sp>
          <p:nvSpPr>
            <p:cNvPr id="71" name=""/>
            <p:cNvSpPr/>
            <p:nvPr/>
          </p:nvSpPr>
          <p:spPr>
            <a:xfrm>
              <a:off x="5600880" y="394344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spcAft>
                  <a:spcPts val="29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.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Ma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de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80880" y="4400640"/>
              <a:ext cx="85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spcAft>
                  <a:spcPts val="2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nt: Remember the word “man” for mantid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80880" y="4876920"/>
            <a:ext cx="8534520" cy="856080"/>
            <a:chOff x="380880" y="4876920"/>
            <a:chExt cx="8534520" cy="856080"/>
          </a:xfrm>
        </p:grpSpPr>
        <p:sp>
          <p:nvSpPr>
            <p:cNvPr id="74" name=""/>
            <p:cNvSpPr/>
            <p:nvPr/>
          </p:nvSpPr>
          <p:spPr>
            <a:xfrm>
              <a:off x="5600880" y="487692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spcAft>
                  <a:spcPts val="29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. Phas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mi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0880" y="5334120"/>
              <a:ext cx="85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spcAft>
                  <a:spcPts val="2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nt: “Mida” be hard to see a walking stick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5-31T19:06:03Z</dcterms:modified>
  <cp:revision>21</cp:revision>
  <dc:subject/>
  <dc:title>Slide 1</dc:title>
</cp:coreProperties>
</file>