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C44-9415-463F-8123-A0C6C60F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7371-245B-41C1-B862-9D1A2906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82D-4AE1-41BF-BA56-2AE544BC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637-990A-4AF5-8DB4-5E814C21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6D7D-D42A-4B94-8D0F-D86C255C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432-D137-448A-A638-1BD4E55E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1A7-26B5-4412-A577-C14706C7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EC72-0C62-4E87-83EE-477017DC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D3A7-B275-49DA-A385-12D06F61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211-08B2-4415-A41C-7D7C6E5C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D4FA-7936-4036-97BB-8CDFCDF6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63E0-339C-4012-A41A-AFD51C66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7A6E-BECD-4D76-980A-24F1AB3C2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685800"/>
            <a:ext cx="85345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Name That Order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4038480"/>
            <a:ext cx="5181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identify the orders into which insects ar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109400">
            <a:off x="7467120" y="502920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20005800">
            <a:off x="533520" y="5562360"/>
            <a:ext cx="457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472800">
            <a:off x="1447920" y="5562720"/>
            <a:ext cx="5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1531200">
            <a:off x="1219320" y="4571640"/>
            <a:ext cx="5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439800">
            <a:off x="2437920" y="594324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20388000">
            <a:off x="7086240" y="4191120"/>
            <a:ext cx="380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503200">
            <a:off x="6324480" y="586692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 txBox="1"/>
          <p:nvPr/>
        </p:nvSpPr>
        <p:spPr>
          <a:xfrm rot="734400">
            <a:off x="8305920" y="457164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1" name=""/>
          <p:cNvSpPr txBox="1"/>
          <p:nvPr/>
        </p:nvSpPr>
        <p:spPr>
          <a:xfrm rot="734400">
            <a:off x="8229600" y="594324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2" name=""/>
          <p:cNvSpPr txBox="1"/>
          <p:nvPr/>
        </p:nvSpPr>
        <p:spPr>
          <a:xfrm rot="20125800">
            <a:off x="533160" y="426708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3" name=""/>
          <p:cNvSpPr/>
          <p:nvPr/>
        </p:nvSpPr>
        <p:spPr>
          <a:xfrm>
            <a:off x="1893960" y="651996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4800600"/>
            <a:ext cx="1828800" cy="172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ch the each insect with its correct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1316160"/>
            <a:ext cx="259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Di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Coleo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Hymeno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Mantode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 Phasm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990720"/>
            <a:ext cx="47246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Beetles &amp; weev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Flies &amp; mosqui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Ants, wasps, &amp; b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Praying mant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Walking st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 answers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914400"/>
            <a:ext cx="4724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Beetles &amp; weev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Flies &amp; mosqui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Ants, wasps, &amp; b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Praying mant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Walking st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80880" y="1143000"/>
            <a:ext cx="8534520" cy="856080"/>
            <a:chOff x="380880" y="1143000"/>
            <a:chExt cx="8534520" cy="856080"/>
          </a:xfrm>
        </p:grpSpPr>
        <p:sp>
          <p:nvSpPr>
            <p:cNvPr id="62" name=""/>
            <p:cNvSpPr/>
            <p:nvPr/>
          </p:nvSpPr>
          <p:spPr>
            <a:xfrm>
              <a:off x="5600880" y="11430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opt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880" y="1600200"/>
              <a:ext cx="85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spcAft>
                  <a:spcPts val="2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Beetles and weevils are “cool”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04920" y="2076480"/>
            <a:ext cx="8534160" cy="856080"/>
            <a:chOff x="304920" y="2076480"/>
            <a:chExt cx="8534160" cy="856080"/>
          </a:xfrm>
        </p:grpSpPr>
        <p:sp>
          <p:nvSpPr>
            <p:cNvPr id="65" name=""/>
            <p:cNvSpPr/>
            <p:nvPr/>
          </p:nvSpPr>
          <p:spPr>
            <a:xfrm>
              <a:off x="5524560" y="2076480"/>
              <a:ext cx="25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i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920" y="2533680"/>
              <a:ext cx="853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spcAft>
                  <a:spcPts val="2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“Dip” yourself in bug spray to avoid flies &amp; mosquito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80880" y="3009960"/>
            <a:ext cx="8534520" cy="856080"/>
            <a:chOff x="380880" y="3009960"/>
            <a:chExt cx="8534520" cy="856080"/>
          </a:xfrm>
        </p:grpSpPr>
        <p:sp>
          <p:nvSpPr>
            <p:cNvPr id="68" name=""/>
            <p:cNvSpPr/>
            <p:nvPr/>
          </p:nvSpPr>
          <p:spPr>
            <a:xfrm>
              <a:off x="5600880" y="300996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nopt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0880" y="3467160"/>
              <a:ext cx="85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spcAft>
                  <a:spcPts val="2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Bees &amp; wasps live in “hy-ves”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80880" y="3943440"/>
            <a:ext cx="8534520" cy="856080"/>
            <a:chOff x="380880" y="3943440"/>
            <a:chExt cx="8534520" cy="856080"/>
          </a:xfrm>
        </p:grpSpPr>
        <p:sp>
          <p:nvSpPr>
            <p:cNvPr id="71" name=""/>
            <p:cNvSpPr/>
            <p:nvPr/>
          </p:nvSpPr>
          <p:spPr>
            <a:xfrm>
              <a:off x="5600880" y="394344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.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a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d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0880" y="4400640"/>
              <a:ext cx="85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spcAft>
                  <a:spcPts val="2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Remember the word “man” for mantid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80880" y="4876920"/>
            <a:ext cx="8534520" cy="856080"/>
            <a:chOff x="380880" y="4876920"/>
            <a:chExt cx="8534520" cy="856080"/>
          </a:xfrm>
        </p:grpSpPr>
        <p:sp>
          <p:nvSpPr>
            <p:cNvPr id="74" name=""/>
            <p:cNvSpPr/>
            <p:nvPr/>
          </p:nvSpPr>
          <p:spPr>
            <a:xfrm>
              <a:off x="5600880" y="48769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. Phas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0880" y="5334120"/>
              <a:ext cx="85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spcAft>
                  <a:spcPts val="2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“Mida” be hard to see a walking stick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9:06:03Z</dcterms:modified>
  <cp:revision>21</cp:revision>
  <dc:subject/>
  <dc:title>Slide 1</dc:title>
</cp:coreProperties>
</file>