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1CB-9674-443E-ACD5-411746BA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8F0-88D4-4D9C-B216-F5041BCC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C29A-C5E7-4681-BD2A-BA331F76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1B2-EDE0-4875-8286-AB95E449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B78-9C21-4A6C-A8A6-AA6A59FB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2ED-7AEF-415B-9083-A3EBA606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5767-9B26-4026-A958-425BC09F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5FA-7DEE-4D36-917C-DD011ECE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F51-E0FC-4586-B5D5-DAF06774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3279-18F4-41D0-B495-6A3AFF1F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65D-5984-4786-AAC7-CBB7BB36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A22-3FCA-4C92-8602-CD054CC4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50A4-EAE4-4A0F-AA74-89C97CAFF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685800"/>
            <a:ext cx="85345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Name That Order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4038480"/>
            <a:ext cx="5181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identify the orders into which insects ar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109400">
            <a:off x="7467120" y="502920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20005800">
            <a:off x="533520" y="5562360"/>
            <a:ext cx="457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472800">
            <a:off x="1447920" y="5562720"/>
            <a:ext cx="5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531200">
            <a:off x="1219320" y="457164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439800">
            <a:off x="2437920" y="594324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20388000">
            <a:off x="7086240" y="4191120"/>
            <a:ext cx="380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503200">
            <a:off x="6324480" y="586692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 txBox="1"/>
          <p:nvPr/>
        </p:nvSpPr>
        <p:spPr>
          <a:xfrm rot="734400">
            <a:off x="8305920" y="457164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1" name=""/>
          <p:cNvSpPr txBox="1"/>
          <p:nvPr/>
        </p:nvSpPr>
        <p:spPr>
          <a:xfrm rot="734400">
            <a:off x="8229600" y="594324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2" name=""/>
          <p:cNvSpPr txBox="1"/>
          <p:nvPr/>
        </p:nvSpPr>
        <p:spPr>
          <a:xfrm rot="20125800">
            <a:off x="533160" y="426708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3" name=""/>
          <p:cNvSpPr/>
          <p:nvPr/>
        </p:nvSpPr>
        <p:spPr>
          <a:xfrm>
            <a:off x="1893960" y="651996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 the each insect with its correct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9907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Ortho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Odonat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Hemi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Homo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  Lepidop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990720"/>
            <a:ext cx="4724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tink bugs &amp; other true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Dragonflies &amp; damsel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Cicadas, aphids, &amp; leafho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Butterflies &amp; mo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Grasshoppers &amp; cri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990720"/>
            <a:ext cx="47242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tink bugs &amp; other true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Dragonflies &amp; damsel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Cicadas, aphids, &amp; leafho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Butterflies &amp; mo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Grasshoppers &amp; cri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0880" y="990720"/>
            <a:ext cx="8534520" cy="856080"/>
            <a:chOff x="380880" y="990720"/>
            <a:chExt cx="8534520" cy="856080"/>
          </a:xfrm>
        </p:grpSpPr>
        <p:sp>
          <p:nvSpPr>
            <p:cNvPr id="61" name=""/>
            <p:cNvSpPr/>
            <p:nvPr/>
          </p:nvSpPr>
          <p:spPr>
            <a:xfrm>
              <a:off x="5600880" y="9907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em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t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880" y="144792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“He-might” be a truly stinky bug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80880" y="2133720"/>
            <a:ext cx="8534520" cy="856080"/>
            <a:chOff x="380880" y="2133720"/>
            <a:chExt cx="8534520" cy="856080"/>
          </a:xfrm>
        </p:grpSpPr>
        <p:sp>
          <p:nvSpPr>
            <p:cNvPr id="64" name=""/>
            <p:cNvSpPr/>
            <p:nvPr/>
          </p:nvSpPr>
          <p:spPr>
            <a:xfrm>
              <a:off x="5600880" y="21337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Odo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880" y="259092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You’re “notta” gonna catch a dragonfly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880" y="3276720"/>
            <a:ext cx="8534520" cy="856080"/>
            <a:chOff x="380880" y="3276720"/>
            <a:chExt cx="8534520" cy="856080"/>
          </a:xfrm>
        </p:grpSpPr>
        <p:sp>
          <p:nvSpPr>
            <p:cNvPr id="67" name=""/>
            <p:cNvSpPr/>
            <p:nvPr/>
          </p:nvSpPr>
          <p:spPr>
            <a:xfrm>
              <a:off x="5600880" y="32767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pt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0880" y="373392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Cicadas sing about their “home” on the rang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80880" y="4343400"/>
            <a:ext cx="8534520" cy="779760"/>
            <a:chOff x="380880" y="4343400"/>
            <a:chExt cx="8534520" cy="779760"/>
          </a:xfrm>
        </p:grpSpPr>
        <p:sp>
          <p:nvSpPr>
            <p:cNvPr id="70" name=""/>
            <p:cNvSpPr/>
            <p:nvPr/>
          </p:nvSpPr>
          <p:spPr>
            <a:xfrm>
              <a:off x="5600880" y="43434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.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epi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pt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0880" y="472428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We’d love to catch a leopard-spotted butterfl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80880" y="5334120"/>
            <a:ext cx="8534520" cy="932040"/>
            <a:chOff x="380880" y="5334120"/>
            <a:chExt cx="8534520" cy="932040"/>
          </a:xfrm>
        </p:grpSpPr>
        <p:sp>
          <p:nvSpPr>
            <p:cNvPr id="73" name=""/>
            <p:cNvSpPr/>
            <p:nvPr/>
          </p:nvSpPr>
          <p:spPr>
            <a:xfrm>
              <a:off x="5600880" y="5334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Ort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0880" y="586728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Grasshoppers love to hop! Remember the word “hop” in the nam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9:05:44Z</dcterms:modified>
  <cp:revision>21</cp:revision>
  <dc:subject/>
  <dc:title>Slide 1</dc:title>
</cp:coreProperties>
</file>