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436-6591-4B1C-B56F-FA7FC5C7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225-DDD6-4EFC-8A97-7A86DBD5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366-488E-4E65-AD0F-4A75E599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906-D7CE-4B7D-BF2E-BC421A7B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0A2-6943-4207-A669-469CFB6B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07A-C8FB-4455-B372-FEC7C5E8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1CB-C5C5-40E2-BE15-99F5B55B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540-45AC-4869-B4A1-7022466C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379-1741-486A-9682-168420E9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F2E-C3D9-4E78-A94D-54A0224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7EE-DE8D-457D-8ADA-965EABEE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F5C-5A38-4E3E-9A4E-A6903B1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904-2F73-4C2E-9177-9C2C00BA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685800" y="548604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4343400" y="563868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4479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361960" y="563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6705360" y="4343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5867280" y="56383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two w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carry many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larval stage is called a wigg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3352680"/>
            <a:ext cx="7239240" cy="3218040"/>
            <a:chOff x="1066680" y="3352680"/>
            <a:chExt cx="7239240" cy="3218040"/>
          </a:xfrm>
        </p:grpSpPr>
        <p:sp>
          <p:nvSpPr>
            <p:cNvPr id="62" name=""/>
            <p:cNvSpPr/>
            <p:nvPr/>
          </p:nvSpPr>
          <p:spPr>
            <a:xfrm>
              <a:off x="1066680" y="55627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squ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6324480"/>
              <a:ext cx="487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michigan.gov/images/mosquito_65147_7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rcRect l="0" t="15776" r="0" b="9285"/>
            <a:stretch/>
          </p:blipFill>
          <p:spPr>
            <a:xfrm>
              <a:off x="3429000" y="3352680"/>
              <a:ext cx="4876920" cy="289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different species in my family has a different s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Hom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find my shed exoskeletons instead of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not a locu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66680" y="3247920"/>
            <a:ext cx="7201080" cy="3459600"/>
            <a:chOff x="1066680" y="3247920"/>
            <a:chExt cx="7201080" cy="3459600"/>
          </a:xfrm>
        </p:grpSpPr>
        <p:sp>
          <p:nvSpPr>
            <p:cNvPr id="72" name=""/>
            <p:cNvSpPr/>
            <p:nvPr/>
          </p:nvSpPr>
          <p:spPr>
            <a:xfrm>
              <a:off x="1066680" y="51055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ic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646128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marietta.edu/~biol/biomes/images/deciduous/cicada3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1603" t="8745" r="0" b="0"/>
            <a:stretch/>
          </p:blipFill>
          <p:spPr>
            <a:xfrm>
              <a:off x="3581280" y="3247920"/>
              <a:ext cx="4686480" cy="318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arthro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eight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“orb-weaver” and spin very large we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ight be found in your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981080" y="3581280"/>
            <a:ext cx="4629240" cy="2895480"/>
            <a:chOff x="1981080" y="3581280"/>
            <a:chExt cx="4629240" cy="2895480"/>
          </a:xfrm>
        </p:grpSpPr>
        <p:sp>
          <p:nvSpPr>
            <p:cNvPr id="82" name=""/>
            <p:cNvSpPr/>
            <p:nvPr/>
          </p:nvSpPr>
          <p:spPr>
            <a:xfrm>
              <a:off x="1981080" y="51814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den Spi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188604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9:36Z</dcterms:modified>
  <cp:revision>29</cp:revision>
  <dc:subject/>
  <dc:title>Slide 1</dc:title>
</cp:coreProperties>
</file>