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C06-AEB3-4CEA-B7A6-D646218D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8AC-94F1-4F6D-8B5D-54C698E6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342-08DD-4F2E-A2EE-D9836C69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3E0-5BE6-4AD6-907F-954DBE27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110-65D5-455E-98D2-4B971EA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F7B-A25F-4A08-9C01-32EEBC7C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414-A7F9-4E95-AC92-42C4923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E29-E73F-40C8-9C7A-3019AE29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E60-A96A-421C-B35A-5AE21CA6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8E1-40AD-4A1D-A214-8CD6DDA3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438-1626-49C2-BBF5-BCCEE4AD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197-DE28-483D-A301-B05E4AF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7C5-E269-4B04-8BAB-8C50FE55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685800"/>
            <a:ext cx="85345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hat is it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4495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 #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109400">
            <a:off x="7467120" y="502920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005800">
            <a:off x="685800" y="548604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472800">
            <a:off x="4343400" y="563868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531200">
            <a:off x="1447920" y="4571640"/>
            <a:ext cx="500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439800">
            <a:off x="2361960" y="563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8" name=""/>
          <p:cNvSpPr txBox="1"/>
          <p:nvPr/>
        </p:nvSpPr>
        <p:spPr>
          <a:xfrm rot="20388000">
            <a:off x="6705360" y="4343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49" name=""/>
          <p:cNvSpPr txBox="1"/>
          <p:nvPr/>
        </p:nvSpPr>
        <p:spPr>
          <a:xfrm rot="20503200">
            <a:off x="5867280" y="5638320"/>
            <a:ext cx="381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0" name=""/>
          <p:cNvSpPr txBox="1"/>
          <p:nvPr/>
        </p:nvSpPr>
        <p:spPr>
          <a:xfrm rot="734400">
            <a:off x="8305920" y="457164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1" name=""/>
          <p:cNvSpPr txBox="1"/>
          <p:nvPr/>
        </p:nvSpPr>
        <p:spPr>
          <a:xfrm rot="734400">
            <a:off x="8229600" y="594324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2" name=""/>
          <p:cNvSpPr txBox="1"/>
          <p:nvPr/>
        </p:nvSpPr>
        <p:spPr>
          <a:xfrm rot="20125800">
            <a:off x="533160" y="426708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893960" y="6519960"/>
            <a:ext cx="5333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381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two w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carry many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larval stage is called a wigg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3352680"/>
            <a:ext cx="7239240" cy="3218040"/>
            <a:chOff x="1066680" y="3352680"/>
            <a:chExt cx="7239240" cy="3218040"/>
          </a:xfrm>
        </p:grpSpPr>
        <p:sp>
          <p:nvSpPr>
            <p:cNvPr id="62" name=""/>
            <p:cNvSpPr/>
            <p:nvPr/>
          </p:nvSpPr>
          <p:spPr>
            <a:xfrm>
              <a:off x="1066680" y="55627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squ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6324480"/>
              <a:ext cx="487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michigan.gov/images/mosquito_65147_7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rcRect l="0" t="15776" r="0" b="9285"/>
            <a:stretch/>
          </p:blipFill>
          <p:spPr>
            <a:xfrm>
              <a:off x="3429000" y="3352680"/>
              <a:ext cx="4876920" cy="289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different species in my family has a different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long to the order Hom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people find my shed exoskeletons instead of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not a locu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66680" y="3247920"/>
            <a:ext cx="7201080" cy="3459600"/>
            <a:chOff x="1066680" y="3247920"/>
            <a:chExt cx="7201080" cy="3459600"/>
          </a:xfrm>
        </p:grpSpPr>
        <p:sp>
          <p:nvSpPr>
            <p:cNvPr id="72" name=""/>
            <p:cNvSpPr/>
            <p:nvPr/>
          </p:nvSpPr>
          <p:spPr>
            <a:xfrm>
              <a:off x="1066680" y="510552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ic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6461280"/>
              <a:ext cx="4191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tp://www.marietta.edu/~biol/biomes/images/deciduous/cicada3.jp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rcRect l="1603" t="8745" r="0" b="0"/>
            <a:stretch/>
          </p:blipFill>
          <p:spPr>
            <a:xfrm>
              <a:off x="3581280" y="3247920"/>
              <a:ext cx="4686480" cy="318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9160" y="227880"/>
            <a:ext cx="89154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itter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990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arthro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562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have eight le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133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an “orb-weaver” and spin very large we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2705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might be found in your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3276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81080" y="3581280"/>
            <a:ext cx="4629240" cy="2895480"/>
            <a:chOff x="1981080" y="3581280"/>
            <a:chExt cx="4629240" cy="2895480"/>
          </a:xfrm>
        </p:grpSpPr>
        <p:sp>
          <p:nvSpPr>
            <p:cNvPr id="82" name=""/>
            <p:cNvSpPr/>
            <p:nvPr/>
          </p:nvSpPr>
          <p:spPr>
            <a:xfrm>
              <a:off x="1981080" y="5181480"/>
              <a:ext cx="266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rden Spi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4724280" y="3581280"/>
              <a:ext cx="188604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Tracy Trimpe</cp:lastModifiedBy>
  <dcterms:modified xsi:type="dcterms:W3CDTF">2008-05-31T19:19:36Z</dcterms:modified>
  <cp:revision>29</cp:revision>
  <dc:subject/>
  <dc:title>Slide 1</dc:title>
</cp:coreProperties>
</file>