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91C-2F7C-401C-A3BA-E9876297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3C7-9B98-4731-ADA7-8B7F1BAA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7E9-1C42-4258-920D-209B6A81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A7A-962B-47C8-8770-5CFD18AF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B21-F009-49E7-83F1-0BF310FC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1B1-CC18-4D30-9BEA-CD0B1072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9DD-D62D-479F-A93D-3EB1D2EA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B19-ACCB-412D-894B-A42A795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A4D-1191-4A5B-B57F-ADECEF65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42F-56AA-4D73-96EA-6B002CAF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20A-7E10-49BE-93E6-20547A21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CCE-0B2E-489D-B8EC-F728DE7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583A-638E-4FA2-9CF4-B0100EB6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four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Odon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ay my wings flat when I land on some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676520" y="3352680"/>
            <a:ext cx="6400800" cy="3430800"/>
            <a:chOff x="1676520" y="3352680"/>
            <a:chExt cx="6400800" cy="3430800"/>
          </a:xfrm>
        </p:grpSpPr>
        <p:grpSp>
          <p:nvGrpSpPr>
            <p:cNvPr id="62" name=""/>
            <p:cNvGrpSpPr/>
            <p:nvPr/>
          </p:nvGrpSpPr>
          <p:grpSpPr>
            <a:xfrm>
              <a:off x="1676520" y="3352680"/>
              <a:ext cx="5562000" cy="3222720"/>
              <a:chOff x="1676520" y="3352680"/>
              <a:chExt cx="5562000" cy="3222720"/>
            </a:xfrm>
          </p:grpSpPr>
          <p:sp>
            <p:nvSpPr>
              <p:cNvPr id="63" name=""/>
              <p:cNvSpPr/>
              <p:nvPr/>
            </p:nvSpPr>
            <p:spPr>
              <a:xfrm>
                <a:off x="1676520" y="548640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ragonfl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" descr=""/>
              <p:cNvPicPr/>
              <p:nvPr/>
            </p:nvPicPr>
            <p:blipFill>
              <a:blip r:embed="rId1"/>
              <a:srcRect l="0" t="7446" r="0" b="5116"/>
              <a:stretch/>
            </p:blipFill>
            <p:spPr>
              <a:xfrm>
                <a:off x="3809880" y="3352680"/>
                <a:ext cx="3428640" cy="322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"/>
            <p:cNvSpPr/>
            <p:nvPr/>
          </p:nvSpPr>
          <p:spPr>
            <a:xfrm>
              <a:off x="3200400" y="6507000"/>
              <a:ext cx="487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p://medicineworld.org/images/blogs/11-2006/dragonfly-4311.jp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two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larval stage is called a magg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ight be found in your “hou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52480" y="4114800"/>
            <a:ext cx="6096240" cy="2455920"/>
            <a:chOff x="1752480" y="4114800"/>
            <a:chExt cx="6096240" cy="2455920"/>
          </a:xfrm>
        </p:grpSpPr>
        <p:sp>
          <p:nvSpPr>
            <p:cNvPr id="73" name=""/>
            <p:cNvSpPr/>
            <p:nvPr/>
          </p:nvSpPr>
          <p:spPr>
            <a:xfrm>
              <a:off x="1752480" y="5562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use 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809880" y="4114800"/>
              <a:ext cx="403884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09880" y="6324480"/>
              <a:ext cx="4038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sciencenmore.com/housefly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important 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s held in  high regard in Egy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Cole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like to roll dung into b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00200" y="3581280"/>
            <a:ext cx="5853240" cy="3033720"/>
            <a:chOff x="1600200" y="3581280"/>
            <a:chExt cx="5853240" cy="3033720"/>
          </a:xfrm>
        </p:grpSpPr>
        <p:sp>
          <p:nvSpPr>
            <p:cNvPr id="83" name=""/>
            <p:cNvSpPr/>
            <p:nvPr/>
          </p:nvSpPr>
          <p:spPr>
            <a:xfrm>
              <a:off x="1600200" y="556272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ng Bee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rcRect l="0" t="14958" r="0" b="0"/>
            <a:stretch/>
          </p:blipFill>
          <p:spPr>
            <a:xfrm>
              <a:off x="3886200" y="3581280"/>
              <a:ext cx="3567240" cy="303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8:52Z</dcterms:modified>
  <cp:revision>25</cp:revision>
  <dc:subject/>
  <dc:title>Slide 1</dc:title>
</cp:coreProperties>
</file>