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3C58-EFAA-4E67-87FE-5A97534B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BF83-1D1F-46DE-AFED-7695DCCC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6CB3-8B0D-4210-A261-C7AB8934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9F23-CF97-41F5-9E0A-22B738D4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0DBC-547A-4845-9D9F-B4C8F651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FC5-4005-44C5-AFCB-1A2E5CD6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529-DFB4-4A4A-963D-B6B7B534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2BC-EF18-402E-8D99-4C4EF293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A32D-8B2E-429C-A15E-A9DE9E6F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F1F0-FD53-4ED5-BFDF-DC2D5481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1CD8-463D-4DC4-873A-76F6F0B1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8705-F210-4BE2-91F3-742676A7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9C44-5DC5-4484-A872-29ECBE31D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280" y="685800"/>
            <a:ext cx="85345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What is it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4495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109400">
            <a:off x="7467120" y="502920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20005800">
            <a:off x="685800" y="548604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472800">
            <a:off x="4343400" y="5638680"/>
            <a:ext cx="50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1531200">
            <a:off x="1447920" y="4571640"/>
            <a:ext cx="50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439800">
            <a:off x="2361960" y="5630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20388000">
            <a:off x="6705360" y="4343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503200">
            <a:off x="5867280" y="563832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 txBox="1"/>
          <p:nvPr/>
        </p:nvSpPr>
        <p:spPr>
          <a:xfrm rot="734400">
            <a:off x="8305920" y="457164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1" name=""/>
          <p:cNvSpPr txBox="1"/>
          <p:nvPr/>
        </p:nvSpPr>
        <p:spPr>
          <a:xfrm rot="734400">
            <a:off x="8229600" y="594324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2" name=""/>
          <p:cNvSpPr txBox="1"/>
          <p:nvPr/>
        </p:nvSpPr>
        <p:spPr>
          <a:xfrm rot="20125800">
            <a:off x="533160" y="426708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3" name=""/>
          <p:cNvSpPr/>
          <p:nvPr/>
        </p:nvSpPr>
        <p:spPr>
          <a:xfrm>
            <a:off x="1893960" y="651996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ter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990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an arthro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1562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have four w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133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belong to the order Odon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705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lay my wings flat when I land on some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27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676520" y="3352680"/>
            <a:ext cx="6400800" cy="3430800"/>
            <a:chOff x="1676520" y="3352680"/>
            <a:chExt cx="6400800" cy="3430800"/>
          </a:xfrm>
        </p:grpSpPr>
        <p:grpSp>
          <p:nvGrpSpPr>
            <p:cNvPr id="62" name=""/>
            <p:cNvGrpSpPr/>
            <p:nvPr/>
          </p:nvGrpSpPr>
          <p:grpSpPr>
            <a:xfrm>
              <a:off x="1676520" y="3352680"/>
              <a:ext cx="5562000" cy="3222720"/>
              <a:chOff x="1676520" y="3352680"/>
              <a:chExt cx="5562000" cy="3222720"/>
            </a:xfrm>
          </p:grpSpPr>
          <p:sp>
            <p:nvSpPr>
              <p:cNvPr id="63" name=""/>
              <p:cNvSpPr/>
              <p:nvPr/>
            </p:nvSpPr>
            <p:spPr>
              <a:xfrm>
                <a:off x="1676520" y="5486400"/>
                <a:ext cx="266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ragonfl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" name="" descr=""/>
              <p:cNvPicPr/>
              <p:nvPr/>
            </p:nvPicPr>
            <p:blipFill>
              <a:blip r:embed="rId1"/>
              <a:srcRect l="0" t="7446" r="0" b="5116"/>
              <a:stretch/>
            </p:blipFill>
            <p:spPr>
              <a:xfrm>
                <a:off x="3809880" y="3352680"/>
                <a:ext cx="3428640" cy="322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"/>
            <p:cNvSpPr/>
            <p:nvPr/>
          </p:nvSpPr>
          <p:spPr>
            <a:xfrm>
              <a:off x="3200400" y="6507000"/>
              <a:ext cx="487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ttp://medicineworld.org/images/blogs/11-2006/dragonfly-4311.jp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ter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990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have two w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1562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belong to the order Dip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2133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larval stage is called a magg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2705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might be found in your “hous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327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752480" y="4114800"/>
            <a:ext cx="6096240" cy="2455920"/>
            <a:chOff x="1752480" y="4114800"/>
            <a:chExt cx="6096240" cy="2455920"/>
          </a:xfrm>
        </p:grpSpPr>
        <p:sp>
          <p:nvSpPr>
            <p:cNvPr id="73" name=""/>
            <p:cNvSpPr/>
            <p:nvPr/>
          </p:nvSpPr>
          <p:spPr>
            <a:xfrm>
              <a:off x="1752480" y="556272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ouse f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3809880" y="4114800"/>
              <a:ext cx="4038840" cy="20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809880" y="6324480"/>
              <a:ext cx="4038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www.sciencenmore.com/housefly.jp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ter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990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important to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562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as held in  high regard in Egy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2133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belong to the order Coleop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2705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like to roll dung into 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327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600200" y="3581280"/>
            <a:ext cx="5853240" cy="3033720"/>
            <a:chOff x="1600200" y="3581280"/>
            <a:chExt cx="5853240" cy="3033720"/>
          </a:xfrm>
        </p:grpSpPr>
        <p:sp>
          <p:nvSpPr>
            <p:cNvPr id="83" name=""/>
            <p:cNvSpPr/>
            <p:nvPr/>
          </p:nvSpPr>
          <p:spPr>
            <a:xfrm>
              <a:off x="1600200" y="55627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ng Bee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rcRect l="0" t="14958" r="0" b="0"/>
            <a:stretch/>
          </p:blipFill>
          <p:spPr>
            <a:xfrm>
              <a:off x="3886200" y="3581280"/>
              <a:ext cx="3567240" cy="303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9:18:52Z</dcterms:modified>
  <cp:revision>25</cp:revision>
  <dc:subject/>
  <dc:title>Slide 1</dc:title>
</cp:coreProperties>
</file>