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282-0E17-4BFB-A5D1-CE2801D3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E2D-B8B7-4ECA-9EBC-F751ADAE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4C8-E42B-4E9D-81C8-5BB60C03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C9F-B044-45C9-BF2F-4893DB89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843-946F-44D3-B820-D6B61C65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9E1C-3174-4883-AB17-3292BC2E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45C-0876-4B81-8962-8659F133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B73-826D-4225-B0CA-B20CCA5E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BFE-390E-48EB-9019-7C12FF6B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9A4-D0F0-457F-B4B8-078A7C12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9A60-3864-4AF1-95A7-26AACEAE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EC2-ECA2-4C42-9719-049767CB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B4E1-3637-435F-9810-68AA17033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685800"/>
            <a:ext cx="85345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What is i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495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109400">
            <a:off x="7467120" y="502920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20005800">
            <a:off x="685800" y="548604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472800">
            <a:off x="4343400" y="563868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531200">
            <a:off x="1447920" y="457164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439800">
            <a:off x="2361960" y="563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388000">
            <a:off x="6705360" y="4343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503200">
            <a:off x="5867280" y="563832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734400">
            <a:off x="8305920" y="457164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734400">
            <a:off x="8229600" y="594324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20125800">
            <a:off x="533160" y="42670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have six le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527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ble to move my head around without moving my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430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lay hundreds of eggs in an oothe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9671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 predator and other insects are my pr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505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066680" y="3565440"/>
            <a:ext cx="6951600" cy="3142080"/>
            <a:chOff x="1066680" y="3565440"/>
            <a:chExt cx="6951600" cy="3142080"/>
          </a:xfrm>
        </p:grpSpPr>
        <p:sp>
          <p:nvSpPr>
            <p:cNvPr id="62" name=""/>
            <p:cNvSpPr/>
            <p:nvPr/>
          </p:nvSpPr>
          <p:spPr>
            <a:xfrm>
              <a:off x="1066680" y="556272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aying Mant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4120" y="6461280"/>
              <a:ext cx="4664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uoguelph.ca/arboretum/PhotoGall/Large/Recent/PrayingMantis06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rcRect l="0" t="7188" r="0" b="5096"/>
            <a:stretch/>
          </p:blipFill>
          <p:spPr>
            <a:xfrm>
              <a:off x="3733920" y="3565440"/>
              <a:ext cx="4038480" cy="289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have six le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562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belong to the order Di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an adult I feed on nectar or may not eat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705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often mistaken for a large mosqu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371600" y="3352680"/>
            <a:ext cx="5638680" cy="3354840"/>
            <a:chOff x="1371600" y="3352680"/>
            <a:chExt cx="5638680" cy="3354840"/>
          </a:xfrm>
        </p:grpSpPr>
        <p:sp>
          <p:nvSpPr>
            <p:cNvPr id="72" name=""/>
            <p:cNvSpPr/>
            <p:nvPr/>
          </p:nvSpPr>
          <p:spPr>
            <a:xfrm>
              <a:off x="1371600" y="51055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rane f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81280" y="6461280"/>
              <a:ext cx="342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files.myopera.com/sprogger/blog/PapaLonglegs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rcRect l="0" t="0" r="4046" b="4242"/>
            <a:stretch/>
          </p:blipFill>
          <p:spPr>
            <a:xfrm>
              <a:off x="3844800" y="3352680"/>
              <a:ext cx="2901960" cy="312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n arthro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562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classified as a crustac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an be found under logs and leaf li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2705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people call me a “roly pol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295280" y="3505320"/>
            <a:ext cx="6597360" cy="3065400"/>
            <a:chOff x="1295280" y="3505320"/>
            <a:chExt cx="6597360" cy="3065400"/>
          </a:xfrm>
        </p:grpSpPr>
        <p:sp>
          <p:nvSpPr>
            <p:cNvPr id="82" name=""/>
            <p:cNvSpPr/>
            <p:nvPr/>
          </p:nvSpPr>
          <p:spPr>
            <a:xfrm>
              <a:off x="1295280" y="51814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ill Bu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rcRect l="18003" t="17999" r="14998" b="13999"/>
            <a:stretch/>
          </p:blipFill>
          <p:spPr>
            <a:xfrm>
              <a:off x="3657600" y="3505320"/>
              <a:ext cx="3657600" cy="27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200760" y="6324480"/>
              <a:ext cx="469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sas.org/tcs/weeklyIssues_2006/2006-05-05/mimsci/images/fig_01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18:26Z</dcterms:modified>
  <cp:revision>34</cp:revision>
  <dc:subject/>
  <dc:title>Slide 1</dc:title>
</cp:coreProperties>
</file>