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7B4-812A-4B36-B065-CEBFD228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D33-773F-4603-A692-BB6E23CB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A32-5BDD-4A0F-9001-BDC57ABBF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C21-4D83-442E-89D0-06A9AE8F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704-459C-4980-8242-91FD61A4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A50-294F-4C19-AA49-704C3E17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101-2A55-498A-BDDB-BCE25052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45D-9AB5-4572-B412-2951BE5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62E-ED9C-46F1-8ABC-C22BE43D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ED3-035E-4701-8A86-CE5B94A7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D8B6-D363-4B1A-A049-A119809C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CF7-8FC6-42AB-B8AB-8F9D7AF4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1C76-C8F7-4CA5-B2FA-3A99261F8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685800" y="548604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4343400" y="563868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4479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361960" y="563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6705360" y="4343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5867280" y="56383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six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527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ble to move my head around without moving my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430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ay hundreds of eggs in an oothe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967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 predator and other insects are my p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505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3565440"/>
            <a:ext cx="6951600" cy="3142080"/>
            <a:chOff x="1066680" y="3565440"/>
            <a:chExt cx="6951600" cy="3142080"/>
          </a:xfrm>
        </p:grpSpPr>
        <p:sp>
          <p:nvSpPr>
            <p:cNvPr id="62" name=""/>
            <p:cNvSpPr/>
            <p:nvPr/>
          </p:nvSpPr>
          <p:spPr>
            <a:xfrm>
              <a:off x="1066680" y="55627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aying Mant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4120" y="6461280"/>
              <a:ext cx="4664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uoguelph.ca/arboretum/PhotoGall/Large/Recent/PrayingMantis06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rcRect l="0" t="7188" r="0" b="5096"/>
            <a:stretch/>
          </p:blipFill>
          <p:spPr>
            <a:xfrm>
              <a:off x="3733920" y="3565440"/>
              <a:ext cx="4038480" cy="289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six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an adult I feed on nectar or may not eat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often mistaken for a large mosqu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71600" y="3352680"/>
            <a:ext cx="5638680" cy="3354840"/>
            <a:chOff x="1371600" y="3352680"/>
            <a:chExt cx="5638680" cy="3354840"/>
          </a:xfrm>
        </p:grpSpPr>
        <p:sp>
          <p:nvSpPr>
            <p:cNvPr id="72" name=""/>
            <p:cNvSpPr/>
            <p:nvPr/>
          </p:nvSpPr>
          <p:spPr>
            <a:xfrm>
              <a:off x="1371600" y="5105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ane f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81280" y="6461280"/>
              <a:ext cx="342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files.myopera.com/sprogger/blog/PapaLonglegs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rcRect l="0" t="0" r="4046" b="4242"/>
            <a:stretch/>
          </p:blipFill>
          <p:spPr>
            <a:xfrm>
              <a:off x="3844800" y="3352680"/>
              <a:ext cx="2901960" cy="312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arthro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classified as a crusta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be found under logs and leaf li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people call me a “roly pol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95280" y="3505320"/>
            <a:ext cx="6597360" cy="3065400"/>
            <a:chOff x="1295280" y="3505320"/>
            <a:chExt cx="6597360" cy="3065400"/>
          </a:xfrm>
        </p:grpSpPr>
        <p:sp>
          <p:nvSpPr>
            <p:cNvPr id="82" name=""/>
            <p:cNvSpPr/>
            <p:nvPr/>
          </p:nvSpPr>
          <p:spPr>
            <a:xfrm>
              <a:off x="1295280" y="51814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ll Bu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rcRect l="18003" t="17999" r="14998" b="13999"/>
            <a:stretch/>
          </p:blipFill>
          <p:spPr>
            <a:xfrm>
              <a:off x="3657600" y="3505320"/>
              <a:ext cx="3657600" cy="27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00760" y="6324480"/>
              <a:ext cx="469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sas.org/tcs/weeklyIssues_2006/2006-05-05/mimsci/images/fig_01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8:26Z</dcterms:modified>
  <cp:revision>34</cp:revision>
  <dc:subject/>
  <dc:title>Slide 1</dc:title>
</cp:coreProperties>
</file>