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ACB7-A525-4CB9-9851-96002B838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5276-F4FC-4501-B26C-61C157AC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72F3-D4BF-4489-B7C8-06A82E31A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8285-2386-4D63-A229-17E9D2914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48A1-D790-458E-AAC5-99F75631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87F4-88B7-4A7E-A5C9-D1BBFE89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FA2A-91C3-402A-A84F-29707F2F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C50B-CFBA-4175-8DAA-A2DD002B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CB81-290F-4A1C-9F9C-4123C70C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7CD6-955E-4751-92E7-ED806A46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023B-C24E-4ADD-958B-53DF82B6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710A-489F-4F46-B96B-34FDA37E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01FC-5C6E-4D4F-ADAA-B201ABEB3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2280" y="685800"/>
            <a:ext cx="853452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What is it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44956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llenge 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1109400">
            <a:off x="7467120" y="5029200"/>
            <a:ext cx="457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4" name=""/>
          <p:cNvSpPr txBox="1"/>
          <p:nvPr/>
        </p:nvSpPr>
        <p:spPr>
          <a:xfrm rot="20005800">
            <a:off x="685800" y="5486040"/>
            <a:ext cx="457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5" name=""/>
          <p:cNvSpPr txBox="1"/>
          <p:nvPr/>
        </p:nvSpPr>
        <p:spPr>
          <a:xfrm rot="472800">
            <a:off x="4343400" y="5638680"/>
            <a:ext cx="500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6" name=""/>
          <p:cNvSpPr txBox="1"/>
          <p:nvPr/>
        </p:nvSpPr>
        <p:spPr>
          <a:xfrm rot="1531200">
            <a:off x="1447920" y="4571640"/>
            <a:ext cx="500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7" name=""/>
          <p:cNvSpPr txBox="1"/>
          <p:nvPr/>
        </p:nvSpPr>
        <p:spPr>
          <a:xfrm rot="439800">
            <a:off x="2361960" y="5630400"/>
            <a:ext cx="380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8" name=""/>
          <p:cNvSpPr txBox="1"/>
          <p:nvPr/>
        </p:nvSpPr>
        <p:spPr>
          <a:xfrm rot="20388000">
            <a:off x="6705360" y="4343400"/>
            <a:ext cx="380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9" name=""/>
          <p:cNvSpPr txBox="1"/>
          <p:nvPr/>
        </p:nvSpPr>
        <p:spPr>
          <a:xfrm rot="20503200">
            <a:off x="5867280" y="5638320"/>
            <a:ext cx="381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0" name=""/>
          <p:cNvSpPr txBox="1"/>
          <p:nvPr/>
        </p:nvSpPr>
        <p:spPr>
          <a:xfrm rot="734400">
            <a:off x="8305920" y="457164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1" name=""/>
          <p:cNvSpPr txBox="1"/>
          <p:nvPr/>
        </p:nvSpPr>
        <p:spPr>
          <a:xfrm rot="734400">
            <a:off x="8229600" y="594324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2" name=""/>
          <p:cNvSpPr txBox="1"/>
          <p:nvPr/>
        </p:nvSpPr>
        <p:spPr>
          <a:xfrm rot="20125800">
            <a:off x="533160" y="426708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3" name=""/>
          <p:cNvSpPr/>
          <p:nvPr/>
        </p:nvSpPr>
        <p:spPr>
          <a:xfrm>
            <a:off x="1893960" y="6519960"/>
            <a:ext cx="5333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477120" y="152280"/>
            <a:ext cx="23810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9160" y="227880"/>
            <a:ext cx="89154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itter 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990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am an arthrop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16192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have eight le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224784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am a predator and paralyze my prey with ven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28764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can be found in the southwestern U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35053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am 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224000" y="3657600"/>
            <a:ext cx="6244200" cy="3065760"/>
            <a:chOff x="1224000" y="3657600"/>
            <a:chExt cx="6244200" cy="3065760"/>
          </a:xfrm>
        </p:grpSpPr>
        <p:sp>
          <p:nvSpPr>
            <p:cNvPr id="62" name=""/>
            <p:cNvSpPr/>
            <p:nvPr/>
          </p:nvSpPr>
          <p:spPr>
            <a:xfrm>
              <a:off x="1224000" y="495288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corp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585600" y="6477120"/>
              <a:ext cx="388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ttp://newsblaze.com/pix/2006/0531/pix/death-stalker-scorpion.jp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1"/>
            <a:srcRect l="2181" t="2464" r="6267" b="8831"/>
            <a:stretch/>
          </p:blipFill>
          <p:spPr>
            <a:xfrm>
              <a:off x="3967200" y="3657600"/>
              <a:ext cx="3200400" cy="2743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19160" y="227880"/>
            <a:ext cx="89154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itter #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990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belong to the order Lepidopt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14698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am medium size – not as large as swallowtails, but bigger than hairstrea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231624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am a migratory spe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279576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 might know me from my “eye”sp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3276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am 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371600" y="3505320"/>
            <a:ext cx="6095880" cy="3202200"/>
            <a:chOff x="1371600" y="3505320"/>
            <a:chExt cx="6095880" cy="3202200"/>
          </a:xfrm>
        </p:grpSpPr>
        <p:sp>
          <p:nvSpPr>
            <p:cNvPr id="72" name=""/>
            <p:cNvSpPr/>
            <p:nvPr/>
          </p:nvSpPr>
          <p:spPr>
            <a:xfrm>
              <a:off x="1371600" y="510552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ckey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6461280"/>
              <a:ext cx="411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ttp://www.ivyhall.district96.k12.il.us/4th/KKhp/1insects/buckeye.htm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3505320" y="3505320"/>
              <a:ext cx="3809880" cy="2857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9160" y="227880"/>
            <a:ext cx="89154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itter 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990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belong to the order Hymenopt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14698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live in a hive that may contain as many as 20,000 individu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231624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am an important pollin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43000" y="279576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might be the “sweetest” insect a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3276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am 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295280" y="3489480"/>
            <a:ext cx="5905800" cy="3218040"/>
            <a:chOff x="1295280" y="3489480"/>
            <a:chExt cx="5905800" cy="3218040"/>
          </a:xfrm>
        </p:grpSpPr>
        <p:sp>
          <p:nvSpPr>
            <p:cNvPr id="82" name=""/>
            <p:cNvSpPr/>
            <p:nvPr/>
          </p:nvSpPr>
          <p:spPr>
            <a:xfrm>
              <a:off x="1295280" y="531828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oney Be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229280" y="6461280"/>
              <a:ext cx="213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ttp://www.gpnc.org/honeybee.ht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1"/>
            <a:srcRect l="19741" t="11221" r="14477" b="9187"/>
            <a:stretch/>
          </p:blipFill>
          <p:spPr>
            <a:xfrm>
              <a:off x="3390840" y="3489480"/>
              <a:ext cx="3810240" cy="2971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5-31T19:18:02Z</dcterms:modified>
  <cp:revision>39</cp:revision>
  <dc:subject/>
  <dc:title>Slide 1</dc:title>
</cp:coreProperties>
</file>