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2FE-B405-457C-8173-17EFD752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775-5A73-4996-A064-3A2E7C9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D16-F7C0-4190-B5CA-22B47FA2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B30-15C6-4211-B3CF-3369D504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0CA-6145-4DB6-B8FE-DE832E2A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903-E370-4C45-86A7-279D5A9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007-3DD7-49CB-8AC4-58DC72B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A28-DA60-4E70-A4D8-6ABA6C51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2D6A-E207-4ADA-BCB2-E9F8895E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B87-3C8D-4E3A-8420-E820191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C23-BAFC-48C4-B8E5-D199FF89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D4D-15D2-479B-B89B-0232EA35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B3A3-4132-47B1-88A7-5FB3B7C6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619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eight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478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predator and paralyze my prey with ve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876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be found in the southwestern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5053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224000" y="3657600"/>
            <a:ext cx="6244200" cy="3065760"/>
            <a:chOff x="1224000" y="3657600"/>
            <a:chExt cx="6244200" cy="3065760"/>
          </a:xfrm>
        </p:grpSpPr>
        <p:sp>
          <p:nvSpPr>
            <p:cNvPr id="62" name=""/>
            <p:cNvSpPr/>
            <p:nvPr/>
          </p:nvSpPr>
          <p:spPr>
            <a:xfrm>
              <a:off x="1224000" y="4952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orp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5600" y="6477120"/>
              <a:ext cx="388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newsblaze.com/pix/2006/0531/pix/death-stalker-scorpion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2181" t="2464" r="6267" b="8831"/>
            <a:stretch/>
          </p:blipFill>
          <p:spPr>
            <a:xfrm>
              <a:off x="3967200" y="3657600"/>
              <a:ext cx="320040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Lepid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469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medium size – not as large as swallowtails, but bigger than hairstrea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3162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 migratory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95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might know me from my “eye”sp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71600" y="3505320"/>
            <a:ext cx="6095880" cy="3202200"/>
            <a:chOff x="1371600" y="3505320"/>
            <a:chExt cx="6095880" cy="3202200"/>
          </a:xfrm>
        </p:grpSpPr>
        <p:sp>
          <p:nvSpPr>
            <p:cNvPr id="72" name=""/>
            <p:cNvSpPr/>
            <p:nvPr/>
          </p:nvSpPr>
          <p:spPr>
            <a:xfrm>
              <a:off x="1371600" y="51055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ck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6461280"/>
              <a:ext cx="411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ivyhall.district96.k12.il.us/4th/KKhp/1insects/buckeye.htm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505320" y="3505320"/>
              <a:ext cx="3809880" cy="28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Hymen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4698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ve in a hive that may contain as many as 20,000 individ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3162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important poll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957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the “sweetest” insect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95280" y="3489480"/>
            <a:ext cx="5905800" cy="3218040"/>
            <a:chOff x="1295280" y="3489480"/>
            <a:chExt cx="5905800" cy="3218040"/>
          </a:xfrm>
        </p:grpSpPr>
        <p:sp>
          <p:nvSpPr>
            <p:cNvPr id="82" name=""/>
            <p:cNvSpPr/>
            <p:nvPr/>
          </p:nvSpPr>
          <p:spPr>
            <a:xfrm>
              <a:off x="1295280" y="53182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ney B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29280" y="6461280"/>
              <a:ext cx="21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gpnc.org/honeybee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19741" t="11221" r="14477" b="9187"/>
            <a:stretch/>
          </p:blipFill>
          <p:spPr>
            <a:xfrm>
              <a:off x="3390840" y="3489480"/>
              <a:ext cx="381024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02Z</dcterms:modified>
  <cp:revision>39</cp:revision>
  <dc:subject/>
  <dc:title>Slide 1</dc:title>
</cp:coreProperties>
</file>