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A03-16B2-43E4-AE9C-F8EE8F32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734-6FCA-4303-AAD6-5896387C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73D-E1DD-4724-80A3-028FF2D4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FE5-9310-4B01-A715-E53A1687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A0A-EE68-4731-A010-C9C3EDDB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0B5-4A71-4349-A9D6-32E897EB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713-35A8-48F5-945F-1758FE91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296-69C4-436D-81CB-B610F361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78A-06F1-46A7-BDD9-CA450BF4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D300-0005-46E1-915A-C3A8C9E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CDB-81C0-4CD7-821C-5277704F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95B-17EA-44FF-B6EF-44314334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A18F-482C-4FB0-AE8A-4F0BFE220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36800" y="4800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106800">
            <a:off x="457200" y="4572000"/>
            <a:ext cx="2516040" cy="2120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74800" y="457200"/>
            <a:ext cx="2438640" cy="181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246800">
            <a:off x="5791320" y="4343400"/>
            <a:ext cx="2801880" cy="20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52280" y="1295280"/>
            <a:ext cx="8839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Cooper Black"/>
              </a:rPr>
              <a:t>Do you know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 each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990720"/>
            <a:ext cx="8382240" cy="56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What are the three stages in incomplete metamorph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are the four stages in complete metamorph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does “ptera”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is a gangl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is an ocel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What are spirac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990720"/>
            <a:ext cx="8382240" cy="56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What are the three stages in incomplete metamorph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are the four stages in complete metamorph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does “ptera”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is a gangl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is an ocel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What are spirac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447920"/>
            <a:ext cx="388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ymph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2362320"/>
            <a:ext cx="4343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g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rv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up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3080" y="2975040"/>
            <a:ext cx="1121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0052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rv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465768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impl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73280" y="5570640"/>
            <a:ext cx="2241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ea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6:58Z</dcterms:modified>
  <cp:revision>20</cp:revision>
  <dc:subject/>
  <dc:title>Slide 1</dc:title>
</cp:coreProperties>
</file>