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C34-278B-4EBB-9FEC-B301D282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1F6A-4231-4841-A157-8F8C873B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27A-55E0-4D92-ABDC-97522DC5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86E-7C20-4516-B665-C834E9BC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1AC-3EE0-4ACD-AB7F-A304E92E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F62F-7591-4C27-90B3-AEB5E581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A89A-7794-4E7A-9D3A-12184549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B39-645D-4B55-9863-E50B38D6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232-3419-49B4-8A9C-42941D81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A35-6514-48BC-8DD5-D642971D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885-2D8E-4698-B346-4B2E0094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0EE-17F6-4D24-AB0B-3DB0F1C3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575B-EFDA-4C5D-BF47-F6B82BE02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36800" y="4800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1106800">
            <a:off x="457200" y="4572000"/>
            <a:ext cx="2516040" cy="2120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74800" y="457200"/>
            <a:ext cx="2438640" cy="181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246800">
            <a:off x="5791320" y="4343400"/>
            <a:ext cx="2801880" cy="20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52280" y="1295280"/>
            <a:ext cx="88394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oper Black"/>
              </a:rPr>
              <a:t>Do you know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93960" y="651996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 each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990720"/>
            <a:ext cx="8382240" cy="56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What are the three stages in incomplete metamorpho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at are the four stages in complete metamorpho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What does “ptera”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What is a gangl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What is an ocel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What are spirac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990720"/>
            <a:ext cx="8382240" cy="56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What are the three stages in incomplete metamorpho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at are the four stages in complete metamorpho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What does “ptera”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What is a gangl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What is an ocel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What are spirac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 answers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447920"/>
            <a:ext cx="388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gg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ymph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d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2362320"/>
            <a:ext cx="4343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gg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arv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up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d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3080" y="2975040"/>
            <a:ext cx="1121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00520"/>
            <a:ext cx="1828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rve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4657680"/>
            <a:ext cx="1828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imple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73280" y="5570640"/>
            <a:ext cx="2241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eat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9:16:58Z</dcterms:modified>
  <cp:revision>20</cp:revision>
  <dc:subject/>
  <dc:title>Slide 1</dc:title>
</cp:coreProperties>
</file>