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E67-9641-40AE-83D7-8F78710C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1E7-BC93-471B-A636-FA188B79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AD89-79E6-4659-BC09-1943449A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267-BB8C-4334-A61F-912439AA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4D3-9346-486F-A1BE-436A184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E35-E379-4F00-9102-7CC7A9F0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637-3831-4B6E-BAB8-A9A6813E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1EF-B70C-451B-B771-DA0D72F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6C0-94A9-4E8E-9D7B-93D777E6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EF1-6114-4626-B8E4-615B809B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7E9-7C0D-420F-9905-F2AA40C5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5C8-93BB-4043-AD74-F0723FA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BCD4-C370-4414-B3E7-344405CF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36800" y="4800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1106800">
            <a:off x="457200" y="4572000"/>
            <a:ext cx="2516040" cy="2120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674800" y="457200"/>
            <a:ext cx="243864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246800">
            <a:off x="5791320" y="4343400"/>
            <a:ext cx="2801880" cy="20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52280" y="1295280"/>
            <a:ext cx="88394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Do you know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n which body segment would you fi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er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function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ipos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How doe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ym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are 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ncomplete metamorphosi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are the five class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hropo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990720"/>
            <a:ext cx="83822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On which body segment would you fi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erc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at is the function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iposi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a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l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How doe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ym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mpare 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ncomplete metamorphosi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What are the five classe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hropo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the answers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990720"/>
            <a:ext cx="2057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828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y eg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97180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dding of an exo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76680" y="4334040"/>
            <a:ext cx="54864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ymphs look like the adults, but they do not have wings and cannot re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5791320"/>
            <a:ext cx="8305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achni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ders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ustace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rabs, lobster &amp; shrimp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ilopo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entipedes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plod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illipedes)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2:12Z</dcterms:modified>
  <cp:revision>26</cp:revision>
  <dc:subject/>
  <dc:title>Slide 1</dc:title>
</cp:coreProperties>
</file>