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405-7142-49D7-B213-06256570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579-62F8-44EF-A54F-C48E9BD9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DEA-7D21-4219-A8A6-15BFB97A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0BA-7C2E-47DA-8122-87AD7F26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5DB-6D38-48E2-B6AC-4089424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886-731B-465C-8775-677006FF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DA1-3B24-4723-AFFF-392F1B73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18E-BF30-4936-B621-F5016B38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76A-C2A6-4921-A1A1-483849C9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14A-69AD-40EB-82B8-7E38CFD4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A23-3E31-40D1-98B9-974DCA9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AFC-9E8D-4010-BABF-BF6533D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A007-7C6A-4BFC-BA48-69BC6111C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800" y="4800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106800">
            <a:off x="457200" y="4572000"/>
            <a:ext cx="251604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74800" y="457200"/>
            <a:ext cx="243864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246800">
            <a:off x="5791320" y="4343400"/>
            <a:ext cx="2801880" cy="20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52280" y="1295280"/>
            <a:ext cx="8839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Do you know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990720"/>
            <a:ext cx="83822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On which body segment would you fi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er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function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iposi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How doe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ym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pare 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incomplete metamorphosi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are the five classe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hropo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990720"/>
            <a:ext cx="83822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On which body segment would you fi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er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function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iposi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How doe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ym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pare 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incomplete metamorphosi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are the five classe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hropo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990720"/>
            <a:ext cx="2057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8288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y eg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97180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dding of an exo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6680" y="4334040"/>
            <a:ext cx="54864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ymphs look like the adults, but they do not have wings and cannot re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791320"/>
            <a:ext cx="8305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achni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ders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ustace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rabs, lobster &amp; shrimp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ilopo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entipedes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plo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llipedes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2:12Z</dcterms:modified>
  <cp:revision>26</cp:revision>
  <dc:subject/>
  <dc:title>Slide 1</dc:title>
</cp:coreProperties>
</file>