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4CA-F851-44DE-A5F0-666EF9B4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CCF-9C50-48E7-B726-1A2646D2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327-737E-463B-BE47-1299FC3D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B6D-0F99-4B37-930C-8A6C30C9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EBF-3F2B-4388-8149-30EC06E5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B23-9DD1-4145-AFBA-3E98D7C8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BD9-0B26-4FB4-BC13-CC5D78E7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E07-B535-4A1A-9C95-4E756BD9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D61-FB1C-4B53-AFF6-F1304315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EAE-EF82-4AB8-B890-B5F37A96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F11-B376-4514-8B4F-C589CBE7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EF4-B7F1-4BBA-8951-14211D7B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2D79-8EDC-47E7-8347-78A725F1C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36800" y="4800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106800">
            <a:off x="457200" y="4572000"/>
            <a:ext cx="2516040" cy="2120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74800" y="457200"/>
            <a:ext cx="2438640" cy="181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246800">
            <a:off x="5791320" y="4343400"/>
            <a:ext cx="2801880" cy="20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52280" y="1295280"/>
            <a:ext cx="8839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Do you know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swer each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99072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How many body segments does an insect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name of each of the body seg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On what body part are ocelli 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To which body part are the wings attac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o which body part are the legs attac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990720"/>
            <a:ext cx="83822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How many body segments does an insect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name of each of the body seg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On what body part are ocelli f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To which body part are the wings attac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o which body part are the legs attach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743200"/>
            <a:ext cx="5181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, Thorax, &amp; 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36576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4648320"/>
            <a:ext cx="2023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5486400"/>
            <a:ext cx="2023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6:39Z</dcterms:modified>
  <cp:revision>27</cp:revision>
  <dc:subject/>
  <dc:title>Slide 1</dc:title>
</cp:coreProperties>
</file>