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34D-F710-4DB1-B76D-6BA15738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9E1-7275-4EF2-B720-1B53512C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B60-3129-473B-9040-E8D64592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FDC-0B1C-4EB6-8467-48726046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5C5-A21C-4A3C-AC68-B40E57CF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740-A065-47BC-BB0D-5961F7A9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198-731C-4A01-9580-5BBB94E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79A-4ECC-4EC4-A59D-3C85C448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E09-127B-4D34-8875-4E0A50A5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9DF-5FD4-4234-B66E-73CE028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D8C-CE10-42CE-8E5B-8FA090EF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618-F544-45A4-8D15-01182FA8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124A-E7B4-47CC-85D1-048EFF86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36800" y="4800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106800">
            <a:off x="457200" y="4572000"/>
            <a:ext cx="2516040" cy="2120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74800" y="457200"/>
            <a:ext cx="2438640" cy="181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246800">
            <a:off x="5791320" y="4343400"/>
            <a:ext cx="2801880" cy="20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52280" y="1295280"/>
            <a:ext cx="8839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Do you know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swer each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99072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How many body segments does an insect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name of each of the body seg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On what body part are ocelli 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To which body part are the wings attac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o which body part are the legs attac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990720"/>
            <a:ext cx="83822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How many body segments does an insect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name of each of the body seg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On what body part are ocelli 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To which body part are the wings attac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o which body part are the legs attac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743200"/>
            <a:ext cx="5181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, Thorax, &amp; 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36576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4648320"/>
            <a:ext cx="2023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5486400"/>
            <a:ext cx="2023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6:39Z</dcterms:modified>
  <cp:revision>27</cp:revision>
  <dc:subject/>
  <dc:title>Slide 1</dc:title>
</cp:coreProperties>
</file>