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863-34AD-4A28-9F73-1F885931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B49-303B-4B8F-A7A2-4B51DC79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063-B715-42CF-ABC2-55B4CA27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339-2C19-4B4B-966A-96B2C871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751-C8BC-4CFB-8B4F-CFE0D02B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E8A-4AC0-4784-8AD9-96435BB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59D-9929-44E3-9296-DC22247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01D-004B-4BEC-9EA3-433DAA7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19E-0555-4070-ABED-34FF4FA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AD0-D257-438F-851E-DDC4111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FDA-24CB-4966-8EBC-978F7BE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417-B01A-44AA-9536-BF8B723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AAD-08DC-4F5F-8AA7-6FAFE4AA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sect is the fastest flyer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use 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ragon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ummingbird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 its entire lifetime, the average worker bee produces how much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/12 teasp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½ teaspo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teasp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ich insect is considered the loud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icada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issing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nsect is considered the fast ru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ack 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ng Bee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he longest insect is a tropical stick insect.  How long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7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1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 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sect is the fastest flyer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use 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ragon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ummingbird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 its entire lifetime, the average worker bee produces how much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/12 teasp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½ teaspo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teasp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ich insect is considered the loud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icada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issing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nsect is considered the fast ru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ack 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ng Bee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he longest insect is a tropical stick insect.  How long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7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1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 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1333440"/>
            <a:ext cx="18288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819520"/>
            <a:ext cx="23619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8620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64240" y="497844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32120" y="608328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4:16:06Z</dcterms:modified>
  <cp:revision>39</cp:revision>
  <dc:subject/>
  <dc:title>Slide 1</dc:title>
</cp:coreProperties>
</file>