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783-D3E0-479D-A6D4-7F8EDC59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E44-8100-4365-9249-2CF7ADD2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3DE-EE0F-4080-8F6F-55EA55AE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EBA-7B03-4161-8E89-7C436480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157-A0E5-4909-81C3-A6CF3BED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A22-8EAC-4214-A6CB-08EBC081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E2A-F18A-4D14-BA1D-5D4421E5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08F-7C10-4FE5-B342-DBB4ECFD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F15-0CA1-4064-9F0C-3AF297D5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295-D76A-4C76-87D1-7EEE3539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402-41D4-4806-B6A5-6E703815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C69-1C86-4C33-8878-D1C1E332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CC70-CA23-42F9-A0C7-45625348B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267080"/>
            <a:ext cx="5105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do you know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ut bu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876400" cy="270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93960" y="647712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09480" y="6094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ug Trivia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bes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7840" y="9270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nsect is the fastest flyer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ouse fly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ragonfly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ummingbird M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n its entire lifetime, the average worker bee produces how much h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/12 teaspo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½ teaspoon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teasp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ich insect is considered the loud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ricket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icada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issing Cock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at insect is considered the fast runn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lack 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ung Bee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Cock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The longest insect is a tropical stick insect.  How long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7 inches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1 inches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4 in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7840" y="9270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nsect is the fastest flyer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House fly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ragonfly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ummingbird M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n its entire lifetime, the average worker bee produces how much h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/12 teaspo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½ teaspoon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teasp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hich insect is considered the loud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ricket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Cicada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Hissing Cock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What insect is considered the fast runn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Black 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Dung Bee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Cock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The longest insect is a tropical stick insect.  How long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7 inches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1 inches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4 in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82880" y="1333440"/>
            <a:ext cx="1828800" cy="381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819520"/>
            <a:ext cx="23619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886200"/>
            <a:ext cx="18288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64240" y="4978440"/>
            <a:ext cx="18288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32120" y="6083280"/>
            <a:ext cx="182880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6-03T04:16:06Z</dcterms:modified>
  <cp:revision>39</cp:revision>
  <dc:subject/>
  <dc:title>Slide 1</dc:title>
</cp:coreProperties>
</file>