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8490-F3F0-40F1-B5E8-7F8DFF537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01EC-E394-45B8-ACC2-37121206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C851-C6C9-42A0-8708-BA43C96A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C554-8C6B-4CCC-9FCA-C462D1E22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1D41-1EFC-40BA-990D-F300F2E3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0BC8-4DF3-4F3E-9089-2D169411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F603-B666-4C82-BAF5-17805A6F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DAF1-685A-48FB-997D-DEA9A810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8622-1B27-4FEF-80DA-E6A26F7F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8D09-7890-40D1-97F6-E558253D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325B-77B6-4CFF-A1D8-5A03768A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61B6-3DAC-403D-BEDF-EA7CDC23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74F9-6215-49D9-A756-7D4A220EC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4267080"/>
            <a:ext cx="5105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much do you know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out bu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llenge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3505320"/>
            <a:ext cx="2876400" cy="270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93960" y="6477120"/>
            <a:ext cx="5333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77120" y="152280"/>
            <a:ext cx="2381040" cy="447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09480" y="609480"/>
            <a:ext cx="78487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Bug Trivia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303840"/>
            <a:ext cx="89154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oose the best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7840" y="927000"/>
            <a:ext cx="883908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 of the 26 orders of insects, how many have appeared on a postage stamp?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14      B. 20      C.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The largest butterfly, the Queen Alexandra of New Guinea, has a wingspan of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A. 6 inches.     B. 11 inches.     C. 20 in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Monarch butterflies travel at an average of _____ miles per day during migratio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A. 20      B. 40       C. 6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Ants are believed to make up _____ of the total weight of all the animals in the worl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A. 10%      B. 15%      C. 2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House flies beat their wings at a rate of ______ beats per secon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A. 330      B. 520      C. 8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320" y="303840"/>
            <a:ext cx="89154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7840" y="927000"/>
            <a:ext cx="883908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 of the 26 orders of insects, how many have appeared on a postage stamp?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14      B. 20      C.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The largest butterfly, the Queen Alexandra of New Guinea, has a wingspan of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A. 6 inches.     B. 11 inches.     C. 20 in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Monarch butterflies travel at an average of _____ miles per day during migratio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A. 20      B. 40       C. 6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Ants are believed to make up _____ of the total weight of all the animals in the worl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A. 10%      B. 25%      C. 5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House flies beat their wings at a rate of ______ beats per secon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A. 330      B. 520      C. 8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43200" y="1333440"/>
            <a:ext cx="914400" cy="3812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616120"/>
            <a:ext cx="1752480" cy="3812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86280" y="3733920"/>
            <a:ext cx="914400" cy="380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56080" y="4813200"/>
            <a:ext cx="1143000" cy="3812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41400" y="5905440"/>
            <a:ext cx="1143000" cy="3812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3T03:59:10Z</dcterms:modified>
  <cp:revision>31</cp:revision>
  <dc:subject/>
  <dc:title>Slide 1</dc:title>
</cp:coreProperties>
</file>