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1E1-94E8-4369-A939-9EC96C81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D25-4B8D-42D7-944B-4AE608F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690-553F-4D3C-AB57-70135E9E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858-37CA-43B5-BE47-EA7D900D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244-261F-47EF-8723-E9BB0683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A7B-3A46-48DC-BEC5-96739DE9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83B-DEA3-4742-84F5-47568F1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DC5-D99B-4DB5-91F7-607B6DF0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BDC-9688-42DC-9781-E2478199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7F6-35B9-4F09-BC47-6A549747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E28-67C4-4A38-9F3E-5292C4F9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0BF-DFC0-4043-BE5D-0573858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290-51E2-4669-8489-141AFED8E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267080"/>
            <a:ext cx="5105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 of the 26 orders of insects, how many have appeared on a postage stamp?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4      B. 20      C.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he largest butterfly, the Queen Alexandra of New Guinea, has a wingspan 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6 inches.     B. 11 inches.     C. 20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Monarch butterflies travel at an average of _____ miles per day during mig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. 20      B. 40       C. 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nts are believed to make up _____ of the total weight of all the animals in the worl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10%      B. 15%      C. 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use flies beat their wings at a rate of ______ beats per seco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A. 330      B. 520      C. 8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 of the 26 orders of insects, how many have appeared on a postage stamp?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4      B. 20      C.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he largest butterfly, the Queen Alexandra of New Guinea, has a wingspan 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6 inches.     B. 11 inches.     C. 20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Monarch butterflies travel at an average of _____ miles per day during mig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. 20      B. 40       C. 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nts are believed to make up _____ of the total weight of all the animals in the worl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10%      B. 25%      C. 5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use flies beat their wings at a rate of ______ beats per seco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A. 330      B. 520      C. 8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333440"/>
            <a:ext cx="9144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16120"/>
            <a:ext cx="175248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86280" y="3733920"/>
            <a:ext cx="9144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56080" y="4813200"/>
            <a:ext cx="11430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41400" y="5905440"/>
            <a:ext cx="11430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3:59:10Z</dcterms:modified>
  <cp:revision>31</cp:revision>
  <dc:subject/>
  <dc:title>Slide 1</dc:title>
</cp:coreProperties>
</file>