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BBC-F2DF-4013-AED7-C3C72EBE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5E3-04DB-4483-AF21-5EDCDEDD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E5B-448D-48DE-8D70-889A1DF4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0ED-8E3B-4F98-B097-15C8C544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CFD-0318-4475-962C-618BE0A2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81D-B4D4-4B11-AD22-4A9672F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740-68A7-4974-B16E-5E125DFB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25A-6C91-4799-B130-4AD4B9BE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9D5-0C25-4C02-A26D-3F569542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B79-9C94-4F20-9BB2-D804187C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0D6-F9D1-40A0-82AD-041F98B8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04D-B439-49D2-A694-4F8D1D3F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8F5D-1814-4BDF-95EA-61B392C2B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76400" cy="270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2680" y="4191120"/>
            <a:ext cx="5105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do you k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bu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8580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Triv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927000"/>
            <a:ext cx="88390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he fastest running insect is a(n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Army ant.     B. Cockroach.     C. Stag beetle.     D. Grass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loudest insec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ricket       B. House fly       C. June Bug        D. C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is the most popular state insect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Honey bee       B.  Monarch butterfly        C. Ladybu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he fastest flying insect is the deer bot fly.  What is its fastest speed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45 mph          B.  90 mph          C.  12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rasshoppers can jump ___ times their body lengt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40" y="927000"/>
            <a:ext cx="88390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he fastest running insect is a(n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Army ant.     B. Cockroach.    C. Stag beetle.   D. Grass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loudest insec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ricket       B. House fly       C. June Bug        D. C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is the most popular state insect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Honey bee       B.  Monarch butterfly        C. Ladybu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he fastest flying insect is the deer bot fly.  What is its fastest speed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45 mph          B.  90 mph          C.  12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Grasshoppers can jump ___ times their body lengt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371600"/>
            <a:ext cx="199404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2494080"/>
            <a:ext cx="13716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90680" y="3657600"/>
            <a:ext cx="8119800" cy="758520"/>
            <a:chOff x="490680" y="3657600"/>
            <a:chExt cx="8119800" cy="758520"/>
          </a:xfrm>
        </p:grpSpPr>
        <p:grpSp>
          <p:nvGrpSpPr>
            <p:cNvPr id="53" name=""/>
            <p:cNvGrpSpPr/>
            <p:nvPr/>
          </p:nvGrpSpPr>
          <p:grpSpPr>
            <a:xfrm>
              <a:off x="490680" y="3657600"/>
              <a:ext cx="2557440" cy="715680"/>
              <a:chOff x="490680" y="3657600"/>
              <a:chExt cx="2557440" cy="715680"/>
            </a:xfrm>
          </p:grpSpPr>
          <p:sp>
            <p:nvSpPr>
              <p:cNvPr id="54" name=""/>
              <p:cNvSpPr/>
              <p:nvPr/>
            </p:nvSpPr>
            <p:spPr>
              <a:xfrm>
                <a:off x="490680" y="3657600"/>
                <a:ext cx="2057400" cy="38088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81080" y="4005000"/>
                <a:ext cx="106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7 sta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4995720" y="404784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43800" y="404784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 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743280" y="5975280"/>
            <a:ext cx="11430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0800" y="4822920"/>
            <a:ext cx="167652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3:38:08Z</dcterms:modified>
  <cp:revision>33</cp:revision>
  <dc:subject/>
  <dc:title>Slide 1</dc:title>
</cp:coreProperties>
</file>