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3257-90DD-4AF4-B762-4B524FC3A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7057-1609-4177-AE93-7FD74C9B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498B-7DD4-4E1C-96CC-BDB8FD9D5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CDD8-CF3D-4F1E-86B4-F51046A21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CB49-427E-4B15-BE0E-4295AEB0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DE38-EC0E-47EB-876C-C9B11902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CDA2-83B4-467A-BE9D-5797BF78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BCB7-AE9C-4954-A779-E5639915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5508-8775-43A6-9371-6B997E07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37B9-52F7-4DAE-B1A5-1B8EAC2F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8509-E264-4149-BDAD-98371D9A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3AA9-7DB8-41C6-B49E-309617D8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0631-BED8-48A4-B5C6-966F75B30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3505320"/>
            <a:ext cx="2876400" cy="2708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52680" y="4191120"/>
            <a:ext cx="51055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much do you know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out bu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llenge #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93960" y="6477120"/>
            <a:ext cx="5333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77120" y="152280"/>
            <a:ext cx="2381040" cy="447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09480" y="685800"/>
            <a:ext cx="78487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oper Black"/>
              </a:rPr>
              <a:t>Bug Trivia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320" y="303840"/>
            <a:ext cx="89154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oose the best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7840" y="927000"/>
            <a:ext cx="883908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The fastest running insect is a(n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Army ant.     B. Cockroach.     C. Stag beetle.     D. Grassh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What is the loudest insec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Cricket       B. House fly       C. June Bug        D. Cic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What is the most popular state insect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Honey bee       B.  Monarch butterfly        C. Ladybu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The fastest flying insect is the deer bot fly.  What is its fastest speed?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45 mph          B.  90 mph          C.  120 m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Grasshoppers can jump ___ times their body length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 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 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320" y="303840"/>
            <a:ext cx="89154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7840" y="927000"/>
            <a:ext cx="883908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The fastest running insect is a(n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Army ant.     B. Cockroach.    C. Stag beetle.   D. Grassh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What is the loudest insec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Cricket       B. House fly       C. June Bug        D. Cic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What is the most popular state insect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Honey bee       B.  Monarch butterfly        C. Ladybu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The fastest flying insect is the deer bot fly.  What is its fastest speed?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45 mph          B.  90 mph          C.  120 m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Grasshoppers can jump ___ times their body length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 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 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371600"/>
            <a:ext cx="1994040" cy="380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2494080"/>
            <a:ext cx="1371600" cy="380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490680" y="3657600"/>
            <a:ext cx="8119800" cy="758520"/>
            <a:chOff x="490680" y="3657600"/>
            <a:chExt cx="8119800" cy="758520"/>
          </a:xfrm>
        </p:grpSpPr>
        <p:grpSp>
          <p:nvGrpSpPr>
            <p:cNvPr id="53" name=""/>
            <p:cNvGrpSpPr/>
            <p:nvPr/>
          </p:nvGrpSpPr>
          <p:grpSpPr>
            <a:xfrm>
              <a:off x="490680" y="3657600"/>
              <a:ext cx="2557440" cy="715680"/>
              <a:chOff x="490680" y="3657600"/>
              <a:chExt cx="2557440" cy="715680"/>
            </a:xfrm>
          </p:grpSpPr>
          <p:sp>
            <p:nvSpPr>
              <p:cNvPr id="54" name=""/>
              <p:cNvSpPr/>
              <p:nvPr/>
            </p:nvSpPr>
            <p:spPr>
              <a:xfrm>
                <a:off x="490680" y="3657600"/>
                <a:ext cx="2057400" cy="38088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981080" y="4005000"/>
                <a:ext cx="106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7 stat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4995720" y="404784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2 st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543800" y="404784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 st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3743280" y="5975280"/>
            <a:ext cx="1143000" cy="3812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0800" y="4822920"/>
            <a:ext cx="1676520" cy="380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6-03T03:38:08Z</dcterms:modified>
  <cp:revision>33</cp:revision>
  <dc:subject/>
  <dc:title>Slide 1</dc:title>
</cp:coreProperties>
</file>