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0EB-0A3C-4C32-8B2E-7B6D976B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49D-ED9C-4A72-A52D-7EEE5782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A43-3107-40BA-AF95-546E600D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429-23B5-49CB-BDBA-FE948555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F5B-C198-4C86-803E-6F87334A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74D-A7A8-43B0-A9ED-4C4AD4E2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B1C-9050-4A01-A07A-A3598990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525-1B47-48B5-A8C1-130C413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502-3378-4812-ABF3-199B984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DA4-8089-4853-A838-6AD5D871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81A-FC6D-469D-9C59-60366C3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84B-6D1F-4C2D-9A83-95B4860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EDD8-54DC-46A2-B393-6D0F339C6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267080"/>
            <a:ext cx="5105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do you k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bu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7640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Triv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7000"/>
            <a:ext cx="88390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What is the official state insect for Illinois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adybug      B. Honey Bee      C. Firefly     D. Monarch butter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ich is the largest order (type) of insect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oleoptera (beetl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pidoptera (butterflies/mo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iptera (fli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rthopetera (grasshoppers/crick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Insects outnumber all other animals b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 to 1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3 to 1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to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5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ich insect is considered the most dangerous insect as it kills a million people a year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osqui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offin f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fire 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ssassin 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Approximately how many mosquito bites would it take to drain the blood from an adul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0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,20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2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40" y="927000"/>
            <a:ext cx="88390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What is the official state insect for Illinois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adybu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oney B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. Firef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Mon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ich is the largest order (type) of insect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oleoptera (beetl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pidoptera (butterflies/mo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iptera (fli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rthopetera (grasshoppers/crick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Insects outnumber all other animals b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 to 1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3 to 1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to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. 5 to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ich insect is considered the most dangerous insect as it kills a million people a year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osqui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offin f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fire 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ssassin 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Approximately how many mosquito bites would it take to drain the blood from an adul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0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,20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2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1333440"/>
            <a:ext cx="199368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47840"/>
            <a:ext cx="304812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568680"/>
            <a:ext cx="121932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6120" y="4826160"/>
            <a:ext cx="167652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6095880"/>
            <a:ext cx="175284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3:37:52Z</dcterms:modified>
  <cp:revision>23</cp:revision>
  <dc:subject/>
  <dc:title>Slide 1</dc:title>
</cp:coreProperties>
</file>