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168-83A1-4206-AAF0-8B2865B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8FF-16B2-43C7-B78F-3AC6348E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BA9-0BF3-4CB7-BBB2-65489366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E3D-176C-4E03-8642-1119CD15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537-D43D-4710-B7BD-CFB27A7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87C-0327-4274-8774-86160E46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4D1-1B78-4F2E-8F7F-664B4F0A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531-836C-4A40-AB97-37B49A29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27E-3E95-4614-9E23-53927B1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F52-5FC0-4FEB-956D-E7B8EF5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765-0C5E-4060-848C-A09B7645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D50-F37B-4003-B7E6-9BCE6A4A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606-4595-48C3-AD97-732911311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What is the official state insect for Illinoi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dybug      B. Honey Bee      C. Firefly     D. Monarch butter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ich is the largest order (type) of insect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oleoptera (beet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pidoptera (butterflies/mo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ptera (fli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thopetera (grasshoppers/crick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nsects outnumber all other animals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 to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 to 1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5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ich insect is considered the most dangerous insect as it kills a million people a year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squi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ffin 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ire 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ssassin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Approximately how many mosquito bites would it take to drain the blood from an adul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,2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2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What is the official state insect for Illinois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dybu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ney B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. Fire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on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Which is the largest order (type) of insect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oleoptera (beetl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pidoptera (butterflies/moth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iptera (flie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Orthopetera (grasshoppers/crick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nsects outnumber all other animals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 to 1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 to 1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. 5 to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ich insect is considered the most dangerous insect as it kills a million people a year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squi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ffin f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fire 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ssassin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Approximately how many mosquito bites would it take to drain the blood from an adul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,200,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2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333440"/>
            <a:ext cx="199368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47840"/>
            <a:ext cx="304812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3568680"/>
            <a:ext cx="12193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6120" y="4826160"/>
            <a:ext cx="167652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6095880"/>
            <a:ext cx="175284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3:37:52Z</dcterms:modified>
  <cp:revision>23</cp:revision>
  <dc:subject/>
  <dc:title>Slide 1</dc:title>
</cp:coreProperties>
</file>