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15C-725B-4548-A117-BC53522A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4BF-788D-4717-A87E-84E4C00C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3FA-74C7-4155-BAC5-B6D6FC1E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82D-C175-4892-BD5B-B3DF792E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15E-AFB2-4313-B1F5-3EB6BA21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330-504A-4D09-82DA-5D40659E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0AE-1DA9-4F3B-A663-591D8C6D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846-88A8-4B49-AA03-F6C449C6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C66-5965-4DA1-B209-D661AF1F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BF8-F8C4-4517-B40C-FCEA13C6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337-DD40-4BA1-B7CE-91007E60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C7F-9631-4FF6-9DCF-B24649C4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338A-A202-4AE3-A936-CCE81BCAD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gestive System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28600" y="1447920"/>
            <a:ext cx="8686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Down the Hatch!</a:t>
            </a:r>
            <a:endParaRPr b="0" lang="en-US" sz="3600" spc="1" strike="noStrike">
              <a:ln w="3816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3" name="Picture 9" descr="scistartlogo2"/>
          <p:cNvPicPr/>
          <p:nvPr/>
        </p:nvPicPr>
        <p:blipFill>
          <a:blip r:embed="rId1"/>
          <a:stretch/>
        </p:blipFill>
        <p:spPr>
          <a:xfrm>
            <a:off x="6324480" y="152280"/>
            <a:ext cx="2686320" cy="505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7"/>
          <p:cNvSpPr/>
          <p:nvPr/>
        </p:nvSpPr>
        <p:spPr>
          <a:xfrm>
            <a:off x="1026360" y="640080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. Hoyer 2015 OLV – Based on “Science Starters” by T. Trimpe at http://sciencesp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th08.deviantart.net/fs70/PRE/f/2012/308/8/1/down_the_hatch_by_karbo-d4txbqc.jpg"/>
          <p:cNvPicPr/>
          <p:nvPr/>
        </p:nvPicPr>
        <p:blipFill>
          <a:blip r:embed="rId2"/>
          <a:stretch/>
        </p:blipFill>
        <p:spPr>
          <a:xfrm>
            <a:off x="1447920" y="4191120"/>
            <a:ext cx="236988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1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9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the main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the digestive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2" descr="http://hrsbstaff.ednet.ns.ca/vantasp1/StudentArea/resources/Digestive/DigestUnlabeled.jpg"/>
          <p:cNvPicPr/>
          <p:nvPr/>
        </p:nvPicPr>
        <p:blipFill>
          <a:blip r:embed="rId1"/>
          <a:stretch/>
        </p:blipFill>
        <p:spPr>
          <a:xfrm>
            <a:off x="2895480" y="1523880"/>
            <a:ext cx="3048120" cy="5086440"/>
          </a:xfrm>
          <a:prstGeom prst="rect">
            <a:avLst/>
          </a:prstGeom>
          <a:ln w="0">
            <a:noFill/>
          </a:ln>
        </p:spPr>
      </p:pic>
      <p:cxnSp>
        <p:nvCxnSpPr>
          <p:cNvPr id="49" name="Straight Arrow Connector 10"/>
          <p:cNvCxnSpPr/>
          <p:nvPr/>
        </p:nvCxnSpPr>
        <p:spPr>
          <a:xfrm flipV="1">
            <a:off x="4800240" y="2895120"/>
            <a:ext cx="1981800" cy="144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0" name="Straight Arrow Connector 11"/>
          <p:cNvCxnSpPr/>
          <p:nvPr/>
        </p:nvCxnSpPr>
        <p:spPr>
          <a:xfrm flipV="1">
            <a:off x="4876560" y="1828080"/>
            <a:ext cx="236268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" name="Straight Arrow Connector 12"/>
          <p:cNvCxnSpPr/>
          <p:nvPr/>
        </p:nvCxnSpPr>
        <p:spPr>
          <a:xfrm flipV="1">
            <a:off x="4952880" y="3961800"/>
            <a:ext cx="1982160" cy="1448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2" name="Straight Arrow Connector 13"/>
          <p:cNvCxnSpPr/>
          <p:nvPr/>
        </p:nvCxnSpPr>
        <p:spPr>
          <a:xfrm flipV="1">
            <a:off x="4800600" y="4190400"/>
            <a:ext cx="1829520" cy="1600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3" name="Straight Arrow Connector 16"/>
          <p:cNvCxnSpPr/>
          <p:nvPr/>
        </p:nvCxnSpPr>
        <p:spPr>
          <a:xfrm flipH="1">
            <a:off x="1904400" y="3124080"/>
            <a:ext cx="243900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4" name="TextBox 20"/>
          <p:cNvSpPr/>
          <p:nvPr/>
        </p:nvSpPr>
        <p:spPr>
          <a:xfrm>
            <a:off x="7315200" y="1447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1447920" y="35053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2"/>
          <p:cNvSpPr/>
          <p:nvPr/>
        </p:nvSpPr>
        <p:spPr>
          <a:xfrm>
            <a:off x="6858000" y="2438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701028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3960"/>
            <a:ext cx="914400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tructures are . .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762120" y="1143000"/>
            <a:ext cx="6629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00240" indent="-743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ophag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om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st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Stephen</cp:lastModifiedBy>
  <dcterms:modified xsi:type="dcterms:W3CDTF">2015-01-11T23:24:55Z</dcterms:modified>
  <cp:revision>62</cp:revision>
  <dc:subject/>
  <dc:title>Slide 1</dc:title>
</cp:coreProperties>
</file>