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6BA-A763-4010-8882-4D431193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63A-0CB0-4C4C-AC63-0B1DF5EF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BD7-7553-421B-8E5A-7EA4E33C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5D9-2269-4860-8808-645BE05C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62A-BEE5-4AAD-BAF0-0916F361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B80-1A82-4C7E-A991-ED59995F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F15-4593-4DFC-89E0-7FCA87FA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E0C-027F-47A5-B3CB-A0A4624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E9C-EDA3-4BCF-8DE4-BF9C65E5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E87E-E1C3-412B-93E7-9A24089D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E71-2344-45A3-B607-BF15AFFB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B62-F822-4C1C-B8FF-5DA133A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695E-50F8-4855-A687-AC37F38D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estive System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14479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Down the Hatch!</a:t>
            </a:r>
            <a:endParaRPr b="0" lang="en-US" sz="3600" spc="1" strike="noStrike">
              <a:ln w="381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Picture 9" descr="scistartlogo2"/>
          <p:cNvPicPr/>
          <p:nvPr/>
        </p:nvPicPr>
        <p:blipFill>
          <a:blip r:embed="rId1"/>
          <a:stretch/>
        </p:blipFill>
        <p:spPr>
          <a:xfrm>
            <a:off x="6324480" y="152280"/>
            <a:ext cx="2686320" cy="505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7"/>
          <p:cNvSpPr/>
          <p:nvPr/>
        </p:nvSpPr>
        <p:spPr>
          <a:xfrm>
            <a:off x="1026360" y="640080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. Hoyer 2015 OLV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th08.deviantart.net/fs70/PRE/f/2012/308/8/1/down_the_hatch_by_karbo-d4txbqc.jpg"/>
          <p:cNvPicPr/>
          <p:nvPr/>
        </p:nvPicPr>
        <p:blipFill>
          <a:blip r:embed="rId2"/>
          <a:stretch/>
        </p:blipFill>
        <p:spPr>
          <a:xfrm>
            <a:off x="1447920" y="4191120"/>
            <a:ext cx="23698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1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9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he main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the digestive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2" descr="http://hrsbstaff.ednet.ns.ca/vantasp1/StudentArea/resources/Digestive/DigestUnlabeled.jpg"/>
          <p:cNvPicPr/>
          <p:nvPr/>
        </p:nvPicPr>
        <p:blipFill>
          <a:blip r:embed="rId1"/>
          <a:stretch/>
        </p:blipFill>
        <p:spPr>
          <a:xfrm>
            <a:off x="2895480" y="1523880"/>
            <a:ext cx="3048120" cy="5086440"/>
          </a:xfrm>
          <a:prstGeom prst="rect">
            <a:avLst/>
          </a:prstGeom>
          <a:ln w="0">
            <a:noFill/>
          </a:ln>
        </p:spPr>
      </p:pic>
      <p:cxnSp>
        <p:nvCxnSpPr>
          <p:cNvPr id="49" name="Straight Arrow Connector 10"/>
          <p:cNvCxnSpPr/>
          <p:nvPr/>
        </p:nvCxnSpPr>
        <p:spPr>
          <a:xfrm flipV="1">
            <a:off x="4800240" y="2895120"/>
            <a:ext cx="198180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0" name="Straight Arrow Connector 11"/>
          <p:cNvCxnSpPr/>
          <p:nvPr/>
        </p:nvCxnSpPr>
        <p:spPr>
          <a:xfrm flipV="1">
            <a:off x="4876560" y="1828080"/>
            <a:ext cx="236268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" name="Straight Arrow Connector 12"/>
          <p:cNvCxnSpPr/>
          <p:nvPr/>
        </p:nvCxnSpPr>
        <p:spPr>
          <a:xfrm flipV="1">
            <a:off x="4952880" y="3961800"/>
            <a:ext cx="1982160" cy="144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2" name="Straight Arrow Connector 13"/>
          <p:cNvCxnSpPr/>
          <p:nvPr/>
        </p:nvCxnSpPr>
        <p:spPr>
          <a:xfrm flipV="1">
            <a:off x="4800600" y="4190400"/>
            <a:ext cx="182952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3" name="Straight Arrow Connector 16"/>
          <p:cNvCxnSpPr/>
          <p:nvPr/>
        </p:nvCxnSpPr>
        <p:spPr>
          <a:xfrm flipH="1">
            <a:off x="1904400" y="3124080"/>
            <a:ext cx="24390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4" name="TextBox 20"/>
          <p:cNvSpPr/>
          <p:nvPr/>
        </p:nvSpPr>
        <p:spPr>
          <a:xfrm>
            <a:off x="7315200" y="1447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1447920" y="35053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6858000" y="2438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701028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3960"/>
            <a:ext cx="91440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ructures are . .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62120" y="1143000"/>
            <a:ext cx="6629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743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ophag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om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st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Stephen</cp:lastModifiedBy>
  <dcterms:modified xsi:type="dcterms:W3CDTF">2015-01-11T23:24:55Z</dcterms:modified>
  <cp:revision>62</cp:revision>
  <dc:subject/>
  <dc:title>Slide 1</dc:title>
</cp:coreProperties>
</file>