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BA5-A139-4400-86BD-68E4C59B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5EB-C0BD-4108-BD14-3AF91088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2E7-E0C8-4B61-B0D4-1E269D18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F28-75F8-467C-AF28-DFD65D27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E97-F8F7-4A88-BA12-825CF6CE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BC53-246D-4C04-9424-5190661A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E2B-F4A9-4D4D-9969-93C8EC73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8B7-1920-4F66-993F-9ED0AE9C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B5B-95F7-43FB-9E3C-878A2873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A03-2826-4785-8F6E-DD715A1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38E-E2BF-4832-BB38-D390E12E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813-CC2F-44B7-BBD1-C73060CF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1ED3-5CAD-4189-9B40-F8DC29C34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estive System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1371600"/>
            <a:ext cx="87631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Down the Hatch!</a:t>
            </a:r>
            <a:endParaRPr b="0" lang="en-US" sz="3600" spc="1" strike="noStrike">
              <a:ln w="38160">
                <a:solidFill>
                  <a:srgbClr val="ff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1095120" y="640080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. Hoyer 2015 OLV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http://ecx.images-amazon.com/images/I/71iYdsfpC%2BL._SY300_.png"/>
          <p:cNvPicPr/>
          <p:nvPr/>
        </p:nvPicPr>
        <p:blipFill>
          <a:blip r:embed="rId2"/>
          <a:stretch/>
        </p:blipFill>
        <p:spPr>
          <a:xfrm>
            <a:off x="1676520" y="4419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1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9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entify the primar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he digestive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9"/>
          <p:cNvSpPr/>
          <p:nvPr/>
        </p:nvSpPr>
        <p:spPr>
          <a:xfrm>
            <a:off x="0" y="3429000"/>
            <a:ext cx="9144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other organ system aids the digestive system in performing its primary fun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3960"/>
            <a:ext cx="9144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functions are . .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219320" y="130176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break down food so the nutrients in the food can be used by the 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9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dentify the primary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he digestive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295280" y="5257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rdiovascular or circulato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9"/>
          <p:cNvSpPr/>
          <p:nvPr/>
        </p:nvSpPr>
        <p:spPr>
          <a:xfrm>
            <a:off x="0" y="3429000"/>
            <a:ext cx="9144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other organ system aids the digestive system in performing its primary fun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OUR LADY OF VICTORY</cp:lastModifiedBy>
  <dcterms:modified xsi:type="dcterms:W3CDTF">2015-01-13T20:13:38Z</dcterms:modified>
  <cp:revision>65</cp:revision>
  <dc:subject/>
  <dc:title>Slide 1</dc:title>
</cp:coreProperties>
</file>