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F74-9F4C-490F-B428-8100C7DC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417-9947-49A1-B90B-0A75E2FD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65B-59F4-4F1A-8D00-64AE92A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15A-17C8-46D5-87B9-41B7E9C7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376-C287-43E9-8837-CA1B86A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741-C765-47FC-A89F-830D6BE6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4B9-C2D5-4F80-B865-D46B56D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EA9-9295-4EAA-955F-4583619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49E-3E3B-48C7-953E-D841B843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254-36DE-49D0-89D7-9EB8A81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35F-266B-42CF-97C6-3DC270E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BCA-E850-422C-98EA-DCD8687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5D2-76FC-4223-89A4-08745D0A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1371600"/>
            <a:ext cx="87631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Down the Hatch!</a:t>
            </a:r>
            <a:endParaRPr b="0" lang="en-US" sz="3600" spc="1" strike="noStrike">
              <a:ln w="3816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1095120" y="640080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http://ecx.images-amazon.com/images/I/71iYdsfpC%2BL._SY300_.png"/>
          <p:cNvPicPr/>
          <p:nvPr/>
        </p:nvPicPr>
        <p:blipFill>
          <a:blip r:embed="rId2"/>
          <a:stretch/>
        </p:blipFill>
        <p:spPr>
          <a:xfrm>
            <a:off x="1676520" y="4419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1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primar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9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other organ system aids the digestive system in performing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unction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219320" y="13017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break down food so the nutrients in the food can be used by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primar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295280" y="5257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diovascular or circul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9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other organ system aids the digestive system in performing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OUR LADY OF VICTORY</cp:lastModifiedBy>
  <dcterms:modified xsi:type="dcterms:W3CDTF">2015-01-13T20:13:38Z</dcterms:modified>
  <cp:revision>65</cp:revision>
  <dc:subject/>
  <dc:title>Slide 1</dc:title>
</cp:coreProperties>
</file>