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FB64-6A85-421C-B92F-566FEAB1D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7F26-34AA-463B-B4A5-DD8F23A65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100B-23B5-4817-B4C3-1E9935F42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A4F1-82A7-43B9-9A4E-C7BD9944D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20A9-2A9E-4521-BCE0-E93FE12A9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9400-6A2E-4DDE-9442-49F4DB8A4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1CAB-1503-41D0-8CF2-720AF4EF6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042F-5320-42F5-B8F6-5E71987C8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7DAC-D477-4607-909E-E6266E2C6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E941-7E54-4C0B-8DC3-6BF25B2F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6449-976C-496E-90AF-86CF2CBC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57F2-261D-41CC-92E0-14E4D68F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8225C-46FF-46D3-8568-091D56AB9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3"/>
          <p:cNvSpPr txBox="1"/>
          <p:nvPr/>
        </p:nvSpPr>
        <p:spPr>
          <a:xfrm>
            <a:off x="304920" y="5181480"/>
            <a:ext cx="85341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8900000"/>
                </a:gradFill>
                <a:latin typeface="Cooper Black"/>
              </a:rPr>
              <a:t>Trivia Challenge #5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8900000"/>
              </a:gradFill>
              <a:latin typeface="Cooper Black"/>
              <a:ea typeface="Cooper Black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3505320" y="2590920"/>
            <a:ext cx="1568160" cy="2286000"/>
          </a:xfrm>
          <a:prstGeom prst="rect">
            <a:avLst/>
          </a:prstGeom>
          <a:ln w="0">
            <a:noFill/>
          </a:ln>
        </p:spPr>
      </p:pic>
      <p:sp>
        <p:nvSpPr>
          <p:cNvPr id="43" name="WordArt 5"/>
          <p:cNvSpPr txBox="1"/>
          <p:nvPr/>
        </p:nvSpPr>
        <p:spPr>
          <a:xfrm>
            <a:off x="304920" y="762120"/>
            <a:ext cx="853416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8900000"/>
                </a:gradFill>
                <a:latin typeface="Cooper Black"/>
              </a:rPr>
              <a:t>SpongeBob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8900000"/>
              </a:gradFill>
              <a:latin typeface="Cooper Black"/>
              <a:ea typeface="Cooper Black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1371600" y="648972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scistartlogo2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152280" y="127080"/>
            <a:ext cx="8801280" cy="59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what ocean do SpongeBob and his pals li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Atlant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Pacif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 India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 Artic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What new food did SpongeBob inv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Cow Patti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Pretty Patti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Jelly Patti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 Squid Pat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When is SpongeBob’s birthda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January 1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June 1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 July 1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 September 1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What color is SpongeBob’s bathing su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Brow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R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Yell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 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What did SpongeBob name the blue jellyfish he caugh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B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Jell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Fish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 Fri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. What did SpongeBob name his jellyfishing n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Old Relia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Old Faithfu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Fri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 Jellyfish H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spongebobpatrickfishing.gif"/>
          <p:cNvPicPr/>
          <p:nvPr/>
        </p:nvPicPr>
        <p:blipFill>
          <a:blip r:embed="rId1"/>
          <a:stretch/>
        </p:blipFill>
        <p:spPr>
          <a:xfrm>
            <a:off x="7010280" y="3124080"/>
            <a:ext cx="1849680" cy="19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52280" y="127080"/>
            <a:ext cx="8801280" cy="59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what ocean do SpongeBob and his pals li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Atlant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Pacif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 India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 Artic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What new food did SpongeBob inv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Cow Patti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Pretty Patti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Jelly Patti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 Squid Pat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When is SpongeBob’s birthda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January 1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June 1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 July 1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 September 1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What color is SpongeBob’s bathing su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Brow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R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Yell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 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What did SpongeBob name the blue jellyfish he caugh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B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Jell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Fish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 Fri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. What did SpongeBob name his jellyfishing n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Old Relia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Old Faithfu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Fri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 Jellyfish H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3"/>
          <p:cNvSpPr/>
          <p:nvPr/>
        </p:nvSpPr>
        <p:spPr>
          <a:xfrm>
            <a:off x="1714680" y="420840"/>
            <a:ext cx="1854000" cy="4442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4"/>
          <p:cNvSpPr/>
          <p:nvPr/>
        </p:nvSpPr>
        <p:spPr>
          <a:xfrm>
            <a:off x="1905120" y="1447920"/>
            <a:ext cx="1904760" cy="5079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5"/>
          <p:cNvSpPr/>
          <p:nvPr/>
        </p:nvSpPr>
        <p:spPr>
          <a:xfrm>
            <a:off x="3733920" y="2438280"/>
            <a:ext cx="1587240" cy="5716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6"/>
          <p:cNvSpPr/>
          <p:nvPr/>
        </p:nvSpPr>
        <p:spPr>
          <a:xfrm>
            <a:off x="5537160" y="3556080"/>
            <a:ext cx="1143000" cy="5079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7"/>
          <p:cNvSpPr/>
          <p:nvPr/>
        </p:nvSpPr>
        <p:spPr>
          <a:xfrm>
            <a:off x="5562720" y="4572000"/>
            <a:ext cx="1295280" cy="5079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8"/>
          <p:cNvSpPr/>
          <p:nvPr/>
        </p:nvSpPr>
        <p:spPr>
          <a:xfrm>
            <a:off x="152280" y="5638680"/>
            <a:ext cx="1828800" cy="5079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spongebob.jpg"/>
          <p:cNvPicPr/>
          <p:nvPr/>
        </p:nvPicPr>
        <p:blipFill>
          <a:blip r:embed="rId1"/>
          <a:stretch/>
        </p:blipFill>
        <p:spPr>
          <a:xfrm>
            <a:off x="7162920" y="3200400"/>
            <a:ext cx="160020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00:31:16Z</dcterms:created>
  <dc:creator>Tracy Trimpe</dc:creator>
  <dc:description/>
  <dc:language>en-US</dc:language>
  <cp:lastModifiedBy>Tracy</cp:lastModifiedBy>
  <dcterms:modified xsi:type="dcterms:W3CDTF">2009-05-02T22:07:59Z</dcterms:modified>
  <cp:revision>10</cp:revision>
  <dc:subject/>
  <dc:title>Slide 1</dc:title>
</cp:coreProperties>
</file>