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31D-41A3-4486-B55F-F4B58DC5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28A4-9B14-4A07-A150-B28B3FC2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BAB7-1C72-4612-886B-37E772C4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92E0-9D5A-4D00-BF9C-0BF08059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3E7F-2829-4148-ACA1-BACF96CB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6278-4BFB-4461-8741-E6B55162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C439-EF5E-442B-9225-41A747A3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A8F1-9334-4770-8C28-F6F422B0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73D5-1012-494E-87AA-DC4111B3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F52C-7B83-4967-BD9F-CFA10B50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6A67-CBDA-4B91-A928-19ADE803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4B64-9484-4906-B4E4-FDE7DDA0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03F5-439D-4536-9AA3-D4542BFFB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304920" y="5181480"/>
            <a:ext cx="85341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latin typeface="Cooper Black"/>
              </a:rPr>
              <a:t>Trivia Challenge #5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latin typeface="Cooper Black"/>
              <a:ea typeface="Cooper Black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505320" y="2590920"/>
            <a:ext cx="1568160" cy="2286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304920" y="762120"/>
            <a:ext cx="85341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latin typeface="Cooper Black"/>
              </a:rPr>
              <a:t>SpongeBob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latin typeface="Cooper Black"/>
              <a:ea typeface="Cooper Black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52280" y="127080"/>
            <a:ext cx="880128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what ocean do SpongeBob and his pals l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Atlan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Pacif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 Indi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Arti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new food did SpongeBob inv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Cow Patti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Pretty Patt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Jelly Patt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Squid Pat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en is SpongeBob’s birthd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January 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June 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 July 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September 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color is SpongeBob’s bathing su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Brow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Yell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What did SpongeBob name the blue jellyfish he cau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B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Jel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Fish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Fri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What did SpongeBob name his jellyfishing n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Old Rel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Old Faithfu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Jellyfish H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spongebobpatrickfishing.gif"/>
          <p:cNvPicPr/>
          <p:nvPr/>
        </p:nvPicPr>
        <p:blipFill>
          <a:blip r:embed="rId1"/>
          <a:stretch/>
        </p:blipFill>
        <p:spPr>
          <a:xfrm>
            <a:off x="7010280" y="3124080"/>
            <a:ext cx="184968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52280" y="127080"/>
            <a:ext cx="880128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what ocean do SpongeBob and his pals l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Atlan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Pacif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 Indi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Arti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new food did SpongeBob inv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Cow Patti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Pretty Patt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Jelly Patt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Squid Pat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en is SpongeBob’s birthd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January 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June 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 July 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September 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color is SpongeBob’s bathing su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Brow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Yell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What did SpongeBob name the blue jellyfish he cau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B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Jel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Fish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Fri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What did SpongeBob name his jellyfishing n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Old Rel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Old Faithfu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Jellyfish H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3"/>
          <p:cNvSpPr/>
          <p:nvPr/>
        </p:nvSpPr>
        <p:spPr>
          <a:xfrm>
            <a:off x="1714680" y="420840"/>
            <a:ext cx="1854000" cy="444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905120" y="1447920"/>
            <a:ext cx="1904760" cy="507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3733920" y="2438280"/>
            <a:ext cx="1587240" cy="571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537160" y="3556080"/>
            <a:ext cx="1143000" cy="507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5562720" y="4572000"/>
            <a:ext cx="1295280" cy="507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152280" y="5638680"/>
            <a:ext cx="1828800" cy="507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spongebob.jpg"/>
          <p:cNvPicPr/>
          <p:nvPr/>
        </p:nvPicPr>
        <p:blipFill>
          <a:blip r:embed="rId1"/>
          <a:stretch/>
        </p:blipFill>
        <p:spPr>
          <a:xfrm>
            <a:off x="7162920" y="3200400"/>
            <a:ext cx="160020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31:16Z</dcterms:created>
  <dc:creator>Tracy Trimpe</dc:creator>
  <dc:description/>
  <dc:language>en-US</dc:language>
  <cp:lastModifiedBy>Tracy</cp:lastModifiedBy>
  <dcterms:modified xsi:type="dcterms:W3CDTF">2009-05-02T22:07:59Z</dcterms:modified>
  <cp:revision>10</cp:revision>
  <dc:subject/>
  <dc:title>Slide 1</dc:title>
</cp:coreProperties>
</file>