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00F-985A-4BB7-BA4A-D503AD20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684-ED5C-4999-97E1-A597B219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A74-2EA5-4B8F-B7C2-9444E6DB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461-7E8A-494F-9F5C-71535264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AB8-FBCF-4368-801D-14A87CD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E62-7CE3-4467-B001-88E7831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30F-E9D4-4B88-944A-193C88DF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460-0CF5-453A-A343-EC1238C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D57-AD03-4789-B206-559AC7B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495-B769-4CCD-9863-12D2AE4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EC7-8E7F-43AF-B3B1-8739F55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9D3-7297-43F0-9A08-9DC9D1C9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9A4B-4E80-4B15-BE2D-DA5B3405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73756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n "Krusty Krab Training Video" what does the P.O.O.P. code stand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encils Or Octopus Patties     B. People Order Our Patties    C. People Order Our P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"Sailor Mouth" how many bad words are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e left, what is the order of the houses in SpongeBob's neighbor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atrick's house, SpongeBob's house, Squidward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pongeBob's house, Squidward's house, Patrick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atrick's house, Squidward's house, SpongeBob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 the song lyrics from "The Best Day Ever". "Jumped outta bed, and I ran outside feelin' so extra-__________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rpr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cstat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ponge-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"Sailor Mouth" SpongeBob, with what word does 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 the writing the phrase about Squid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Fu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730920" y="4889520"/>
            <a:ext cx="21510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991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In "Krusty Krab Training Video" what does the P.O.O.P. code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Pencils Or Octopus Patties     B. People Order Our Patties    C. People Order Our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"Sailor Mouth" how many bad word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the left, what is the order of the houses in SpongeBob's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Patrick's house, SpongeBob's house, Squidward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SpongeBob's house, Squidward's house, Patrick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Patrick's house, Squidward's house, SpongeBob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 the song lyrics from "The Best Day Ever". "Jumped outta bed, and I ran outside feelin' so extra-__________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surpri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ecstatif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sponge-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"Sailor Mouth" SpongeBob, with what word does he finish the writing the phrase about Squidward?  (Squidward smells ____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Go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 B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 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048120" y="317520"/>
            <a:ext cx="29844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27080" y="1230480"/>
            <a:ext cx="825480" cy="44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73160" y="3706920"/>
            <a:ext cx="14223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27080" y="4822920"/>
            <a:ext cx="107928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pongebob006.gif"/>
          <p:cNvPicPr/>
          <p:nvPr/>
        </p:nvPicPr>
        <p:blipFill>
          <a:blip r:embed="rId1"/>
          <a:stretch/>
        </p:blipFill>
        <p:spPr>
          <a:xfrm>
            <a:off x="6324480" y="4724280"/>
            <a:ext cx="1676520" cy="18320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1"/>
          <p:cNvGrpSpPr/>
          <p:nvPr/>
        </p:nvGrpSpPr>
        <p:grpSpPr>
          <a:xfrm>
            <a:off x="0" y="1143000"/>
            <a:ext cx="8585280" cy="1981080"/>
            <a:chOff x="0" y="1143000"/>
            <a:chExt cx="8585280" cy="1981080"/>
          </a:xfrm>
        </p:grpSpPr>
        <p:sp>
          <p:nvSpPr>
            <p:cNvPr id="55" name="Oval 5"/>
            <p:cNvSpPr/>
            <p:nvPr/>
          </p:nvSpPr>
          <p:spPr>
            <a:xfrm>
              <a:off x="0" y="2590920"/>
              <a:ext cx="5778720" cy="39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" descr=""/>
            <p:cNvPicPr/>
            <p:nvPr/>
          </p:nvPicPr>
          <p:blipFill>
            <a:blip r:embed="rId2"/>
            <a:stretch/>
          </p:blipFill>
          <p:spPr>
            <a:xfrm>
              <a:off x="5943600" y="1143000"/>
              <a:ext cx="26416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05:22Z</dcterms:modified>
  <cp:revision>6</cp:revision>
  <dc:subject/>
  <dc:title>Slide 1</dc:title>
</cp:coreProperties>
</file>