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1FC0-22C4-4F21-92F3-F20D7F59D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C00D-30BF-400D-AA13-08FE0CDC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1B32-95A4-4E10-B5F7-54AC36CBC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054C-62B4-44FF-AC3F-71E6E8EB1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980F-CDB9-4178-BC20-DF312F7B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6F51-A821-4B6D-8BBA-79C851B1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F75F-B32A-43B2-BC1F-7937AB2F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4073-18C5-4AB1-843F-84203261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5CFB-DE55-43CA-B10A-05DEB4DC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FF04-9674-42F7-BC65-98E0D5A3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E4F6-E2C4-4B43-AB5A-9E1DAE27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98C9-CE02-4D80-807B-740BB081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D3B7-CB2B-46FB-9D6E-F53592023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304920" y="5181480"/>
            <a:ext cx="85341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latin typeface="Cooper Black"/>
              </a:rPr>
              <a:t>Trivia Challenge #3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latin typeface="Cooper Black"/>
              <a:ea typeface="Cooper Black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3505320" y="2590920"/>
            <a:ext cx="1568160" cy="2286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4"/>
          <p:cNvSpPr txBox="1"/>
          <p:nvPr/>
        </p:nvSpPr>
        <p:spPr>
          <a:xfrm>
            <a:off x="304920" y="762120"/>
            <a:ext cx="85341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latin typeface="Cooper Black"/>
              </a:rPr>
              <a:t>SpongeBob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latin typeface="Cooper Black"/>
              <a:ea typeface="Cooper Black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371600" y="648972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scistartlogo2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52280" y="127080"/>
            <a:ext cx="8737560" cy="64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In "Krusty Krab Training Video" what does the P.O.O.P. code stand f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Pencils Or Octopus Patties     B. People Order Our Patties    C. People Order Our Piz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"Sailor Mouth" how many bad words are t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1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 the left, what is the order of the houses in SpongeBob's neighborhoo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Patrick's house, SpongeBob's house, Squidward's 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SpongeBob's house, Squidward's house, Patrick's 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Patrick's house, Squidward's house, SpongeBob's 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ish the song lyrics from "The Best Day Ever". "Jumped outta bed, and I ran outside feelin' so extra-__________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surpris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ecstatifi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sponge-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"Sailor Mouth" SpongeBob, with what word does 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ish the writing the phrase about Squidwar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Go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 B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 Fun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6730920" y="4889520"/>
            <a:ext cx="215100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52280" y="127080"/>
            <a:ext cx="8991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In "Krusty Krab Training Video" what does the P.O.O.P. code stand f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 Pencils Or Octopus Patties     B. People Order Our Patties    C. People Order Our Piz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 "Sailor Mouth" how many bad words are t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 1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 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.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m the left, what is the order of the houses in SpongeBob's neighborho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 Patrick's house, SpongeBob's house, Squidward's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 SpongeBob's house, Squidward's house, Patrick's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. Patrick's house, Squidward's house, SpongeBob's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ish the song lyrics from "The Best Day Ever". "Jumped outta bed, and I ran outside feelin' so extra-__________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 surpris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 ecstatifi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. sponge-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 "Sailor Mouth" SpongeBob, with what word does he finish the writing the phrase about Squidward?  (Squidward smells ____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 Goo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  Ba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.  Fu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3"/>
          <p:cNvSpPr/>
          <p:nvPr/>
        </p:nvSpPr>
        <p:spPr>
          <a:xfrm>
            <a:off x="3048120" y="317520"/>
            <a:ext cx="298440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127080" y="1230480"/>
            <a:ext cx="825480" cy="444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6"/>
          <p:cNvSpPr/>
          <p:nvPr/>
        </p:nvSpPr>
        <p:spPr>
          <a:xfrm>
            <a:off x="1973160" y="3706920"/>
            <a:ext cx="1422360" cy="507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127080" y="4822920"/>
            <a:ext cx="1079280" cy="507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spongebob006.gif"/>
          <p:cNvPicPr/>
          <p:nvPr/>
        </p:nvPicPr>
        <p:blipFill>
          <a:blip r:embed="rId1"/>
          <a:stretch/>
        </p:blipFill>
        <p:spPr>
          <a:xfrm>
            <a:off x="6324480" y="4724280"/>
            <a:ext cx="1676520" cy="183204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11"/>
          <p:cNvGrpSpPr/>
          <p:nvPr/>
        </p:nvGrpSpPr>
        <p:grpSpPr>
          <a:xfrm>
            <a:off x="0" y="1143000"/>
            <a:ext cx="8585280" cy="1981080"/>
            <a:chOff x="0" y="1143000"/>
            <a:chExt cx="8585280" cy="1981080"/>
          </a:xfrm>
        </p:grpSpPr>
        <p:sp>
          <p:nvSpPr>
            <p:cNvPr id="55" name="Oval 5"/>
            <p:cNvSpPr/>
            <p:nvPr/>
          </p:nvSpPr>
          <p:spPr>
            <a:xfrm>
              <a:off x="0" y="2590920"/>
              <a:ext cx="5778720" cy="396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Picture 9" descr=""/>
            <p:cNvPicPr/>
            <p:nvPr/>
          </p:nvPicPr>
          <p:blipFill>
            <a:blip r:embed="rId2"/>
            <a:stretch/>
          </p:blipFill>
          <p:spPr>
            <a:xfrm>
              <a:off x="5943600" y="1143000"/>
              <a:ext cx="2641680" cy="198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31:16Z</dcterms:created>
  <dc:creator>Tracy Trimpe</dc:creator>
  <dc:description/>
  <dc:language>en-US</dc:language>
  <cp:lastModifiedBy>Tracy</cp:lastModifiedBy>
  <dcterms:modified xsi:type="dcterms:W3CDTF">2009-05-02T22:05:22Z</dcterms:modified>
  <cp:revision>6</cp:revision>
  <dc:subject/>
  <dc:title>Slide 1</dc:title>
</cp:coreProperties>
</file>