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42B-AE3E-406A-825D-63DE1503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E3B-99EC-4D95-9F77-701C3D20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144-D418-4A41-B0E5-F4DCF412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958-DA0A-4382-A7EE-9CA2F0A4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9EE-16DE-4DD6-BCDE-9AD4718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A1F-77E1-4A44-A569-7BA8D92B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001-D5CF-4115-AB34-08487DA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B96-B884-4422-A42A-BEC690F3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7D2-C2A3-4951-A3B6-E9CE69C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802-9EF1-4271-A8E3-06E46DC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91A-4EF0-426A-A7F5-A4697B8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BE9-0C37-4A20-BA79-9457EB78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F04-4991-49BE-A136-D340ADA6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Trivia Challenge 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SpongeBob once made a sweater for Squidward. What was it made of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otton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eyelashe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eyebr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state is Sandy Cheeks from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klahom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Nebrask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Tex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One episode Gary attaches to Patrick. What is the name of the sail SpongeBob gets to replace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Lar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Ma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Bar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does Sandy have to fight off of Patrick's Valentine's Day gift from SpongeBob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lam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ea urchin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jellyf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en SpongeBob and Patrick go to a jellyfishing convention, who babysits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Sandy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quidward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Mr. K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801720" cy="86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838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SpongeBob once made a sweater for Squidward. What was it made of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otton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eyelashe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eyebr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state is Sandy Cheeks from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klahom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Nebrask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Tex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One episode Gary attaches to Patrick. What is the name of the sail SpongeBob gets to replace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Lar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Ma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Bar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does Sandy have to fight off of Patrick's Valentine's Day gift from SpongeBob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lam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ea urchin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jellyf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en SpongeBob and Patrick go to a jellyfishing convention, who babysits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Sandy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quidward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Mr. K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762120"/>
            <a:ext cx="16509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828800"/>
            <a:ext cx="16509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276720"/>
            <a:ext cx="14238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648320"/>
            <a:ext cx="14238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6019920"/>
            <a:ext cx="21333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801720" cy="86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838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 Trimpe</cp:lastModifiedBy>
  <dcterms:modified xsi:type="dcterms:W3CDTF">2008-04-06T00:54:12Z</dcterms:modified>
  <cp:revision>5</cp:revision>
  <dc:subject/>
  <dc:title>Slide 1</dc:title>
</cp:coreProperties>
</file>