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093D-DDDA-4396-95D0-54764D3B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BBE-D3CA-4A7B-9605-2DDAEE52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01E5-F1FE-4B48-882B-7932F85A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13E-694D-426E-B796-E57FE44A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A82-CA1F-4722-B690-03CB7945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9DD9-9B07-422F-A396-544F7812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AEBB-2094-4B14-B6E0-14707B54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C902-C302-4847-862E-3D7C3E67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A68-3AF0-45A5-943C-841F98C7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274-5AE6-4A20-8DB4-5DFB7B24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A154-A41B-4015-8C75-9A3098B8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081-F407-467A-B72B-EC32681C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A4E0-EDA1-4EBA-BC7B-F2D3855DD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5181480"/>
            <a:ext cx="8534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Cooper Black"/>
              </a:rPr>
              <a:t>Trivia Challenge #1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156816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04920" y="762120"/>
            <a:ext cx="85341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Cooper Black"/>
              </a:rPr>
              <a:t>SpongeBob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Cooper Black"/>
              <a:ea typeface="Cooper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7080"/>
            <a:ext cx="8737560" cy="63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. SpongeBob once made a sweater for Squidward. What was it made of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cotton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eyelashes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eyebro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. What state is Sandy Cheeks from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Oklahoma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Nebraska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Tex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. One episode Gary attaches to Patrick. What is the name of the sail SpongeBob gets to replace Gary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Larry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Mary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Bar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4. What does Sandy have to fight off of Patrick's Valentine's Day gift from SpongeBob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clams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sea urchins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jellyfis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. When SpongeBob and Patrick go to a jellyfishing convention, who babysits Gary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Sandy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Squidward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Mr. Krab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801720" cy="865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772400" y="5867280"/>
            <a:ext cx="8380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27080"/>
            <a:ext cx="8737560" cy="63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. SpongeBob once made a sweater for Squidward. What was it made of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cotton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eyelashes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eyebro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. What state is Sandy Cheeks from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Oklahoma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Nebraska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Tex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. One episode Gary attaches to Patrick. What is the name of the sail SpongeBob gets to replace Gary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Larry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Mary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Bar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4. What does Sandy have to fight off of Patrick's Valentine's Day gift from SpongeBob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clams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sea urchins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jellyfis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. When SpongeBob and Patrick go to a jellyfishing convention, who babysits Gary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Sandy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Squidward    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Mr. Krab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762120"/>
            <a:ext cx="165096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828800"/>
            <a:ext cx="1650960" cy="571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3276720"/>
            <a:ext cx="142380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648320"/>
            <a:ext cx="142380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6019920"/>
            <a:ext cx="213336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801720" cy="865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772400" y="5867280"/>
            <a:ext cx="8380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31:16Z</dcterms:created>
  <dc:creator>Tracy Trimpe</dc:creator>
  <dc:description/>
  <dc:language>en-US</dc:language>
  <cp:lastModifiedBy>Tracy Trimpe</cp:lastModifiedBy>
  <dcterms:modified xsi:type="dcterms:W3CDTF">2008-04-06T00:54:12Z</dcterms:modified>
  <cp:revision>5</cp:revision>
  <dc:subject/>
  <dc:title>Slide 1</dc:title>
</cp:coreProperties>
</file>