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BE5-719A-416A-A9B6-FDF40D7C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B35-C2E4-432B-9A0D-0D1A0EB1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167-926F-446C-BCDD-A4849892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7C3-CF52-4066-95B4-D53800EE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44A-C84D-453B-AEE7-41E1C7FE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628-973D-4ECD-B299-2857B33E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A42-7DD9-4B20-B178-D8AF5013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B03-B272-4716-9148-C2E68AD7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770-1F1B-4A1F-A1C5-A29E9EF2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695-C725-424C-A4BA-29A43C20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A54-17FF-44A1-8D71-BE5111E0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7E3-D078-464B-8A7F-FA0B9F2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9675-B158-43C1-A83C-B18620D05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04920" y="5181480"/>
            <a:ext cx="8534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Trivia Challenge 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156816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304920" y="7621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SpongeBob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127080"/>
            <a:ext cx="899172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. What is the name of Plankton's restaurant (his wannabe Krusty Krabs)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hum Bucket   b. Plankton   c. Crispy Cra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. What type of animal is Mr. Crab's daughte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octopus       b. whale       c. cra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. In what episode does SpongeBob suck all of the water out of the oce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Reef Blower     b. Dry and Toasty     c. Uh O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. What is the name of the illness that SpongeBob has when he has bubbles coming out of his pore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The Blubbly       b. Spongitus       c. The Su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. What instrument does Squidward pla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flute       b. clarinet       c. trump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krabs2.gif"/>
          <p:cNvPicPr/>
          <p:nvPr/>
        </p:nvPicPr>
        <p:blipFill>
          <a:blip r:embed="rId1"/>
          <a:stretch/>
        </p:blipFill>
        <p:spPr>
          <a:xfrm>
            <a:off x="6705720" y="762120"/>
            <a:ext cx="1792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7080"/>
            <a:ext cx="899172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. What is the name of Plankton's restaurant (his wannabe Krusty Krabs)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hum Bucket   b. Plankton   c. Crispy Cra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. What type of animal is Mr. Crab's daughte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octopus       b. whale       c. cra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. In what episode does SpongeBob suck all of the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ater out of the oce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Reef Blower     b. Dry and Toasty     c. Uh O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. What is the name of the illness that SpongeBob has when he has bubbles coming out of his pore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The Blubbly       b. Spongitus       c. The Su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. What instrument does Squidward pla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flute       b. clarinet       c. trump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39840" y="700200"/>
            <a:ext cx="2057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81080" y="1801800"/>
            <a:ext cx="139716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228600" y="3276720"/>
            <a:ext cx="213372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4572000" y="4648320"/>
            <a:ext cx="158760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600200" y="5715000"/>
            <a:ext cx="158760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spongebobgary.gif"/>
          <p:cNvPicPr/>
          <p:nvPr/>
        </p:nvPicPr>
        <p:blipFill>
          <a:blip r:embed="rId1"/>
          <a:stretch/>
        </p:blipFill>
        <p:spPr>
          <a:xfrm>
            <a:off x="6934320" y="1143000"/>
            <a:ext cx="16570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31:16Z</dcterms:created>
  <dc:creator>Tracy Trimpe</dc:creator>
  <dc:description/>
  <dc:language>en-US</dc:language>
  <cp:lastModifiedBy>Tracy</cp:lastModifiedBy>
  <dcterms:modified xsi:type="dcterms:W3CDTF">2009-05-02T22:10:19Z</dcterms:modified>
  <cp:revision>6</cp:revision>
  <dc:subject/>
  <dc:title>Slide 1</dc:title>
</cp:coreProperties>
</file>