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F37-67EE-422B-A123-E05CFA3D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F30-0AAD-474C-8CD8-5DA8AA12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4D4-4257-484B-9C17-CF4A81B9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5E2-4749-4360-8D52-F19D0E9B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464-E3B3-4D6C-BDCB-8626033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C46-9632-431A-BCE2-B52FC285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1C7-3548-4FD6-97E1-CB89EC56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CA6-28CE-4CD0-9A61-1494F3F5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C26-9CA7-45CD-A9B6-0A0C1711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226-05BC-4698-B276-D4ADB7E8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2F5-A469-4F55-BA11-ED278711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D87-F0C3-4970-9756-3D3626F7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0EE0-4817-41F4-A389-21E37C63E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04920" y="5181480"/>
            <a:ext cx="8534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Trivia Challenge 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156816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304920" y="762120"/>
            <a:ext cx="8534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SpongeBob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127080"/>
            <a:ext cx="899172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. What is the name of Plankton's restaurant (his wannabe Krusty Krabs)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hum Bucket   b. Plankton   c. Crispy Cra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. What type of animal is Mr. Crab's daughte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octopus       b. whale       c. cra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. In what episode does SpongeBob suck all of the water out of the ocea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Reef Blower     b. Dry and Toasty     c. Uh O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. What is the name of the illness that SpongeBob has when he has bubbles coming out of his pore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The Blubbly       b. Spongitus       c. The Su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. What instrument does Squidward pla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flute       b. clarinet       c. trump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krabs2.gif"/>
          <p:cNvPicPr/>
          <p:nvPr/>
        </p:nvPicPr>
        <p:blipFill>
          <a:blip r:embed="rId1"/>
          <a:stretch/>
        </p:blipFill>
        <p:spPr>
          <a:xfrm>
            <a:off x="6705720" y="762120"/>
            <a:ext cx="1792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27080"/>
            <a:ext cx="899172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. What is the name of Plankton's restaurant (his wannabe Krusty Krabs)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Chum Bucket   b. Plankton   c. Crispy Crab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. What type of animal is Mr. Crab's daughter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octopus       b. whale       c. cra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. In what episode does SpongeBob suck all of the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ater out of the ocea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Reef Blower     b. Dry and Toasty     c. Uh O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. What is the name of the illness that SpongeBob has when he has bubbles coming out of his pore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The Blubbly       b. Spongitus       c. The Su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. What instrument does Squidward play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. flute       b. clarinet       c. trump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39840" y="700200"/>
            <a:ext cx="2057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81080" y="1801800"/>
            <a:ext cx="139716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228600" y="3276720"/>
            <a:ext cx="213372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4572000" y="4648320"/>
            <a:ext cx="158760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1600200" y="5715000"/>
            <a:ext cx="158760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spongebobgary.gif"/>
          <p:cNvPicPr/>
          <p:nvPr/>
        </p:nvPicPr>
        <p:blipFill>
          <a:blip r:embed="rId1"/>
          <a:stretch/>
        </p:blipFill>
        <p:spPr>
          <a:xfrm>
            <a:off x="6934320" y="1143000"/>
            <a:ext cx="16570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31:16Z</dcterms:created>
  <dc:creator>Tracy Trimpe</dc:creator>
  <dc:description/>
  <dc:language>en-US</dc:language>
  <cp:lastModifiedBy>Tracy</cp:lastModifiedBy>
  <dcterms:modified xsi:type="dcterms:W3CDTF">2009-05-02T22:10:19Z</dcterms:modified>
  <cp:revision>6</cp:revision>
  <dc:subject/>
  <dc:title>Slide 1</dc:title>
</cp:coreProperties>
</file>