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7B1-8B0D-463F-BC3D-EC082299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125-8292-4FAD-9F39-E237EA5E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B9C-D154-4F02-ACB2-FF5BA6E4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B09-8D10-47E7-94FB-8072FEAD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31D-0A80-42B9-B439-543F756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AC0-4EA9-4D55-BADF-6FB4C745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3E2-37C3-4F7D-AAC5-8975F661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338-5071-46C8-B856-AE0BAEE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5E3-33CC-43A2-83B9-9E98024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65D-7032-42E7-B5C5-F8E4B51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F50-5E28-4C0E-8BE7-162CFC9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9E5-0462-484C-9AE3-1BD5EC5C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BC33-22B8-454E-AA25-40E128CAC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63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ne of SpongeBob’s cousins with hybrid round eyes (Rr) had children with someone who also had hybrid round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Another of SpongeBob’s cousins with hybrid round eyes (Rr) had children with someone who has oval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179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90440"/>
            <a:ext cx="873756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ne of SpongeBob’s cousins with hybrid round eyes (Rr) had children with someone who also had hybrid round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701720" y="2127240"/>
            <a:ext cx="2019240" cy="1886040"/>
            <a:chOff x="1701720" y="2127240"/>
            <a:chExt cx="2019240" cy="1886040"/>
          </a:xfrm>
        </p:grpSpPr>
        <p:sp>
          <p:nvSpPr>
            <p:cNvPr id="74" name=""/>
            <p:cNvSpPr/>
            <p:nvPr/>
          </p:nvSpPr>
          <p:spPr>
            <a:xfrm>
              <a:off x="1701720" y="2127240"/>
              <a:ext cx="2019240" cy="1886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701720" y="2127240"/>
              <a:ext cx="2019240" cy="1886040"/>
              <a:chOff x="1701720" y="2127240"/>
              <a:chExt cx="2019240" cy="1886040"/>
            </a:xfrm>
          </p:grpSpPr>
          <p:sp>
            <p:nvSpPr>
              <p:cNvPr id="76" name=""/>
              <p:cNvSpPr/>
              <p:nvPr/>
            </p:nvSpPr>
            <p:spPr>
              <a:xfrm>
                <a:off x="2711160" y="2127240"/>
                <a:ext cx="0" cy="18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701720" y="307008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1092240" y="2330280"/>
            <a:ext cx="533520" cy="1557000"/>
            <a:chOff x="1092240" y="2330280"/>
            <a:chExt cx="533520" cy="1557000"/>
          </a:xfrm>
        </p:grpSpPr>
        <p:sp>
          <p:nvSpPr>
            <p:cNvPr id="79" name=""/>
            <p:cNvSpPr/>
            <p:nvPr/>
          </p:nvSpPr>
          <p:spPr>
            <a:xfrm>
              <a:off x="1092240" y="23302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32446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006640" y="1415880"/>
            <a:ext cx="1523520" cy="642600"/>
            <a:chOff x="2006640" y="1415880"/>
            <a:chExt cx="1523520" cy="642600"/>
          </a:xfrm>
        </p:grpSpPr>
        <p:sp>
          <p:nvSpPr>
            <p:cNvPr id="82" name=""/>
            <p:cNvSpPr/>
            <p:nvPr/>
          </p:nvSpPr>
          <p:spPr>
            <a:xfrm>
              <a:off x="2006640" y="14158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97000" y="14158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52480" y="2317680"/>
            <a:ext cx="1943280" cy="1525320"/>
            <a:chOff x="1752480" y="2317680"/>
            <a:chExt cx="1943280" cy="1525320"/>
          </a:xfrm>
        </p:grpSpPr>
        <p:sp>
          <p:nvSpPr>
            <p:cNvPr id="85" name=""/>
            <p:cNvSpPr/>
            <p:nvPr/>
          </p:nvSpPr>
          <p:spPr>
            <a:xfrm>
              <a:off x="1752480" y="2317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3200" y="2317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32004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32004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019920" y="3733920"/>
            <a:ext cx="243828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Round ey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Round ey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Oval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495288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90440"/>
            <a:ext cx="873756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One of SpongeBob’s cousins with hybrid round eyes (Rr) had children with someone who has oval eyes (r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reate a Punnett square to show the possible offspring that would result from this cro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Give the genotypes and phenotypes of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What percentage of the children should have round ey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62320" y="2228760"/>
            <a:ext cx="2019240" cy="1886040"/>
            <a:chOff x="2362320" y="2228760"/>
            <a:chExt cx="2019240" cy="1886040"/>
          </a:xfrm>
        </p:grpSpPr>
        <p:sp>
          <p:nvSpPr>
            <p:cNvPr id="93" name=""/>
            <p:cNvSpPr/>
            <p:nvPr/>
          </p:nvSpPr>
          <p:spPr>
            <a:xfrm>
              <a:off x="2362320" y="2228760"/>
              <a:ext cx="2019240" cy="1886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362320" y="2228760"/>
              <a:ext cx="2019240" cy="1886040"/>
              <a:chOff x="2362320" y="2228760"/>
              <a:chExt cx="2019240" cy="1886040"/>
            </a:xfrm>
          </p:grpSpPr>
          <p:sp>
            <p:nvSpPr>
              <p:cNvPr id="95" name=""/>
              <p:cNvSpPr/>
              <p:nvPr/>
            </p:nvSpPr>
            <p:spPr>
              <a:xfrm>
                <a:off x="3371760" y="2228760"/>
                <a:ext cx="0" cy="188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362320" y="31716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"/>
          <p:cNvGrpSpPr/>
          <p:nvPr/>
        </p:nvGrpSpPr>
        <p:grpSpPr>
          <a:xfrm>
            <a:off x="1752480" y="2432160"/>
            <a:ext cx="533520" cy="1556640"/>
            <a:chOff x="1752480" y="2432160"/>
            <a:chExt cx="533520" cy="1556640"/>
          </a:xfrm>
        </p:grpSpPr>
        <p:sp>
          <p:nvSpPr>
            <p:cNvPr id="98" name=""/>
            <p:cNvSpPr/>
            <p:nvPr/>
          </p:nvSpPr>
          <p:spPr>
            <a:xfrm>
              <a:off x="1752480" y="24321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52480" y="33462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666880" y="1517760"/>
            <a:ext cx="1524240" cy="642600"/>
            <a:chOff x="2666880" y="1517760"/>
            <a:chExt cx="1524240" cy="642600"/>
          </a:xfrm>
        </p:grpSpPr>
        <p:sp>
          <p:nvSpPr>
            <p:cNvPr id="101" name=""/>
            <p:cNvSpPr/>
            <p:nvPr/>
          </p:nvSpPr>
          <p:spPr>
            <a:xfrm>
              <a:off x="2666880" y="15177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15177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438280" y="2432160"/>
            <a:ext cx="1828800" cy="1525320"/>
            <a:chOff x="2438280" y="2432160"/>
            <a:chExt cx="1828800" cy="1525320"/>
          </a:xfrm>
        </p:grpSpPr>
        <p:sp>
          <p:nvSpPr>
            <p:cNvPr id="104" name=""/>
            <p:cNvSpPr/>
            <p:nvPr/>
          </p:nvSpPr>
          <p:spPr>
            <a:xfrm>
              <a:off x="2438280" y="2432160"/>
              <a:ext cx="838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9000" y="2432160"/>
              <a:ext cx="8380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3314880"/>
              <a:ext cx="838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3314880"/>
              <a:ext cx="8380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943600" y="4114800"/>
            <a:ext cx="2666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Round ey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 = Oval e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19840" y="495288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8:17Z</dcterms:modified>
  <cp:revision>10</cp:revision>
  <dc:subject/>
  <dc:title>Slide 1</dc:title>
</cp:coreProperties>
</file>