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B4C-2585-4BF4-98B7-FD754329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3D8-5FC3-40FF-B67B-8F0292E5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124F-0D69-4246-9C37-041E534E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4E2-EB9A-4736-917E-FF583FF6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895-F92E-4D46-9432-C436D18A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F1FD-BD17-4838-BAC0-777EBC2C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ED5-CEEC-4EE2-B1D8-0373DE07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3C7B-0CE5-4822-9EA7-E5AB66C4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F1B2-D8CA-4566-BF03-746DBFC6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97CE-07E0-4204-A135-0B5CC9E8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64C-5B20-4C28-91DE-73C90822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1393-0D51-4A0E-9A68-203C83C9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6DC3-0422-45D4-A60A-66BE47433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57600" y="5638680"/>
            <a:ext cx="14986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#5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35040" y="888840"/>
            <a:ext cx="787392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atin typeface="Cooper Black"/>
              </a:rPr>
              <a:t>Punnett Practic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latin typeface="Cooper Black"/>
              <a:ea typeface="Cooper Black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7800" y="3844800"/>
            <a:ext cx="2130840" cy="2108160"/>
            <a:chOff x="577800" y="3844800"/>
            <a:chExt cx="2130840" cy="2108160"/>
          </a:xfrm>
        </p:grpSpPr>
        <p:sp>
          <p:nvSpPr>
            <p:cNvPr id="44" name=""/>
            <p:cNvSpPr/>
            <p:nvPr/>
          </p:nvSpPr>
          <p:spPr>
            <a:xfrm rot="19696800">
              <a:off x="855720" y="4146120"/>
              <a:ext cx="1574640" cy="1505160"/>
            </a:xfrm>
            <a:prstGeom prst="rect">
              <a:avLst/>
            </a:prstGeom>
            <a:solidFill>
              <a:srgbClr val="cc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973440" y="4258800"/>
              <a:ext cx="1339200" cy="1280520"/>
              <a:chOff x="973440" y="4258800"/>
              <a:chExt cx="1339200" cy="1280520"/>
            </a:xfrm>
          </p:grpSpPr>
          <p:sp>
            <p:nvSpPr>
              <p:cNvPr id="46" name=""/>
              <p:cNvSpPr/>
              <p:nvPr/>
            </p:nvSpPr>
            <p:spPr>
              <a:xfrm>
                <a:off x="1247400" y="4258800"/>
                <a:ext cx="791280" cy="12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V="1">
                <a:off x="973440" y="4484880"/>
                <a:ext cx="1339200" cy="82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" name=""/>
          <p:cNvGrpSpPr/>
          <p:nvPr/>
        </p:nvGrpSpPr>
        <p:grpSpPr>
          <a:xfrm>
            <a:off x="6254280" y="3879720"/>
            <a:ext cx="2147040" cy="2127960"/>
            <a:chOff x="6254280" y="3879720"/>
            <a:chExt cx="2147040" cy="2127960"/>
          </a:xfrm>
        </p:grpSpPr>
        <p:sp>
          <p:nvSpPr>
            <p:cNvPr id="49" name=""/>
            <p:cNvSpPr/>
            <p:nvPr/>
          </p:nvSpPr>
          <p:spPr>
            <a:xfrm rot="2038800">
              <a:off x="6540120" y="4191120"/>
              <a:ext cx="1575000" cy="1504800"/>
            </a:xfrm>
            <a:prstGeom prst="rect">
              <a:avLst/>
            </a:prstGeom>
            <a:solidFill>
              <a:srgbClr val="33cc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6674760" y="4319640"/>
              <a:ext cx="1306440" cy="1247760"/>
              <a:chOff x="6674760" y="4319640"/>
              <a:chExt cx="1306440" cy="1247760"/>
            </a:xfrm>
          </p:grpSpPr>
          <p:sp>
            <p:nvSpPr>
              <p:cNvPr id="51" name=""/>
              <p:cNvSpPr/>
              <p:nvPr/>
            </p:nvSpPr>
            <p:spPr>
              <a:xfrm flipH="1">
                <a:off x="6907320" y="4319640"/>
                <a:ext cx="840960" cy="12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674760" y="4503600"/>
                <a:ext cx="1306440" cy="88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3864960" y="4235400"/>
            <a:ext cx="1210680" cy="1117440"/>
            <a:chOff x="3864960" y="4235400"/>
            <a:chExt cx="1210680" cy="1117440"/>
          </a:xfrm>
        </p:grpSpPr>
        <p:sp>
          <p:nvSpPr>
            <p:cNvPr id="54" name=""/>
            <p:cNvSpPr/>
            <p:nvPr/>
          </p:nvSpPr>
          <p:spPr>
            <a:xfrm rot="576600">
              <a:off x="3936960" y="4317480"/>
              <a:ext cx="1066680" cy="95256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3944520" y="4324680"/>
              <a:ext cx="1051560" cy="938880"/>
              <a:chOff x="3944520" y="4324680"/>
              <a:chExt cx="1051560" cy="93888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4390560" y="4324680"/>
                <a:ext cx="159120" cy="93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944520" y="4705200"/>
                <a:ext cx="105156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510160" y="317880"/>
            <a:ext cx="917640" cy="824760"/>
            <a:chOff x="5510160" y="317880"/>
            <a:chExt cx="917640" cy="824760"/>
          </a:xfrm>
        </p:grpSpPr>
        <p:sp>
          <p:nvSpPr>
            <p:cNvPr id="59" name=""/>
            <p:cNvSpPr/>
            <p:nvPr/>
          </p:nvSpPr>
          <p:spPr>
            <a:xfrm rot="576600">
              <a:off x="5562720" y="380520"/>
              <a:ext cx="812520" cy="69876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568480" y="385920"/>
              <a:ext cx="801000" cy="688680"/>
              <a:chOff x="5568480" y="385920"/>
              <a:chExt cx="801000" cy="688680"/>
            </a:xfrm>
          </p:grpSpPr>
          <p:sp>
            <p:nvSpPr>
              <p:cNvPr id="61" name=""/>
              <p:cNvSpPr/>
              <p:nvPr/>
            </p:nvSpPr>
            <p:spPr>
              <a:xfrm flipH="1">
                <a:off x="5910480" y="385920"/>
                <a:ext cx="116640" cy="68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568480" y="662400"/>
                <a:ext cx="80100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2585160" y="309240"/>
            <a:ext cx="1027440" cy="969480"/>
            <a:chOff x="2585160" y="309240"/>
            <a:chExt cx="1027440" cy="969480"/>
          </a:xfrm>
        </p:grpSpPr>
        <p:sp>
          <p:nvSpPr>
            <p:cNvPr id="64" name=""/>
            <p:cNvSpPr/>
            <p:nvPr/>
          </p:nvSpPr>
          <p:spPr>
            <a:xfrm rot="20151600">
              <a:off x="2692080" y="444600"/>
              <a:ext cx="812880" cy="6984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2728080" y="475200"/>
              <a:ext cx="741600" cy="637200"/>
              <a:chOff x="2728080" y="475200"/>
              <a:chExt cx="741600" cy="637200"/>
            </a:xfrm>
          </p:grpSpPr>
          <p:sp>
            <p:nvSpPr>
              <p:cNvPr id="66" name=""/>
              <p:cNvSpPr/>
              <p:nvPr/>
            </p:nvSpPr>
            <p:spPr>
              <a:xfrm>
                <a:off x="2955960" y="475200"/>
                <a:ext cx="285840" cy="63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2728080" y="627480"/>
                <a:ext cx="741600" cy="33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5181480" y="6489720"/>
            <a:ext cx="381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190440"/>
            <a:ext cx="8737560" cy="63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One of SpongeBob’s cousins with hybrid round eyes (Rr) had children with someone who also had hybrid round eyes (R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Create a Punnett square to show the possible offspring that would resul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this cro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Give the genotypes and phenotypes of the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What percentage of the children should have round ey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Another of SpongeBob’s cousins with hybrid round eyes (Rr) had children with someone who has oval eyes (r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Create a Punnett square to show the possible offspring that would resul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this cro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Give the genotypes and phenotypes of the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What percentage of the children should have round ey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0120" y="1752480"/>
            <a:ext cx="11793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190440"/>
            <a:ext cx="873756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One of SpongeBob’s cousins with hybrid round eyes (Rr) had children with someone who also had hybrid round eyes (R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Create a Punnett square to show the possible offspring that would result from this cro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Give the genotypes and phenotypes of the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What percentage of the children should have round ey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701720" y="2127240"/>
            <a:ext cx="2019240" cy="1886040"/>
            <a:chOff x="1701720" y="2127240"/>
            <a:chExt cx="2019240" cy="1886040"/>
          </a:xfrm>
        </p:grpSpPr>
        <p:sp>
          <p:nvSpPr>
            <p:cNvPr id="74" name=""/>
            <p:cNvSpPr/>
            <p:nvPr/>
          </p:nvSpPr>
          <p:spPr>
            <a:xfrm>
              <a:off x="1701720" y="2127240"/>
              <a:ext cx="2019240" cy="1886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1701720" y="2127240"/>
              <a:ext cx="2019240" cy="1886040"/>
              <a:chOff x="1701720" y="2127240"/>
              <a:chExt cx="2019240" cy="1886040"/>
            </a:xfrm>
          </p:grpSpPr>
          <p:sp>
            <p:nvSpPr>
              <p:cNvPr id="76" name=""/>
              <p:cNvSpPr/>
              <p:nvPr/>
            </p:nvSpPr>
            <p:spPr>
              <a:xfrm>
                <a:off x="2711160" y="2127240"/>
                <a:ext cx="0" cy="188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701720" y="3070080"/>
                <a:ext cx="201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"/>
          <p:cNvGrpSpPr/>
          <p:nvPr/>
        </p:nvGrpSpPr>
        <p:grpSpPr>
          <a:xfrm>
            <a:off x="1092240" y="2330280"/>
            <a:ext cx="533520" cy="1557000"/>
            <a:chOff x="1092240" y="2330280"/>
            <a:chExt cx="533520" cy="1557000"/>
          </a:xfrm>
        </p:grpSpPr>
        <p:sp>
          <p:nvSpPr>
            <p:cNvPr id="79" name=""/>
            <p:cNvSpPr/>
            <p:nvPr/>
          </p:nvSpPr>
          <p:spPr>
            <a:xfrm>
              <a:off x="1092240" y="233028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92240" y="324468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006640" y="1415880"/>
            <a:ext cx="1523520" cy="642600"/>
            <a:chOff x="2006640" y="1415880"/>
            <a:chExt cx="1523520" cy="642600"/>
          </a:xfrm>
        </p:grpSpPr>
        <p:sp>
          <p:nvSpPr>
            <p:cNvPr id="82" name=""/>
            <p:cNvSpPr/>
            <p:nvPr/>
          </p:nvSpPr>
          <p:spPr>
            <a:xfrm>
              <a:off x="2006640" y="141588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97000" y="141588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752480" y="2317680"/>
            <a:ext cx="1943280" cy="1525320"/>
            <a:chOff x="1752480" y="2317680"/>
            <a:chExt cx="1943280" cy="1525320"/>
          </a:xfrm>
        </p:grpSpPr>
        <p:sp>
          <p:nvSpPr>
            <p:cNvPr id="85" name=""/>
            <p:cNvSpPr/>
            <p:nvPr/>
          </p:nvSpPr>
          <p:spPr>
            <a:xfrm>
              <a:off x="1752480" y="231768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43200" y="231768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52480" y="320040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3200" y="320040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019920" y="3733920"/>
            <a:ext cx="243828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R = Round ey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r = Round ey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r = Oval 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81680" y="4952880"/>
            <a:ext cx="914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190440"/>
            <a:ext cx="873756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One of SpongeBob’s cousins with hybrid round eyes (Rr) had children with someone who has oval eyes (r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Create a Punnett square to show the possible offspring that would result from this cro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Give the genotypes and phenotypes of the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What percentage of the children should have round ey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362320" y="2228760"/>
            <a:ext cx="2019240" cy="1886040"/>
            <a:chOff x="2362320" y="2228760"/>
            <a:chExt cx="2019240" cy="1886040"/>
          </a:xfrm>
        </p:grpSpPr>
        <p:sp>
          <p:nvSpPr>
            <p:cNvPr id="93" name=""/>
            <p:cNvSpPr/>
            <p:nvPr/>
          </p:nvSpPr>
          <p:spPr>
            <a:xfrm>
              <a:off x="2362320" y="2228760"/>
              <a:ext cx="2019240" cy="1886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2362320" y="2228760"/>
              <a:ext cx="2019240" cy="1886040"/>
              <a:chOff x="2362320" y="2228760"/>
              <a:chExt cx="2019240" cy="1886040"/>
            </a:xfrm>
          </p:grpSpPr>
          <p:sp>
            <p:nvSpPr>
              <p:cNvPr id="95" name=""/>
              <p:cNvSpPr/>
              <p:nvPr/>
            </p:nvSpPr>
            <p:spPr>
              <a:xfrm>
                <a:off x="3371760" y="2228760"/>
                <a:ext cx="0" cy="188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362320" y="3171600"/>
                <a:ext cx="201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"/>
          <p:cNvGrpSpPr/>
          <p:nvPr/>
        </p:nvGrpSpPr>
        <p:grpSpPr>
          <a:xfrm>
            <a:off x="1752480" y="2432160"/>
            <a:ext cx="533520" cy="1556640"/>
            <a:chOff x="1752480" y="2432160"/>
            <a:chExt cx="533520" cy="1556640"/>
          </a:xfrm>
        </p:grpSpPr>
        <p:sp>
          <p:nvSpPr>
            <p:cNvPr id="98" name=""/>
            <p:cNvSpPr/>
            <p:nvPr/>
          </p:nvSpPr>
          <p:spPr>
            <a:xfrm>
              <a:off x="1752480" y="243216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52480" y="334620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666880" y="1517760"/>
            <a:ext cx="1524240" cy="642600"/>
            <a:chOff x="2666880" y="1517760"/>
            <a:chExt cx="1524240" cy="642600"/>
          </a:xfrm>
        </p:grpSpPr>
        <p:sp>
          <p:nvSpPr>
            <p:cNvPr id="101" name=""/>
            <p:cNvSpPr/>
            <p:nvPr/>
          </p:nvSpPr>
          <p:spPr>
            <a:xfrm>
              <a:off x="2666880" y="151776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57600" y="151776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438280" y="2432160"/>
            <a:ext cx="1828800" cy="1525320"/>
            <a:chOff x="2438280" y="2432160"/>
            <a:chExt cx="1828800" cy="1525320"/>
          </a:xfrm>
        </p:grpSpPr>
        <p:sp>
          <p:nvSpPr>
            <p:cNvPr id="104" name=""/>
            <p:cNvSpPr/>
            <p:nvPr/>
          </p:nvSpPr>
          <p:spPr>
            <a:xfrm>
              <a:off x="2438280" y="2432160"/>
              <a:ext cx="8384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29000" y="2432160"/>
              <a:ext cx="83808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38280" y="3314880"/>
              <a:ext cx="8384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3314880"/>
              <a:ext cx="83808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943600" y="4114800"/>
            <a:ext cx="26668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r = Round ey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r = Oval 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19840" y="4952880"/>
            <a:ext cx="914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1:53:26Z</dcterms:created>
  <dc:creator>Tracy Trimpe</dc:creator>
  <dc:description/>
  <dc:language>en-US</dc:language>
  <cp:lastModifiedBy>Tracy Trimpe</cp:lastModifiedBy>
  <dcterms:modified xsi:type="dcterms:W3CDTF">2008-06-03T04:28:17Z</dcterms:modified>
  <cp:revision>10</cp:revision>
  <dc:subject/>
  <dc:title>Slide 1</dc:title>
</cp:coreProperties>
</file>