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F7B-5A15-4ACC-B8F7-344FB1EC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E03-5BEE-4E2B-88C1-50DF7CCB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1A5-4F54-496D-BE2E-E7DC8FEC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293-9B98-420C-9579-0B7CAC84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2EE-E7EB-4714-AE42-8E225FBD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481-6F7A-42D0-8C34-58D5CE6D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800-132C-445F-89A2-4CA8CCEA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D2A-1392-4B89-8734-75ED782C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2A12-E9B1-410C-B4A8-A21F67C6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AE8-91F7-407F-9368-E415F751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190-BC1B-4AAE-BEBC-AFDD9B8D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AC1-8047-4702-9641-1598C3BC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099B-4A46-4CE9-9030-E184F70E0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5638680"/>
            <a:ext cx="149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#4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5040" y="888840"/>
            <a:ext cx="7873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Punnett Practic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7800" y="3844800"/>
            <a:ext cx="2130840" cy="2108160"/>
            <a:chOff x="577800" y="3844800"/>
            <a:chExt cx="2130840" cy="2108160"/>
          </a:xfrm>
        </p:grpSpPr>
        <p:sp>
          <p:nvSpPr>
            <p:cNvPr id="44" name=""/>
            <p:cNvSpPr/>
            <p:nvPr/>
          </p:nvSpPr>
          <p:spPr>
            <a:xfrm rot="19696800">
              <a:off x="855720" y="4146120"/>
              <a:ext cx="1574640" cy="1505160"/>
            </a:xfrm>
            <a:prstGeom prst="rect">
              <a:avLst/>
            </a:prstGeom>
            <a:solidFill>
              <a:srgbClr val="cc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73440" y="4258800"/>
              <a:ext cx="1339200" cy="1280520"/>
              <a:chOff x="973440" y="4258800"/>
              <a:chExt cx="1339200" cy="1280520"/>
            </a:xfrm>
          </p:grpSpPr>
          <p:sp>
            <p:nvSpPr>
              <p:cNvPr id="46" name=""/>
              <p:cNvSpPr/>
              <p:nvPr/>
            </p:nvSpPr>
            <p:spPr>
              <a:xfrm>
                <a:off x="1247400" y="4258800"/>
                <a:ext cx="791280" cy="12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973440" y="4484880"/>
                <a:ext cx="1339200" cy="8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6254280" y="3879720"/>
            <a:ext cx="2147040" cy="2127960"/>
            <a:chOff x="6254280" y="3879720"/>
            <a:chExt cx="2147040" cy="2127960"/>
          </a:xfrm>
        </p:grpSpPr>
        <p:sp>
          <p:nvSpPr>
            <p:cNvPr id="49" name=""/>
            <p:cNvSpPr/>
            <p:nvPr/>
          </p:nvSpPr>
          <p:spPr>
            <a:xfrm rot="2038800">
              <a:off x="6540120" y="4191120"/>
              <a:ext cx="1575000" cy="1504800"/>
            </a:xfrm>
            <a:prstGeom prst="rect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674760" y="4319640"/>
              <a:ext cx="1306440" cy="1247760"/>
              <a:chOff x="6674760" y="4319640"/>
              <a:chExt cx="1306440" cy="124776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6907320" y="4319640"/>
                <a:ext cx="840960" cy="12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74760" y="4503600"/>
                <a:ext cx="1306440" cy="88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864960" y="4235400"/>
            <a:ext cx="1210680" cy="1117440"/>
            <a:chOff x="3864960" y="4235400"/>
            <a:chExt cx="1210680" cy="1117440"/>
          </a:xfrm>
        </p:grpSpPr>
        <p:sp>
          <p:nvSpPr>
            <p:cNvPr id="54" name=""/>
            <p:cNvSpPr/>
            <p:nvPr/>
          </p:nvSpPr>
          <p:spPr>
            <a:xfrm rot="576600">
              <a:off x="3936960" y="4317480"/>
              <a:ext cx="1066680" cy="9525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944520" y="4324680"/>
              <a:ext cx="1051560" cy="938880"/>
              <a:chOff x="3944520" y="4324680"/>
              <a:chExt cx="1051560" cy="93888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390560" y="4324680"/>
                <a:ext cx="159120" cy="9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44520" y="4705200"/>
                <a:ext cx="1051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510160" y="317880"/>
            <a:ext cx="917640" cy="824760"/>
            <a:chOff x="5510160" y="317880"/>
            <a:chExt cx="917640" cy="824760"/>
          </a:xfrm>
        </p:grpSpPr>
        <p:sp>
          <p:nvSpPr>
            <p:cNvPr id="59" name=""/>
            <p:cNvSpPr/>
            <p:nvPr/>
          </p:nvSpPr>
          <p:spPr>
            <a:xfrm rot="576600">
              <a:off x="5562720" y="380520"/>
              <a:ext cx="812520" cy="69876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68480" y="385920"/>
              <a:ext cx="801000" cy="688680"/>
              <a:chOff x="5568480" y="385920"/>
              <a:chExt cx="801000" cy="68868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910480" y="385920"/>
                <a:ext cx="116640" cy="68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8480" y="662400"/>
                <a:ext cx="80100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2585160" y="309240"/>
            <a:ext cx="1027440" cy="969480"/>
            <a:chOff x="2585160" y="309240"/>
            <a:chExt cx="1027440" cy="969480"/>
          </a:xfrm>
        </p:grpSpPr>
        <p:sp>
          <p:nvSpPr>
            <p:cNvPr id="64" name=""/>
            <p:cNvSpPr/>
            <p:nvPr/>
          </p:nvSpPr>
          <p:spPr>
            <a:xfrm rot="20151600">
              <a:off x="2692080" y="444600"/>
              <a:ext cx="812880" cy="698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728080" y="475200"/>
              <a:ext cx="741600" cy="637200"/>
              <a:chOff x="2728080" y="475200"/>
              <a:chExt cx="741600" cy="637200"/>
            </a:xfrm>
          </p:grpSpPr>
          <p:sp>
            <p:nvSpPr>
              <p:cNvPr id="66" name=""/>
              <p:cNvSpPr/>
              <p:nvPr/>
            </p:nvSpPr>
            <p:spPr>
              <a:xfrm>
                <a:off x="2955960" y="475200"/>
                <a:ext cx="285840" cy="6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728080" y="627480"/>
                <a:ext cx="741600" cy="33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181480" y="648972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365040"/>
            <a:ext cx="87375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Dalmatians, the trait for black spots (B) is dominant over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ssive trait for no spots.  Use this information to answ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ques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Two Dalmatians with black spots have puppies.  One of the dogs is homozygous for black spots, while the other is heterozygous.  Out of a litter of 4 puppies, how many would you expect to have without spots?  Create a Punnett square to support your answer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Two Dalmatians had a large litter of 10 puppies.  Seven of them have black spots, while 3 do not.  What would the genotypes of the two parents need to be for this result?  Create a Punnett square to support your answ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486400" y="5562720"/>
            <a:ext cx="1066680" cy="914400"/>
            <a:chOff x="5486400" y="5562720"/>
            <a:chExt cx="1066680" cy="914400"/>
          </a:xfrm>
        </p:grpSpPr>
        <p:sp>
          <p:nvSpPr>
            <p:cNvPr id="72" name=""/>
            <p:cNvSpPr/>
            <p:nvPr/>
          </p:nvSpPr>
          <p:spPr>
            <a:xfrm>
              <a:off x="5486400" y="5562720"/>
              <a:ext cx="106668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486400" y="5562720"/>
              <a:ext cx="1066680" cy="914400"/>
              <a:chOff x="5486400" y="5562720"/>
              <a:chExt cx="106668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6019560" y="5562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486400" y="601992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5410080" y="2895480"/>
            <a:ext cx="1067040" cy="914400"/>
            <a:chOff x="5410080" y="2895480"/>
            <a:chExt cx="1067040" cy="914400"/>
          </a:xfrm>
        </p:grpSpPr>
        <p:sp>
          <p:nvSpPr>
            <p:cNvPr id="77" name=""/>
            <p:cNvSpPr/>
            <p:nvPr/>
          </p:nvSpPr>
          <p:spPr>
            <a:xfrm>
              <a:off x="5410080" y="2895480"/>
              <a:ext cx="1067040" cy="914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410080" y="2895480"/>
              <a:ext cx="1067040" cy="914400"/>
              <a:chOff x="5410080" y="2895480"/>
              <a:chExt cx="1067040" cy="914400"/>
            </a:xfrm>
          </p:grpSpPr>
          <p:sp>
            <p:nvSpPr>
              <p:cNvPr id="79" name=""/>
              <p:cNvSpPr/>
              <p:nvPr/>
            </p:nvSpPr>
            <p:spPr>
              <a:xfrm>
                <a:off x="5943600" y="2895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10080" y="335268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238880" y="152280"/>
            <a:ext cx="17528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65040"/>
            <a:ext cx="8737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Two Dalmatians with black spots have puppies.  One of the dogs is homozygous for black spots, while the other is heterozygous.  Out of a litter of 4 puppies, how many would you expect to have without spots?  Create a Punnett square to support your answer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371600" y="2674800"/>
            <a:ext cx="2019240" cy="1828800"/>
            <a:chOff x="1371600" y="2674800"/>
            <a:chExt cx="2019240" cy="1828800"/>
          </a:xfrm>
        </p:grpSpPr>
        <p:sp>
          <p:nvSpPr>
            <p:cNvPr id="84" name=""/>
            <p:cNvSpPr/>
            <p:nvPr/>
          </p:nvSpPr>
          <p:spPr>
            <a:xfrm>
              <a:off x="1371600" y="2674800"/>
              <a:ext cx="2019240" cy="182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371600" y="2674800"/>
              <a:ext cx="2019240" cy="1828800"/>
              <a:chOff x="1371600" y="2674800"/>
              <a:chExt cx="2019240" cy="1828800"/>
            </a:xfrm>
          </p:grpSpPr>
          <p:sp>
            <p:nvSpPr>
              <p:cNvPr id="86" name=""/>
              <p:cNvSpPr/>
              <p:nvPr/>
            </p:nvSpPr>
            <p:spPr>
              <a:xfrm>
                <a:off x="2381040" y="26748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71600" y="358920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762120" y="2898720"/>
            <a:ext cx="533160" cy="1528200"/>
            <a:chOff x="762120" y="2898720"/>
            <a:chExt cx="533160" cy="1528200"/>
          </a:xfrm>
        </p:grpSpPr>
        <p:sp>
          <p:nvSpPr>
            <p:cNvPr id="89" name=""/>
            <p:cNvSpPr/>
            <p:nvPr/>
          </p:nvSpPr>
          <p:spPr>
            <a:xfrm>
              <a:off x="762120" y="28987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37843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676520" y="1981080"/>
            <a:ext cx="1523520" cy="642600"/>
            <a:chOff x="1676520" y="1981080"/>
            <a:chExt cx="1523520" cy="642600"/>
          </a:xfrm>
        </p:grpSpPr>
        <p:sp>
          <p:nvSpPr>
            <p:cNvPr id="92" name=""/>
            <p:cNvSpPr/>
            <p:nvPr/>
          </p:nvSpPr>
          <p:spPr>
            <a:xfrm>
              <a:off x="1676520" y="19810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6880" y="19810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422360" y="2819520"/>
            <a:ext cx="1943280" cy="1524960"/>
            <a:chOff x="1422360" y="2819520"/>
            <a:chExt cx="1943280" cy="1524960"/>
          </a:xfrm>
        </p:grpSpPr>
        <p:sp>
          <p:nvSpPr>
            <p:cNvPr id="95" name=""/>
            <p:cNvSpPr/>
            <p:nvPr/>
          </p:nvSpPr>
          <p:spPr>
            <a:xfrm>
              <a:off x="1422360" y="28195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13080" y="28195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22360" y="37018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13080" y="37018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86200" y="3124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 of them would be all white, since all the offspring would have black sp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365040"/>
            <a:ext cx="8737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Two Dalmatians had a large litter of 10 puppies.  Seven of them have black spots, while 3 do not.  What would the genotypes of the two parents need to be for this result?  Create a Punnett square to support your answ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828960" y="2438280"/>
            <a:ext cx="2019240" cy="1828800"/>
            <a:chOff x="3828960" y="2438280"/>
            <a:chExt cx="2019240" cy="1828800"/>
          </a:xfrm>
        </p:grpSpPr>
        <p:sp>
          <p:nvSpPr>
            <p:cNvPr id="102" name=""/>
            <p:cNvSpPr/>
            <p:nvPr/>
          </p:nvSpPr>
          <p:spPr>
            <a:xfrm>
              <a:off x="3828960" y="2438280"/>
              <a:ext cx="2019240" cy="182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3828960" y="2438280"/>
              <a:ext cx="2019240" cy="1828800"/>
              <a:chOff x="3828960" y="2438280"/>
              <a:chExt cx="2019240" cy="1828800"/>
            </a:xfrm>
          </p:grpSpPr>
          <p:sp>
            <p:nvSpPr>
              <p:cNvPr id="104" name=""/>
              <p:cNvSpPr/>
              <p:nvPr/>
            </p:nvSpPr>
            <p:spPr>
              <a:xfrm>
                <a:off x="4838400" y="243828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28960" y="335268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3219480" y="1744560"/>
            <a:ext cx="2437920" cy="2445840"/>
            <a:chOff x="3219480" y="1744560"/>
            <a:chExt cx="2437920" cy="2445840"/>
          </a:xfrm>
        </p:grpSpPr>
        <p:grpSp>
          <p:nvGrpSpPr>
            <p:cNvPr id="107" name=""/>
            <p:cNvGrpSpPr/>
            <p:nvPr/>
          </p:nvGrpSpPr>
          <p:grpSpPr>
            <a:xfrm>
              <a:off x="3219480" y="2662200"/>
              <a:ext cx="533520" cy="1528200"/>
              <a:chOff x="3219480" y="2662200"/>
              <a:chExt cx="533520" cy="1528200"/>
            </a:xfrm>
          </p:grpSpPr>
          <p:sp>
            <p:nvSpPr>
              <p:cNvPr id="108" name=""/>
              <p:cNvSpPr/>
              <p:nvPr/>
            </p:nvSpPr>
            <p:spPr>
              <a:xfrm>
                <a:off x="3219480" y="2662200"/>
                <a:ext cx="53352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19480" y="3547800"/>
                <a:ext cx="53352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133880" y="1744560"/>
              <a:ext cx="1523520" cy="642600"/>
              <a:chOff x="4133880" y="1744560"/>
              <a:chExt cx="1523520" cy="642600"/>
            </a:xfrm>
          </p:grpSpPr>
          <p:sp>
            <p:nvSpPr>
              <p:cNvPr id="111" name=""/>
              <p:cNvSpPr/>
              <p:nvPr/>
            </p:nvSpPr>
            <p:spPr>
              <a:xfrm>
                <a:off x="4133880" y="1744560"/>
                <a:ext cx="53316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24240" y="1744560"/>
                <a:ext cx="53316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3879720" y="2583000"/>
            <a:ext cx="1943280" cy="1524960"/>
            <a:chOff x="3879720" y="2583000"/>
            <a:chExt cx="1943280" cy="1524960"/>
          </a:xfrm>
        </p:grpSpPr>
        <p:sp>
          <p:nvSpPr>
            <p:cNvPr id="114" name=""/>
            <p:cNvSpPr/>
            <p:nvPr/>
          </p:nvSpPr>
          <p:spPr>
            <a:xfrm>
              <a:off x="3879720" y="25830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0440" y="25830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79720" y="34653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0440" y="34653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819840" y="2438280"/>
            <a:ext cx="2019240" cy="1828800"/>
            <a:chOff x="6819840" y="2438280"/>
            <a:chExt cx="2019240" cy="1828800"/>
          </a:xfrm>
        </p:grpSpPr>
        <p:sp>
          <p:nvSpPr>
            <p:cNvPr id="119" name=""/>
            <p:cNvSpPr/>
            <p:nvPr/>
          </p:nvSpPr>
          <p:spPr>
            <a:xfrm>
              <a:off x="6819840" y="2438280"/>
              <a:ext cx="2019240" cy="182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6819840" y="2438280"/>
              <a:ext cx="2019240" cy="1828800"/>
              <a:chOff x="6819840" y="2438280"/>
              <a:chExt cx="2019240" cy="1828800"/>
            </a:xfrm>
          </p:grpSpPr>
          <p:sp>
            <p:nvSpPr>
              <p:cNvPr id="121" name=""/>
              <p:cNvSpPr/>
              <p:nvPr/>
            </p:nvSpPr>
            <p:spPr>
              <a:xfrm>
                <a:off x="7829280" y="243828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19840" y="335268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210360" y="1744560"/>
            <a:ext cx="2437920" cy="2445840"/>
            <a:chOff x="6210360" y="1744560"/>
            <a:chExt cx="2437920" cy="2445840"/>
          </a:xfrm>
        </p:grpSpPr>
        <p:grpSp>
          <p:nvGrpSpPr>
            <p:cNvPr id="124" name=""/>
            <p:cNvGrpSpPr/>
            <p:nvPr/>
          </p:nvGrpSpPr>
          <p:grpSpPr>
            <a:xfrm>
              <a:off x="6210360" y="2662200"/>
              <a:ext cx="533520" cy="1528200"/>
              <a:chOff x="6210360" y="2662200"/>
              <a:chExt cx="533520" cy="1528200"/>
            </a:xfrm>
          </p:grpSpPr>
          <p:sp>
            <p:nvSpPr>
              <p:cNvPr id="125" name=""/>
              <p:cNvSpPr/>
              <p:nvPr/>
            </p:nvSpPr>
            <p:spPr>
              <a:xfrm>
                <a:off x="6210360" y="2662200"/>
                <a:ext cx="53352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10360" y="3547800"/>
                <a:ext cx="53352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124760" y="1744560"/>
              <a:ext cx="1523520" cy="642600"/>
              <a:chOff x="7124760" y="1744560"/>
              <a:chExt cx="1523520" cy="642600"/>
            </a:xfrm>
          </p:grpSpPr>
          <p:sp>
            <p:nvSpPr>
              <p:cNvPr id="128" name=""/>
              <p:cNvSpPr/>
              <p:nvPr/>
            </p:nvSpPr>
            <p:spPr>
              <a:xfrm>
                <a:off x="7124760" y="1744560"/>
                <a:ext cx="53316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115120" y="1744560"/>
                <a:ext cx="53316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6870600" y="2583000"/>
            <a:ext cx="1943280" cy="1524960"/>
            <a:chOff x="6870600" y="2583000"/>
            <a:chExt cx="1943280" cy="1524960"/>
          </a:xfrm>
        </p:grpSpPr>
        <p:sp>
          <p:nvSpPr>
            <p:cNvPr id="131" name=""/>
            <p:cNvSpPr/>
            <p:nvPr/>
          </p:nvSpPr>
          <p:spPr>
            <a:xfrm>
              <a:off x="6870600" y="25830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61320" y="25830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70600" y="34653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61320" y="34653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38080" y="2446200"/>
            <a:ext cx="2019600" cy="1828800"/>
            <a:chOff x="838080" y="2446200"/>
            <a:chExt cx="2019600" cy="1828800"/>
          </a:xfrm>
        </p:grpSpPr>
        <p:sp>
          <p:nvSpPr>
            <p:cNvPr id="136" name=""/>
            <p:cNvSpPr/>
            <p:nvPr/>
          </p:nvSpPr>
          <p:spPr>
            <a:xfrm>
              <a:off x="838080" y="2446200"/>
              <a:ext cx="2019600" cy="182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838080" y="2446200"/>
              <a:ext cx="2019600" cy="1828800"/>
              <a:chOff x="838080" y="2446200"/>
              <a:chExt cx="2019600" cy="1828800"/>
            </a:xfrm>
          </p:grpSpPr>
          <p:sp>
            <p:nvSpPr>
              <p:cNvPr id="138" name=""/>
              <p:cNvSpPr/>
              <p:nvPr/>
            </p:nvSpPr>
            <p:spPr>
              <a:xfrm>
                <a:off x="1847880" y="24462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38080" y="3360600"/>
                <a:ext cx="201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228600" y="2670120"/>
            <a:ext cx="533520" cy="1528200"/>
            <a:chOff x="228600" y="2670120"/>
            <a:chExt cx="533520" cy="1528200"/>
          </a:xfrm>
        </p:grpSpPr>
        <p:sp>
          <p:nvSpPr>
            <p:cNvPr id="141" name=""/>
            <p:cNvSpPr/>
            <p:nvPr/>
          </p:nvSpPr>
          <p:spPr>
            <a:xfrm>
              <a:off x="228600" y="267012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55572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143000" y="1752480"/>
            <a:ext cx="1523520" cy="642600"/>
            <a:chOff x="1143000" y="1752480"/>
            <a:chExt cx="1523520" cy="642600"/>
          </a:xfrm>
        </p:grpSpPr>
        <p:sp>
          <p:nvSpPr>
            <p:cNvPr id="144" name=""/>
            <p:cNvSpPr/>
            <p:nvPr/>
          </p:nvSpPr>
          <p:spPr>
            <a:xfrm>
              <a:off x="1143000" y="17524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3360" y="175248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888840" y="2590920"/>
            <a:ext cx="9525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79560" y="2590920"/>
            <a:ext cx="9525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8840" y="3473280"/>
            <a:ext cx="9525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79560" y="3473280"/>
            <a:ext cx="9525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85800" y="1523880"/>
            <a:ext cx="8344080" cy="4666320"/>
            <a:chOff x="685800" y="1523880"/>
            <a:chExt cx="8344080" cy="4666320"/>
          </a:xfrm>
        </p:grpSpPr>
        <p:sp>
          <p:nvSpPr>
            <p:cNvPr id="151" name=""/>
            <p:cNvSpPr/>
            <p:nvPr/>
          </p:nvSpPr>
          <p:spPr>
            <a:xfrm>
              <a:off x="685800" y="548640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parents would have both have to be Bb or heterozygous for black spots in order to have 7 out of 10 or about 75% of puppies with black spo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58080" y="1523880"/>
              <a:ext cx="2971800" cy="3048120"/>
            </a:xfrm>
            <a:custGeom>
              <a:avLst/>
              <a:gdLst>
                <a:gd name="textAreaLeft" fmla="*/ 145080 w 2971800"/>
                <a:gd name="textAreaRight" fmla="*/ 2826720 w 2971800"/>
                <a:gd name="textAreaTop" fmla="*/ 145080 h 3048120"/>
                <a:gd name="textAreaBottom" fmla="*/ 2903040 h 3048120"/>
              </a:gdLst>
              <a:ahLst/>
              <a:rect l="textAreaLeft" t="textAreaTop" r="textAreaRight" b="textAreaBottom"/>
              <a:pathLst>
                <a:path w="21600" h="22155">
                  <a:moveTo>
                    <a:pt x="3600" y="0"/>
                  </a:moveTo>
                  <a:arcTo wR="3600" hR="3600" stAng="16200000" swAng="-5400000"/>
                  <a:lnTo>
                    <a:pt x="0" y="18555"/>
                  </a:lnTo>
                  <a:arcTo wR="3600" hR="3600" stAng="10800000" swAng="-5400000"/>
                  <a:lnTo>
                    <a:pt x="18000" y="22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1:53:26Z</dcterms:created>
  <dc:creator>Tracy Trimpe</dc:creator>
  <dc:description/>
  <dc:language>en-US</dc:language>
  <cp:lastModifiedBy>Tracy Trimpe</cp:lastModifiedBy>
  <dcterms:modified xsi:type="dcterms:W3CDTF">2008-06-03T04:27:22Z</dcterms:modified>
  <cp:revision>25</cp:revision>
  <dc:subject/>
  <dc:title>Slide 1</dc:title>
</cp:coreProperties>
</file>