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B5F6-39EF-418A-86A3-AC74DCBC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C36-2A23-4BD9-BFF9-859A19AE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F54-2C85-4081-9677-037DAC11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DED-3E0C-47DF-81AF-6B98633F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30C-51B2-4B7D-95B6-4EBDFB1C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528-52AD-43A9-8BF3-1525B9DC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DE0A-3F62-4DF6-A314-A0CF96E8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B1C-5F51-4793-A9AE-90125425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117-FC9A-4941-AA9B-33FBE89E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89A-4D4D-4C61-A358-E7C6C88E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29A-0B6C-4CFC-9F9F-57D092CD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026A-5F7D-432A-BF13-02E86273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E784-B1CB-42F5-A93E-AAB046199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57600" y="5638680"/>
            <a:ext cx="14986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#4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5040" y="888840"/>
            <a:ext cx="78739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Cooper Black"/>
              </a:rPr>
              <a:t>Punnett Practic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Cooper Black"/>
              <a:ea typeface="Cooper Black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7800" y="3844800"/>
            <a:ext cx="2130840" cy="2108160"/>
            <a:chOff x="577800" y="3844800"/>
            <a:chExt cx="2130840" cy="2108160"/>
          </a:xfrm>
        </p:grpSpPr>
        <p:sp>
          <p:nvSpPr>
            <p:cNvPr id="44" name=""/>
            <p:cNvSpPr/>
            <p:nvPr/>
          </p:nvSpPr>
          <p:spPr>
            <a:xfrm rot="19696800">
              <a:off x="855720" y="4146120"/>
              <a:ext cx="1574640" cy="1505160"/>
            </a:xfrm>
            <a:prstGeom prst="rect">
              <a:avLst/>
            </a:prstGeom>
            <a:solidFill>
              <a:srgbClr val="cc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73440" y="4258800"/>
              <a:ext cx="1339200" cy="1280520"/>
              <a:chOff x="973440" y="4258800"/>
              <a:chExt cx="1339200" cy="1280520"/>
            </a:xfrm>
          </p:grpSpPr>
          <p:sp>
            <p:nvSpPr>
              <p:cNvPr id="46" name=""/>
              <p:cNvSpPr/>
              <p:nvPr/>
            </p:nvSpPr>
            <p:spPr>
              <a:xfrm>
                <a:off x="1247400" y="4258800"/>
                <a:ext cx="791280" cy="12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973440" y="4484880"/>
                <a:ext cx="1339200" cy="8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" name=""/>
          <p:cNvGrpSpPr/>
          <p:nvPr/>
        </p:nvGrpSpPr>
        <p:grpSpPr>
          <a:xfrm>
            <a:off x="6254280" y="3879720"/>
            <a:ext cx="2147040" cy="2127960"/>
            <a:chOff x="6254280" y="3879720"/>
            <a:chExt cx="2147040" cy="2127960"/>
          </a:xfrm>
        </p:grpSpPr>
        <p:sp>
          <p:nvSpPr>
            <p:cNvPr id="49" name=""/>
            <p:cNvSpPr/>
            <p:nvPr/>
          </p:nvSpPr>
          <p:spPr>
            <a:xfrm rot="2038800">
              <a:off x="6540120" y="4191120"/>
              <a:ext cx="1575000" cy="1504800"/>
            </a:xfrm>
            <a:prstGeom prst="rect">
              <a:avLst/>
            </a:prstGeom>
            <a:solidFill>
              <a:srgbClr val="33cc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6674760" y="4319640"/>
              <a:ext cx="1306440" cy="1247760"/>
              <a:chOff x="6674760" y="4319640"/>
              <a:chExt cx="1306440" cy="1247760"/>
            </a:xfrm>
          </p:grpSpPr>
          <p:sp>
            <p:nvSpPr>
              <p:cNvPr id="51" name=""/>
              <p:cNvSpPr/>
              <p:nvPr/>
            </p:nvSpPr>
            <p:spPr>
              <a:xfrm flipH="1">
                <a:off x="6907320" y="4319640"/>
                <a:ext cx="840960" cy="12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674760" y="4503600"/>
                <a:ext cx="1306440" cy="88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3864960" y="4235400"/>
            <a:ext cx="1210680" cy="1117440"/>
            <a:chOff x="3864960" y="4235400"/>
            <a:chExt cx="1210680" cy="1117440"/>
          </a:xfrm>
        </p:grpSpPr>
        <p:sp>
          <p:nvSpPr>
            <p:cNvPr id="54" name=""/>
            <p:cNvSpPr/>
            <p:nvPr/>
          </p:nvSpPr>
          <p:spPr>
            <a:xfrm rot="576600">
              <a:off x="3936960" y="4317480"/>
              <a:ext cx="1066680" cy="95256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944520" y="4324680"/>
              <a:ext cx="1051560" cy="938880"/>
              <a:chOff x="3944520" y="4324680"/>
              <a:chExt cx="1051560" cy="93888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4390560" y="4324680"/>
                <a:ext cx="159120" cy="93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44520" y="4705200"/>
                <a:ext cx="105156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510160" y="317880"/>
            <a:ext cx="917640" cy="824760"/>
            <a:chOff x="5510160" y="317880"/>
            <a:chExt cx="917640" cy="824760"/>
          </a:xfrm>
        </p:grpSpPr>
        <p:sp>
          <p:nvSpPr>
            <p:cNvPr id="59" name=""/>
            <p:cNvSpPr/>
            <p:nvPr/>
          </p:nvSpPr>
          <p:spPr>
            <a:xfrm rot="576600">
              <a:off x="5562720" y="380520"/>
              <a:ext cx="812520" cy="69876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568480" y="385920"/>
              <a:ext cx="801000" cy="688680"/>
              <a:chOff x="5568480" y="385920"/>
              <a:chExt cx="801000" cy="688680"/>
            </a:xfrm>
          </p:grpSpPr>
          <p:sp>
            <p:nvSpPr>
              <p:cNvPr id="61" name=""/>
              <p:cNvSpPr/>
              <p:nvPr/>
            </p:nvSpPr>
            <p:spPr>
              <a:xfrm flipH="1">
                <a:off x="5910480" y="385920"/>
                <a:ext cx="116640" cy="68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68480" y="662400"/>
                <a:ext cx="80100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2585160" y="309240"/>
            <a:ext cx="1027440" cy="969480"/>
            <a:chOff x="2585160" y="309240"/>
            <a:chExt cx="1027440" cy="969480"/>
          </a:xfrm>
        </p:grpSpPr>
        <p:sp>
          <p:nvSpPr>
            <p:cNvPr id="64" name=""/>
            <p:cNvSpPr/>
            <p:nvPr/>
          </p:nvSpPr>
          <p:spPr>
            <a:xfrm rot="20151600">
              <a:off x="2692080" y="444600"/>
              <a:ext cx="812880" cy="6984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728080" y="475200"/>
              <a:ext cx="741600" cy="637200"/>
              <a:chOff x="2728080" y="475200"/>
              <a:chExt cx="741600" cy="637200"/>
            </a:xfrm>
          </p:grpSpPr>
          <p:sp>
            <p:nvSpPr>
              <p:cNvPr id="66" name=""/>
              <p:cNvSpPr/>
              <p:nvPr/>
            </p:nvSpPr>
            <p:spPr>
              <a:xfrm>
                <a:off x="2955960" y="475200"/>
                <a:ext cx="285840" cy="63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2728080" y="627480"/>
                <a:ext cx="741600" cy="33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5181480" y="6489720"/>
            <a:ext cx="381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365040"/>
            <a:ext cx="87375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Dalmatians, the trait for black spots (B) is dominant over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ssive trait for no spots.  Use this information to answ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se ques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 Two Dalmatians with black spots have puppies.  One of the dogs is homozygous for black spots, while the other is heterozygous.  Out of a litter of 4 puppies, how many would you expect to have without spots?  Create a Punnett square to support your answer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 Two Dalmatians had a large litter of 10 puppies.  Seven of them have black spots, while 3 do not.  What would the genotypes of the two parents need to be for this result?  Create a Punnett square to support your answ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486400" y="5562720"/>
            <a:ext cx="1066680" cy="914400"/>
            <a:chOff x="5486400" y="5562720"/>
            <a:chExt cx="1066680" cy="914400"/>
          </a:xfrm>
        </p:grpSpPr>
        <p:sp>
          <p:nvSpPr>
            <p:cNvPr id="72" name=""/>
            <p:cNvSpPr/>
            <p:nvPr/>
          </p:nvSpPr>
          <p:spPr>
            <a:xfrm>
              <a:off x="5486400" y="5562720"/>
              <a:ext cx="106668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486400" y="5562720"/>
              <a:ext cx="1066680" cy="914400"/>
              <a:chOff x="5486400" y="5562720"/>
              <a:chExt cx="106668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6019560" y="55627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486400" y="601992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5410080" y="2895480"/>
            <a:ext cx="1067040" cy="914400"/>
            <a:chOff x="5410080" y="2895480"/>
            <a:chExt cx="1067040" cy="914400"/>
          </a:xfrm>
        </p:grpSpPr>
        <p:sp>
          <p:nvSpPr>
            <p:cNvPr id="77" name=""/>
            <p:cNvSpPr/>
            <p:nvPr/>
          </p:nvSpPr>
          <p:spPr>
            <a:xfrm>
              <a:off x="5410080" y="2895480"/>
              <a:ext cx="106704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410080" y="2895480"/>
              <a:ext cx="1067040" cy="914400"/>
              <a:chOff x="5410080" y="2895480"/>
              <a:chExt cx="1067040" cy="914400"/>
            </a:xfrm>
          </p:grpSpPr>
          <p:sp>
            <p:nvSpPr>
              <p:cNvPr id="79" name=""/>
              <p:cNvSpPr/>
              <p:nvPr/>
            </p:nvSpPr>
            <p:spPr>
              <a:xfrm>
                <a:off x="5943600" y="2895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410080" y="335268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75284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365040"/>
            <a:ext cx="8737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 Two Dalmatians with black spots have puppies.  One of the dogs is homozygous for black spots, while the other is heterozygous.  Out of a litter of 4 puppies, how many would you expect to have without spots?  Create a Punnett square to support your answer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371600" y="2674800"/>
            <a:ext cx="2019240" cy="1828800"/>
            <a:chOff x="1371600" y="2674800"/>
            <a:chExt cx="2019240" cy="1828800"/>
          </a:xfrm>
        </p:grpSpPr>
        <p:sp>
          <p:nvSpPr>
            <p:cNvPr id="84" name=""/>
            <p:cNvSpPr/>
            <p:nvPr/>
          </p:nvSpPr>
          <p:spPr>
            <a:xfrm>
              <a:off x="1371600" y="2674800"/>
              <a:ext cx="2019240" cy="1828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371600" y="2674800"/>
              <a:ext cx="2019240" cy="1828800"/>
              <a:chOff x="1371600" y="2674800"/>
              <a:chExt cx="2019240" cy="1828800"/>
            </a:xfrm>
          </p:grpSpPr>
          <p:sp>
            <p:nvSpPr>
              <p:cNvPr id="86" name=""/>
              <p:cNvSpPr/>
              <p:nvPr/>
            </p:nvSpPr>
            <p:spPr>
              <a:xfrm>
                <a:off x="2381040" y="26748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371600" y="358920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762120" y="2898720"/>
            <a:ext cx="533160" cy="1528200"/>
            <a:chOff x="762120" y="2898720"/>
            <a:chExt cx="533160" cy="1528200"/>
          </a:xfrm>
        </p:grpSpPr>
        <p:sp>
          <p:nvSpPr>
            <p:cNvPr id="89" name=""/>
            <p:cNvSpPr/>
            <p:nvPr/>
          </p:nvSpPr>
          <p:spPr>
            <a:xfrm>
              <a:off x="762120" y="289872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120" y="378432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676520" y="1981080"/>
            <a:ext cx="1523520" cy="642600"/>
            <a:chOff x="1676520" y="1981080"/>
            <a:chExt cx="1523520" cy="642600"/>
          </a:xfrm>
        </p:grpSpPr>
        <p:sp>
          <p:nvSpPr>
            <p:cNvPr id="92" name=""/>
            <p:cNvSpPr/>
            <p:nvPr/>
          </p:nvSpPr>
          <p:spPr>
            <a:xfrm>
              <a:off x="1676520" y="198108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66880" y="198108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422360" y="2819520"/>
            <a:ext cx="1943280" cy="1524960"/>
            <a:chOff x="1422360" y="2819520"/>
            <a:chExt cx="1943280" cy="1524960"/>
          </a:xfrm>
        </p:grpSpPr>
        <p:sp>
          <p:nvSpPr>
            <p:cNvPr id="95" name=""/>
            <p:cNvSpPr/>
            <p:nvPr/>
          </p:nvSpPr>
          <p:spPr>
            <a:xfrm>
              <a:off x="1422360" y="281952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13080" y="281952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22360" y="370188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13080" y="370188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886200" y="3124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 of them would be all white, since all the offspring would have black sp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365040"/>
            <a:ext cx="8737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 Two Dalmatians had a large litter of 10 puppies.  Seven of them have black spots, while 3 do not.  What would the genotypes of the two parents need to be for this result?  Create a Punnett square to support your answ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828960" y="2438280"/>
            <a:ext cx="2019240" cy="1828800"/>
            <a:chOff x="3828960" y="2438280"/>
            <a:chExt cx="2019240" cy="1828800"/>
          </a:xfrm>
        </p:grpSpPr>
        <p:sp>
          <p:nvSpPr>
            <p:cNvPr id="102" name=""/>
            <p:cNvSpPr/>
            <p:nvPr/>
          </p:nvSpPr>
          <p:spPr>
            <a:xfrm>
              <a:off x="3828960" y="2438280"/>
              <a:ext cx="2019240" cy="1828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3828960" y="2438280"/>
              <a:ext cx="2019240" cy="1828800"/>
              <a:chOff x="3828960" y="2438280"/>
              <a:chExt cx="2019240" cy="1828800"/>
            </a:xfrm>
          </p:grpSpPr>
          <p:sp>
            <p:nvSpPr>
              <p:cNvPr id="104" name=""/>
              <p:cNvSpPr/>
              <p:nvPr/>
            </p:nvSpPr>
            <p:spPr>
              <a:xfrm>
                <a:off x="4838400" y="243828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828960" y="335268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3219480" y="1744560"/>
            <a:ext cx="2437920" cy="2445840"/>
            <a:chOff x="3219480" y="1744560"/>
            <a:chExt cx="2437920" cy="2445840"/>
          </a:xfrm>
        </p:grpSpPr>
        <p:grpSp>
          <p:nvGrpSpPr>
            <p:cNvPr id="107" name=""/>
            <p:cNvGrpSpPr/>
            <p:nvPr/>
          </p:nvGrpSpPr>
          <p:grpSpPr>
            <a:xfrm>
              <a:off x="3219480" y="2662200"/>
              <a:ext cx="533520" cy="1528200"/>
              <a:chOff x="3219480" y="2662200"/>
              <a:chExt cx="533520" cy="1528200"/>
            </a:xfrm>
          </p:grpSpPr>
          <p:sp>
            <p:nvSpPr>
              <p:cNvPr id="108" name=""/>
              <p:cNvSpPr/>
              <p:nvPr/>
            </p:nvSpPr>
            <p:spPr>
              <a:xfrm>
                <a:off x="3219480" y="2662200"/>
                <a:ext cx="53352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19480" y="3547800"/>
                <a:ext cx="53352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133880" y="1744560"/>
              <a:ext cx="1523520" cy="642600"/>
              <a:chOff x="4133880" y="1744560"/>
              <a:chExt cx="1523520" cy="642600"/>
            </a:xfrm>
          </p:grpSpPr>
          <p:sp>
            <p:nvSpPr>
              <p:cNvPr id="111" name=""/>
              <p:cNvSpPr/>
              <p:nvPr/>
            </p:nvSpPr>
            <p:spPr>
              <a:xfrm>
                <a:off x="4133880" y="1744560"/>
                <a:ext cx="53316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124240" y="1744560"/>
                <a:ext cx="53316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3879720" y="2583000"/>
            <a:ext cx="1943280" cy="1524960"/>
            <a:chOff x="3879720" y="2583000"/>
            <a:chExt cx="1943280" cy="1524960"/>
          </a:xfrm>
        </p:grpSpPr>
        <p:sp>
          <p:nvSpPr>
            <p:cNvPr id="114" name=""/>
            <p:cNvSpPr/>
            <p:nvPr/>
          </p:nvSpPr>
          <p:spPr>
            <a:xfrm>
              <a:off x="3879720" y="258300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0440" y="258300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79720" y="346536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0440" y="346536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819840" y="2438280"/>
            <a:ext cx="2019240" cy="1828800"/>
            <a:chOff x="6819840" y="2438280"/>
            <a:chExt cx="2019240" cy="1828800"/>
          </a:xfrm>
        </p:grpSpPr>
        <p:sp>
          <p:nvSpPr>
            <p:cNvPr id="119" name=""/>
            <p:cNvSpPr/>
            <p:nvPr/>
          </p:nvSpPr>
          <p:spPr>
            <a:xfrm>
              <a:off x="6819840" y="2438280"/>
              <a:ext cx="2019240" cy="1828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819840" y="2438280"/>
              <a:ext cx="2019240" cy="1828800"/>
              <a:chOff x="6819840" y="2438280"/>
              <a:chExt cx="2019240" cy="1828800"/>
            </a:xfrm>
          </p:grpSpPr>
          <p:sp>
            <p:nvSpPr>
              <p:cNvPr id="121" name=""/>
              <p:cNvSpPr/>
              <p:nvPr/>
            </p:nvSpPr>
            <p:spPr>
              <a:xfrm>
                <a:off x="7829280" y="243828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19840" y="335268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210360" y="1744560"/>
            <a:ext cx="2437920" cy="2445840"/>
            <a:chOff x="6210360" y="1744560"/>
            <a:chExt cx="2437920" cy="2445840"/>
          </a:xfrm>
        </p:grpSpPr>
        <p:grpSp>
          <p:nvGrpSpPr>
            <p:cNvPr id="124" name=""/>
            <p:cNvGrpSpPr/>
            <p:nvPr/>
          </p:nvGrpSpPr>
          <p:grpSpPr>
            <a:xfrm>
              <a:off x="6210360" y="2662200"/>
              <a:ext cx="533520" cy="1528200"/>
              <a:chOff x="6210360" y="2662200"/>
              <a:chExt cx="533520" cy="1528200"/>
            </a:xfrm>
          </p:grpSpPr>
          <p:sp>
            <p:nvSpPr>
              <p:cNvPr id="125" name=""/>
              <p:cNvSpPr/>
              <p:nvPr/>
            </p:nvSpPr>
            <p:spPr>
              <a:xfrm>
                <a:off x="6210360" y="2662200"/>
                <a:ext cx="53352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10360" y="3547800"/>
                <a:ext cx="53352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124760" y="1744560"/>
              <a:ext cx="1523520" cy="642600"/>
              <a:chOff x="7124760" y="1744560"/>
              <a:chExt cx="1523520" cy="642600"/>
            </a:xfrm>
          </p:grpSpPr>
          <p:sp>
            <p:nvSpPr>
              <p:cNvPr id="128" name=""/>
              <p:cNvSpPr/>
              <p:nvPr/>
            </p:nvSpPr>
            <p:spPr>
              <a:xfrm>
                <a:off x="7124760" y="1744560"/>
                <a:ext cx="53316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115120" y="1744560"/>
                <a:ext cx="53316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6870600" y="2583000"/>
            <a:ext cx="1943280" cy="1524960"/>
            <a:chOff x="6870600" y="2583000"/>
            <a:chExt cx="1943280" cy="1524960"/>
          </a:xfrm>
        </p:grpSpPr>
        <p:sp>
          <p:nvSpPr>
            <p:cNvPr id="131" name=""/>
            <p:cNvSpPr/>
            <p:nvPr/>
          </p:nvSpPr>
          <p:spPr>
            <a:xfrm>
              <a:off x="6870600" y="258300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61320" y="258300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70600" y="346536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61320" y="346536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838080" y="2446200"/>
            <a:ext cx="2019600" cy="1828800"/>
            <a:chOff x="838080" y="2446200"/>
            <a:chExt cx="2019600" cy="1828800"/>
          </a:xfrm>
        </p:grpSpPr>
        <p:sp>
          <p:nvSpPr>
            <p:cNvPr id="136" name=""/>
            <p:cNvSpPr/>
            <p:nvPr/>
          </p:nvSpPr>
          <p:spPr>
            <a:xfrm>
              <a:off x="838080" y="2446200"/>
              <a:ext cx="2019600" cy="1828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838080" y="2446200"/>
              <a:ext cx="2019600" cy="1828800"/>
              <a:chOff x="838080" y="2446200"/>
              <a:chExt cx="2019600" cy="1828800"/>
            </a:xfrm>
          </p:grpSpPr>
          <p:sp>
            <p:nvSpPr>
              <p:cNvPr id="138" name=""/>
              <p:cNvSpPr/>
              <p:nvPr/>
            </p:nvSpPr>
            <p:spPr>
              <a:xfrm>
                <a:off x="1847880" y="24462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38080" y="3360600"/>
                <a:ext cx="201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228600" y="2670120"/>
            <a:ext cx="533520" cy="1528200"/>
            <a:chOff x="228600" y="2670120"/>
            <a:chExt cx="533520" cy="1528200"/>
          </a:xfrm>
        </p:grpSpPr>
        <p:sp>
          <p:nvSpPr>
            <p:cNvPr id="141" name=""/>
            <p:cNvSpPr/>
            <p:nvPr/>
          </p:nvSpPr>
          <p:spPr>
            <a:xfrm>
              <a:off x="228600" y="267012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355572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143000" y="1752480"/>
            <a:ext cx="1523520" cy="642600"/>
            <a:chOff x="1143000" y="1752480"/>
            <a:chExt cx="1523520" cy="642600"/>
          </a:xfrm>
        </p:grpSpPr>
        <p:sp>
          <p:nvSpPr>
            <p:cNvPr id="144" name=""/>
            <p:cNvSpPr/>
            <p:nvPr/>
          </p:nvSpPr>
          <p:spPr>
            <a:xfrm>
              <a:off x="1143000" y="175248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3360" y="175248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888840" y="2590920"/>
            <a:ext cx="9525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79560" y="2590920"/>
            <a:ext cx="9525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8840" y="3473280"/>
            <a:ext cx="9525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79560" y="3473280"/>
            <a:ext cx="9525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5800" y="1523880"/>
            <a:ext cx="8344080" cy="4666320"/>
            <a:chOff x="685800" y="1523880"/>
            <a:chExt cx="8344080" cy="4666320"/>
          </a:xfrm>
        </p:grpSpPr>
        <p:sp>
          <p:nvSpPr>
            <p:cNvPr id="151" name=""/>
            <p:cNvSpPr/>
            <p:nvPr/>
          </p:nvSpPr>
          <p:spPr>
            <a:xfrm>
              <a:off x="685800" y="548640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parents would have both have to be Bb or heterozygous for black spots in order to have 7 out of 10 or about 75% of puppies with black spot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58080" y="1523880"/>
              <a:ext cx="2971800" cy="3048120"/>
            </a:xfrm>
            <a:custGeom>
              <a:avLst/>
              <a:gdLst>
                <a:gd name="textAreaLeft" fmla="*/ 145080 w 2971800"/>
                <a:gd name="textAreaRight" fmla="*/ 2826720 w 2971800"/>
                <a:gd name="textAreaTop" fmla="*/ 145080 h 3048120"/>
                <a:gd name="textAreaBottom" fmla="*/ 2903040 h 3048120"/>
              </a:gdLst>
              <a:ahLst/>
              <a:rect l="textAreaLeft" t="textAreaTop" r="textAreaRight" b="textAreaBottom"/>
              <a:pathLst>
                <a:path w="21600" h="22155">
                  <a:moveTo>
                    <a:pt x="3600" y="0"/>
                  </a:moveTo>
                  <a:arcTo wR="3600" hR="3600" stAng="16200000" swAng="-5400000"/>
                  <a:lnTo>
                    <a:pt x="0" y="18555"/>
                  </a:lnTo>
                  <a:arcTo wR="3600" hR="3600" stAng="10800000" swAng="-5400000"/>
                  <a:lnTo>
                    <a:pt x="18000" y="221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1:53:26Z</dcterms:created>
  <dc:creator>Tracy Trimpe</dc:creator>
  <dc:description/>
  <dc:language>en-US</dc:language>
  <cp:lastModifiedBy>Tracy Trimpe</cp:lastModifiedBy>
  <dcterms:modified xsi:type="dcterms:W3CDTF">2008-06-03T04:27:22Z</dcterms:modified>
  <cp:revision>25</cp:revision>
  <dc:subject/>
  <dc:title>Slide 1</dc:title>
</cp:coreProperties>
</file>