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050-B7AB-4151-B624-C7EE23FD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081-9F26-4F3E-9B04-BACF047B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AB6-B1DA-4B32-9C07-1E67E664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4A8-861B-46B9-8F13-6C324E0F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589-083A-41C6-8C73-943CA79C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FD3-A0A1-4AEE-9E44-5EDAC74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B01-B905-4F57-813A-3B896745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922-3418-4E7E-99B6-15E3BD3F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2F1-9F45-47F3-A6AE-51CB3497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EE2-DAF7-4DCE-8E16-239914A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334-6623-4021-8B19-D66413D0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127-112C-40BA-9205-A28B826E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14CA-CE07-43DC-8754-821738206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90440"/>
            <a:ext cx="87375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people have dimples, while others do not.  The presence of dimples is a dominant trait (D), while not having dimples is recessive (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Susie has dimples, but her husband, Tom, does not. Their first child has his father's phenotype. What are the genotypes of the mother, father, and chil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her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ther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n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What is the probability that a second child won’t have dimples? Create a Punnett square to support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81280" y="5029200"/>
            <a:ext cx="1562400" cy="1447920"/>
            <a:chOff x="3581280" y="5029200"/>
            <a:chExt cx="1562400" cy="1447920"/>
          </a:xfrm>
        </p:grpSpPr>
        <p:sp>
          <p:nvSpPr>
            <p:cNvPr id="72" name=""/>
            <p:cNvSpPr/>
            <p:nvPr/>
          </p:nvSpPr>
          <p:spPr>
            <a:xfrm>
              <a:off x="3581280" y="5029200"/>
              <a:ext cx="1562400" cy="1447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581280" y="5029200"/>
              <a:ext cx="1562400" cy="1447920"/>
              <a:chOff x="3581280" y="5029200"/>
              <a:chExt cx="1562400" cy="1447920"/>
            </a:xfrm>
          </p:grpSpPr>
          <p:sp>
            <p:nvSpPr>
              <p:cNvPr id="74" name=""/>
              <p:cNvSpPr/>
              <p:nvPr/>
            </p:nvSpPr>
            <p:spPr>
              <a:xfrm>
                <a:off x="4362480" y="502920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81280" y="5753160"/>
                <a:ext cx="156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7840" y="228600"/>
            <a:ext cx="87375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people have dimples, while others do not.  The presence of dimples is a dominant trait (D), while not having dimples is recessive (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Susie has dimples, but her husband, Tom, does not. Their first child has his father's phenotype. What are the genotypes of the mother, father, and chil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her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ther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n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What is the probability that a second chi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n’t have dimples? Create a Punnett squ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upport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515280" y="4503600"/>
            <a:ext cx="2019240" cy="1828800"/>
            <a:chOff x="6515280" y="4503600"/>
            <a:chExt cx="2019240" cy="1828800"/>
          </a:xfrm>
        </p:grpSpPr>
        <p:sp>
          <p:nvSpPr>
            <p:cNvPr id="79" name=""/>
            <p:cNvSpPr/>
            <p:nvPr/>
          </p:nvSpPr>
          <p:spPr>
            <a:xfrm>
              <a:off x="6515280" y="4503600"/>
              <a:ext cx="201924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515280" y="4503600"/>
              <a:ext cx="2019240" cy="1828800"/>
              <a:chOff x="6515280" y="4503600"/>
              <a:chExt cx="2019240" cy="1828800"/>
            </a:xfrm>
          </p:grpSpPr>
          <p:sp>
            <p:nvSpPr>
              <p:cNvPr id="81" name=""/>
              <p:cNvSpPr/>
              <p:nvPr/>
            </p:nvSpPr>
            <p:spPr>
              <a:xfrm>
                <a:off x="7524720" y="45036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15280" y="541800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5905440" y="4727520"/>
            <a:ext cx="533520" cy="1528200"/>
            <a:chOff x="5905440" y="4727520"/>
            <a:chExt cx="533520" cy="1528200"/>
          </a:xfrm>
        </p:grpSpPr>
        <p:sp>
          <p:nvSpPr>
            <p:cNvPr id="84" name=""/>
            <p:cNvSpPr/>
            <p:nvPr/>
          </p:nvSpPr>
          <p:spPr>
            <a:xfrm>
              <a:off x="5905440" y="472752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05440" y="561312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819840" y="3809880"/>
            <a:ext cx="1524240" cy="642600"/>
            <a:chOff x="6819840" y="3809880"/>
            <a:chExt cx="1524240" cy="642600"/>
          </a:xfrm>
        </p:grpSpPr>
        <p:sp>
          <p:nvSpPr>
            <p:cNvPr id="87" name=""/>
            <p:cNvSpPr/>
            <p:nvPr/>
          </p:nvSpPr>
          <p:spPr>
            <a:xfrm>
              <a:off x="6819840" y="380988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10560" y="380988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66040" y="4648320"/>
            <a:ext cx="1942920" cy="1524960"/>
            <a:chOff x="6566040" y="4648320"/>
            <a:chExt cx="1942920" cy="1524960"/>
          </a:xfrm>
        </p:grpSpPr>
        <p:sp>
          <p:nvSpPr>
            <p:cNvPr id="90" name=""/>
            <p:cNvSpPr/>
            <p:nvPr/>
          </p:nvSpPr>
          <p:spPr>
            <a:xfrm>
              <a:off x="6566040" y="4648320"/>
              <a:ext cx="9522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56400" y="46483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5530680"/>
              <a:ext cx="9522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56400" y="5530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505320" y="19810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251460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99412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5334120"/>
            <a:ext cx="7924680" cy="1092240"/>
            <a:chOff x="685800" y="5334120"/>
            <a:chExt cx="7924680" cy="1092240"/>
          </a:xfrm>
        </p:grpSpPr>
        <p:sp>
          <p:nvSpPr>
            <p:cNvPr id="98" name=""/>
            <p:cNvSpPr/>
            <p:nvPr/>
          </p:nvSpPr>
          <p:spPr>
            <a:xfrm>
              <a:off x="685800" y="533412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re would be a 50% probability that the second child would not have dimpl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77120" y="5359320"/>
              <a:ext cx="2133360" cy="1067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6T05:49:59Z</dcterms:modified>
  <cp:revision>17</cp:revision>
  <dc:subject/>
  <dc:title>Slide 1</dc:title>
</cp:coreProperties>
</file>