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44D-7590-4FA9-A8C0-65FCB63C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357-D16D-46B0-8ED9-E0876B1D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049-0D1F-4F0F-9108-8260969F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C73-FA21-4A4B-BFA6-2962E4A7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4DF-F92A-4EF5-A234-8D8B5A4A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CDF-338D-4985-B9DD-287F00E0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C9D-B68B-4E2A-9A58-A2AE575A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E61-63AE-4DFD-899D-D9879E5D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90E-F1FF-4F0C-AED7-332718EC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19E-BE27-4D86-A946-51201D11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E1E8-6C6B-4323-B9D7-866B4CA0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73F-8E19-407B-8C64-B86FBE62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4DC6-815B-4251-B170-7EC7614B4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657600" y="5638680"/>
            <a:ext cx="14986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#3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5040" y="888840"/>
            <a:ext cx="787392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Cooper Black"/>
              </a:rPr>
              <a:t>Punnett Practic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7800" y="3844800"/>
            <a:ext cx="2130840" cy="2108160"/>
            <a:chOff x="577800" y="3844800"/>
            <a:chExt cx="2130840" cy="2108160"/>
          </a:xfrm>
        </p:grpSpPr>
        <p:sp>
          <p:nvSpPr>
            <p:cNvPr id="44" name=""/>
            <p:cNvSpPr/>
            <p:nvPr/>
          </p:nvSpPr>
          <p:spPr>
            <a:xfrm rot="19696800">
              <a:off x="855720" y="4146120"/>
              <a:ext cx="1574640" cy="1505160"/>
            </a:xfrm>
            <a:prstGeom prst="rect">
              <a:avLst/>
            </a:prstGeom>
            <a:solidFill>
              <a:srgbClr val="cc00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73440" y="4258800"/>
              <a:ext cx="1339200" cy="1280520"/>
              <a:chOff x="973440" y="4258800"/>
              <a:chExt cx="1339200" cy="1280520"/>
            </a:xfrm>
          </p:grpSpPr>
          <p:sp>
            <p:nvSpPr>
              <p:cNvPr id="46" name=""/>
              <p:cNvSpPr/>
              <p:nvPr/>
            </p:nvSpPr>
            <p:spPr>
              <a:xfrm>
                <a:off x="1247400" y="4258800"/>
                <a:ext cx="791280" cy="12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973440" y="4484880"/>
                <a:ext cx="1339200" cy="82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6254280" y="3879720"/>
            <a:ext cx="2147040" cy="2127960"/>
            <a:chOff x="6254280" y="3879720"/>
            <a:chExt cx="2147040" cy="2127960"/>
          </a:xfrm>
        </p:grpSpPr>
        <p:sp>
          <p:nvSpPr>
            <p:cNvPr id="49" name=""/>
            <p:cNvSpPr/>
            <p:nvPr/>
          </p:nvSpPr>
          <p:spPr>
            <a:xfrm rot="2038800">
              <a:off x="6540120" y="4191120"/>
              <a:ext cx="1575000" cy="1504800"/>
            </a:xfrm>
            <a:prstGeom prst="rect">
              <a:avLst/>
            </a:prstGeom>
            <a:solidFill>
              <a:srgbClr val="33cc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6674760" y="4319640"/>
              <a:ext cx="1306440" cy="1247760"/>
              <a:chOff x="6674760" y="4319640"/>
              <a:chExt cx="1306440" cy="1247760"/>
            </a:xfrm>
          </p:grpSpPr>
          <p:sp>
            <p:nvSpPr>
              <p:cNvPr id="51" name=""/>
              <p:cNvSpPr/>
              <p:nvPr/>
            </p:nvSpPr>
            <p:spPr>
              <a:xfrm flipH="1">
                <a:off x="6907320" y="4319640"/>
                <a:ext cx="840960" cy="12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74760" y="4503600"/>
                <a:ext cx="1306440" cy="88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3864960" y="4235400"/>
            <a:ext cx="1210680" cy="1117440"/>
            <a:chOff x="3864960" y="4235400"/>
            <a:chExt cx="1210680" cy="1117440"/>
          </a:xfrm>
        </p:grpSpPr>
        <p:sp>
          <p:nvSpPr>
            <p:cNvPr id="54" name=""/>
            <p:cNvSpPr/>
            <p:nvPr/>
          </p:nvSpPr>
          <p:spPr>
            <a:xfrm rot="576600">
              <a:off x="3936960" y="4317480"/>
              <a:ext cx="1066680" cy="9525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3944520" y="4324680"/>
              <a:ext cx="1051560" cy="938880"/>
              <a:chOff x="3944520" y="4324680"/>
              <a:chExt cx="1051560" cy="93888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4390560" y="4324680"/>
                <a:ext cx="159120" cy="9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44520" y="4705200"/>
                <a:ext cx="105156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510160" y="317880"/>
            <a:ext cx="917640" cy="824760"/>
            <a:chOff x="5510160" y="317880"/>
            <a:chExt cx="917640" cy="824760"/>
          </a:xfrm>
        </p:grpSpPr>
        <p:sp>
          <p:nvSpPr>
            <p:cNvPr id="59" name=""/>
            <p:cNvSpPr/>
            <p:nvPr/>
          </p:nvSpPr>
          <p:spPr>
            <a:xfrm rot="576600">
              <a:off x="5562720" y="380520"/>
              <a:ext cx="812520" cy="698760"/>
            </a:xfrm>
            <a:prstGeom prst="rect">
              <a:avLst/>
            </a:prstGeom>
            <a:solidFill>
              <a:srgbClr val="0000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68480" y="385920"/>
              <a:ext cx="801000" cy="688680"/>
              <a:chOff x="5568480" y="385920"/>
              <a:chExt cx="801000" cy="68868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910480" y="385920"/>
                <a:ext cx="116640" cy="68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568480" y="662400"/>
                <a:ext cx="801000" cy="1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2585160" y="309240"/>
            <a:ext cx="1027440" cy="969480"/>
            <a:chOff x="2585160" y="309240"/>
            <a:chExt cx="1027440" cy="969480"/>
          </a:xfrm>
        </p:grpSpPr>
        <p:sp>
          <p:nvSpPr>
            <p:cNvPr id="64" name=""/>
            <p:cNvSpPr/>
            <p:nvPr/>
          </p:nvSpPr>
          <p:spPr>
            <a:xfrm rot="20151600">
              <a:off x="2692080" y="444600"/>
              <a:ext cx="812880" cy="6984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728080" y="475200"/>
              <a:ext cx="741600" cy="637200"/>
              <a:chOff x="2728080" y="475200"/>
              <a:chExt cx="741600" cy="637200"/>
            </a:xfrm>
          </p:grpSpPr>
          <p:sp>
            <p:nvSpPr>
              <p:cNvPr id="66" name=""/>
              <p:cNvSpPr/>
              <p:nvPr/>
            </p:nvSpPr>
            <p:spPr>
              <a:xfrm>
                <a:off x="2955960" y="475200"/>
                <a:ext cx="285840" cy="63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2728080" y="627480"/>
                <a:ext cx="741600" cy="33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5181480" y="6489720"/>
            <a:ext cx="381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90440"/>
            <a:ext cx="87375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people have dimples, while others do not.  The presence of dimples is a dominant trait (D), while not having dimples is recessive (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Susie has dimples, but her husband, Tom, does not. Their first child has his father's phenotype. What are the genotypes of the mother, father, and chil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her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ther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n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What is the probability that a second child won’t have dimples? Create a Punnett square to support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81280" y="5029200"/>
            <a:ext cx="1562400" cy="1447920"/>
            <a:chOff x="3581280" y="5029200"/>
            <a:chExt cx="1562400" cy="1447920"/>
          </a:xfrm>
        </p:grpSpPr>
        <p:sp>
          <p:nvSpPr>
            <p:cNvPr id="72" name=""/>
            <p:cNvSpPr/>
            <p:nvPr/>
          </p:nvSpPr>
          <p:spPr>
            <a:xfrm>
              <a:off x="3581280" y="5029200"/>
              <a:ext cx="1562400" cy="1447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581280" y="5029200"/>
              <a:ext cx="1562400" cy="1447920"/>
              <a:chOff x="3581280" y="5029200"/>
              <a:chExt cx="1562400" cy="1447920"/>
            </a:xfrm>
          </p:grpSpPr>
          <p:sp>
            <p:nvSpPr>
              <p:cNvPr id="74" name=""/>
              <p:cNvSpPr/>
              <p:nvPr/>
            </p:nvSpPr>
            <p:spPr>
              <a:xfrm>
                <a:off x="4362480" y="502920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81280" y="5753160"/>
                <a:ext cx="156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7840" y="228600"/>
            <a:ext cx="87375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people have dimples, while others do not.  The presence of dimples is a dominant trait (D), while not having dimples is recessive (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Susie has dimples, but her husband, Tom, does not. Their first child has his father's phenotype. What are the genotypes of the mother, father, and chil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her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ther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n’s Genotype: 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What is the probability that a second chi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n’t have dimples? Create a Punnett squ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upport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515280" y="4503600"/>
            <a:ext cx="2019240" cy="1828800"/>
            <a:chOff x="6515280" y="4503600"/>
            <a:chExt cx="2019240" cy="1828800"/>
          </a:xfrm>
        </p:grpSpPr>
        <p:sp>
          <p:nvSpPr>
            <p:cNvPr id="79" name=""/>
            <p:cNvSpPr/>
            <p:nvPr/>
          </p:nvSpPr>
          <p:spPr>
            <a:xfrm>
              <a:off x="6515280" y="4503600"/>
              <a:ext cx="2019240" cy="1828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515280" y="4503600"/>
              <a:ext cx="2019240" cy="1828800"/>
              <a:chOff x="6515280" y="4503600"/>
              <a:chExt cx="2019240" cy="1828800"/>
            </a:xfrm>
          </p:grpSpPr>
          <p:sp>
            <p:nvSpPr>
              <p:cNvPr id="81" name=""/>
              <p:cNvSpPr/>
              <p:nvPr/>
            </p:nvSpPr>
            <p:spPr>
              <a:xfrm>
                <a:off x="7524720" y="450360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15280" y="5418000"/>
                <a:ext cx="201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5905440" y="4727520"/>
            <a:ext cx="533520" cy="1528200"/>
            <a:chOff x="5905440" y="4727520"/>
            <a:chExt cx="533520" cy="1528200"/>
          </a:xfrm>
        </p:grpSpPr>
        <p:sp>
          <p:nvSpPr>
            <p:cNvPr id="84" name=""/>
            <p:cNvSpPr/>
            <p:nvPr/>
          </p:nvSpPr>
          <p:spPr>
            <a:xfrm>
              <a:off x="5905440" y="472752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05440" y="561312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819840" y="3809880"/>
            <a:ext cx="1524240" cy="642600"/>
            <a:chOff x="6819840" y="3809880"/>
            <a:chExt cx="1524240" cy="642600"/>
          </a:xfrm>
        </p:grpSpPr>
        <p:sp>
          <p:nvSpPr>
            <p:cNvPr id="87" name=""/>
            <p:cNvSpPr/>
            <p:nvPr/>
          </p:nvSpPr>
          <p:spPr>
            <a:xfrm>
              <a:off x="6819840" y="380988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10560" y="3809880"/>
              <a:ext cx="5335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66040" y="4648320"/>
            <a:ext cx="1942920" cy="1524960"/>
            <a:chOff x="6566040" y="4648320"/>
            <a:chExt cx="1942920" cy="1524960"/>
          </a:xfrm>
        </p:grpSpPr>
        <p:sp>
          <p:nvSpPr>
            <p:cNvPr id="90" name=""/>
            <p:cNvSpPr/>
            <p:nvPr/>
          </p:nvSpPr>
          <p:spPr>
            <a:xfrm>
              <a:off x="6566040" y="4648320"/>
              <a:ext cx="9522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56400" y="464832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5530680"/>
              <a:ext cx="9522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56400" y="5530680"/>
              <a:ext cx="952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505320" y="19810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251460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99412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5334120"/>
            <a:ext cx="7924680" cy="1092240"/>
            <a:chOff x="685800" y="5334120"/>
            <a:chExt cx="7924680" cy="1092240"/>
          </a:xfrm>
        </p:grpSpPr>
        <p:sp>
          <p:nvSpPr>
            <p:cNvPr id="98" name=""/>
            <p:cNvSpPr/>
            <p:nvPr/>
          </p:nvSpPr>
          <p:spPr>
            <a:xfrm>
              <a:off x="685800" y="533412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re would be a 50% probability that the second child would not have dimpl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77120" y="5359320"/>
              <a:ext cx="2133360" cy="1067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1:53:26Z</dcterms:created>
  <dc:creator>Tracy Trimpe</dc:creator>
  <dc:description/>
  <dc:language>en-US</dc:language>
  <cp:lastModifiedBy>Tracy Trimpe</cp:lastModifiedBy>
  <dcterms:modified xsi:type="dcterms:W3CDTF">2008-06-06T05:49:59Z</dcterms:modified>
  <cp:revision>17</cp:revision>
  <dc:subject/>
  <dc:title>Slide 1</dc:title>
</cp:coreProperties>
</file>