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F8673-CCDE-4E60-8BC9-C511FE1FD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77D88-3D16-4DEC-A689-39B6C9B90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07609-56B3-4CD0-B4EC-19D74BF9C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73FC2-32D9-471F-837B-06FA44A2D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A6A8B-F316-4362-A478-0B342EDB7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E27A9-376B-4955-B6CC-91207E368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EE819-FFC4-4474-AF72-92C167D83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140ED-3787-4CDA-BE0B-5CB53B0D1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80E40-5BDA-47B8-9A66-01D3D2CFF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4BB20-6E50-4E20-B0D9-B2F49E0A9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FC7EE-1DB7-4488-AE5E-2C6A4F7C0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5EEFF-365E-4CA0-970A-1A4E51FFE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2BA4A-9FE8-4306-9B74-7DAF0E2C50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657600" y="5638680"/>
            <a:ext cx="1498680" cy="88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4140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Cooper Black"/>
              </a:rPr>
              <a:t>#2</a:t>
            </a:r>
            <a:endParaRPr b="0" lang="en-US" sz="1800" spc="1" strike="noStrike">
              <a:ln w="4140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Cooper Black"/>
              <a:ea typeface="Cooper Black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35040" y="888840"/>
            <a:ext cx="7873920" cy="285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414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8100000"/>
                </a:gradFill>
                <a:latin typeface="Cooper Black"/>
              </a:rPr>
              <a:t>Punnett Practice</a:t>
            </a:r>
            <a:endParaRPr b="0" lang="en-US" sz="1800" spc="1" strike="noStrike">
              <a:ln w="414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8100000"/>
              </a:gradFill>
              <a:latin typeface="Cooper Black"/>
              <a:ea typeface="Cooper Black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77800" y="3844800"/>
            <a:ext cx="2130840" cy="2108160"/>
            <a:chOff x="577800" y="3844800"/>
            <a:chExt cx="2130840" cy="2108160"/>
          </a:xfrm>
        </p:grpSpPr>
        <p:sp>
          <p:nvSpPr>
            <p:cNvPr id="44" name=""/>
            <p:cNvSpPr/>
            <p:nvPr/>
          </p:nvSpPr>
          <p:spPr>
            <a:xfrm rot="19696800">
              <a:off x="855720" y="4146120"/>
              <a:ext cx="1574640" cy="1505160"/>
            </a:xfrm>
            <a:prstGeom prst="rect">
              <a:avLst/>
            </a:prstGeom>
            <a:solidFill>
              <a:srgbClr val="cc00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" name=""/>
            <p:cNvGrpSpPr/>
            <p:nvPr/>
          </p:nvGrpSpPr>
          <p:grpSpPr>
            <a:xfrm>
              <a:off x="973440" y="4258800"/>
              <a:ext cx="1339200" cy="1280520"/>
              <a:chOff x="973440" y="4258800"/>
              <a:chExt cx="1339200" cy="1280520"/>
            </a:xfrm>
          </p:grpSpPr>
          <p:sp>
            <p:nvSpPr>
              <p:cNvPr id="46" name=""/>
              <p:cNvSpPr/>
              <p:nvPr/>
            </p:nvSpPr>
            <p:spPr>
              <a:xfrm>
                <a:off x="1247400" y="4258800"/>
                <a:ext cx="791280" cy="1280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flipV="1">
                <a:off x="973440" y="4484880"/>
                <a:ext cx="1339200" cy="828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8" name=""/>
          <p:cNvGrpSpPr/>
          <p:nvPr/>
        </p:nvGrpSpPr>
        <p:grpSpPr>
          <a:xfrm>
            <a:off x="6254280" y="3879720"/>
            <a:ext cx="2147040" cy="2127960"/>
            <a:chOff x="6254280" y="3879720"/>
            <a:chExt cx="2147040" cy="2127960"/>
          </a:xfrm>
        </p:grpSpPr>
        <p:sp>
          <p:nvSpPr>
            <p:cNvPr id="49" name=""/>
            <p:cNvSpPr/>
            <p:nvPr/>
          </p:nvSpPr>
          <p:spPr>
            <a:xfrm rot="2038800">
              <a:off x="6540120" y="4191120"/>
              <a:ext cx="1575000" cy="1504800"/>
            </a:xfrm>
            <a:prstGeom prst="rect">
              <a:avLst/>
            </a:prstGeom>
            <a:solidFill>
              <a:srgbClr val="33cc3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" name=""/>
            <p:cNvGrpSpPr/>
            <p:nvPr/>
          </p:nvGrpSpPr>
          <p:grpSpPr>
            <a:xfrm>
              <a:off x="6674760" y="4319640"/>
              <a:ext cx="1306440" cy="1247760"/>
              <a:chOff x="6674760" y="4319640"/>
              <a:chExt cx="1306440" cy="1247760"/>
            </a:xfrm>
          </p:grpSpPr>
          <p:sp>
            <p:nvSpPr>
              <p:cNvPr id="51" name=""/>
              <p:cNvSpPr/>
              <p:nvPr/>
            </p:nvSpPr>
            <p:spPr>
              <a:xfrm flipH="1">
                <a:off x="6907320" y="4319640"/>
                <a:ext cx="840960" cy="1247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6674760" y="4503600"/>
                <a:ext cx="1306440" cy="880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3" name=""/>
          <p:cNvGrpSpPr/>
          <p:nvPr/>
        </p:nvGrpSpPr>
        <p:grpSpPr>
          <a:xfrm>
            <a:off x="3864960" y="4235400"/>
            <a:ext cx="1210680" cy="1117440"/>
            <a:chOff x="3864960" y="4235400"/>
            <a:chExt cx="1210680" cy="1117440"/>
          </a:xfrm>
        </p:grpSpPr>
        <p:sp>
          <p:nvSpPr>
            <p:cNvPr id="54" name=""/>
            <p:cNvSpPr/>
            <p:nvPr/>
          </p:nvSpPr>
          <p:spPr>
            <a:xfrm rot="576600">
              <a:off x="3936960" y="4317480"/>
              <a:ext cx="1066680" cy="952560"/>
            </a:xfrm>
            <a:prstGeom prst="rect">
              <a:avLst/>
            </a:prstGeom>
            <a:solidFill>
              <a:srgbClr val="ff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3944520" y="4324680"/>
              <a:ext cx="1051560" cy="938880"/>
              <a:chOff x="3944520" y="4324680"/>
              <a:chExt cx="1051560" cy="938880"/>
            </a:xfrm>
          </p:grpSpPr>
          <p:sp>
            <p:nvSpPr>
              <p:cNvPr id="56" name=""/>
              <p:cNvSpPr/>
              <p:nvPr/>
            </p:nvSpPr>
            <p:spPr>
              <a:xfrm flipH="1">
                <a:off x="4390560" y="4324680"/>
                <a:ext cx="159120" cy="938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3944520" y="4705200"/>
                <a:ext cx="1051560" cy="177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8" name=""/>
          <p:cNvGrpSpPr/>
          <p:nvPr/>
        </p:nvGrpSpPr>
        <p:grpSpPr>
          <a:xfrm>
            <a:off x="5510160" y="317880"/>
            <a:ext cx="917640" cy="824760"/>
            <a:chOff x="5510160" y="317880"/>
            <a:chExt cx="917640" cy="824760"/>
          </a:xfrm>
        </p:grpSpPr>
        <p:sp>
          <p:nvSpPr>
            <p:cNvPr id="59" name=""/>
            <p:cNvSpPr/>
            <p:nvPr/>
          </p:nvSpPr>
          <p:spPr>
            <a:xfrm rot="576600">
              <a:off x="5562720" y="380520"/>
              <a:ext cx="812520" cy="698760"/>
            </a:xfrm>
            <a:prstGeom prst="rect">
              <a:avLst/>
            </a:prstGeom>
            <a:solidFill>
              <a:srgbClr val="0000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" name=""/>
            <p:cNvGrpSpPr/>
            <p:nvPr/>
          </p:nvGrpSpPr>
          <p:grpSpPr>
            <a:xfrm>
              <a:off x="5568480" y="385920"/>
              <a:ext cx="801000" cy="688680"/>
              <a:chOff x="5568480" y="385920"/>
              <a:chExt cx="801000" cy="688680"/>
            </a:xfrm>
          </p:grpSpPr>
          <p:sp>
            <p:nvSpPr>
              <p:cNvPr id="61" name=""/>
              <p:cNvSpPr/>
              <p:nvPr/>
            </p:nvSpPr>
            <p:spPr>
              <a:xfrm flipH="1">
                <a:off x="5910480" y="385920"/>
                <a:ext cx="116640" cy="688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568480" y="662400"/>
                <a:ext cx="801000" cy="135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3" name=""/>
          <p:cNvGrpSpPr/>
          <p:nvPr/>
        </p:nvGrpSpPr>
        <p:grpSpPr>
          <a:xfrm>
            <a:off x="2585160" y="309240"/>
            <a:ext cx="1027440" cy="969480"/>
            <a:chOff x="2585160" y="309240"/>
            <a:chExt cx="1027440" cy="969480"/>
          </a:xfrm>
        </p:grpSpPr>
        <p:sp>
          <p:nvSpPr>
            <p:cNvPr id="64" name=""/>
            <p:cNvSpPr/>
            <p:nvPr/>
          </p:nvSpPr>
          <p:spPr>
            <a:xfrm rot="20151600">
              <a:off x="2692080" y="444600"/>
              <a:ext cx="812880" cy="6984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"/>
            <p:cNvGrpSpPr/>
            <p:nvPr/>
          </p:nvGrpSpPr>
          <p:grpSpPr>
            <a:xfrm>
              <a:off x="2728080" y="475200"/>
              <a:ext cx="741600" cy="637200"/>
              <a:chOff x="2728080" y="475200"/>
              <a:chExt cx="741600" cy="637200"/>
            </a:xfrm>
          </p:grpSpPr>
          <p:sp>
            <p:nvSpPr>
              <p:cNvPr id="66" name=""/>
              <p:cNvSpPr/>
              <p:nvPr/>
            </p:nvSpPr>
            <p:spPr>
              <a:xfrm>
                <a:off x="2955960" y="475200"/>
                <a:ext cx="285840" cy="63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>
                <a:off x="2728080" y="627480"/>
                <a:ext cx="741600" cy="33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" name=""/>
          <p:cNvSpPr/>
          <p:nvPr/>
        </p:nvSpPr>
        <p:spPr>
          <a:xfrm>
            <a:off x="5181480" y="6489720"/>
            <a:ext cx="3810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. Trimpe 2008   http://sciencespot.net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6629400" y="152280"/>
            <a:ext cx="238140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52280" y="190440"/>
            <a:ext cx="8737560" cy="457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. Predict the offspring from a cross between a purebred pea plant with purple flowers and a pea plant with white flowers.  Use P for purple and p for whi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a) Give the genotypes.    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Purebred Purp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____     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Whit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b) Create a Punnett square to determine the genotypes for the offspr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c) What is the probability that a plant would have purple flowers? _______ 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d) What is the probability that a plant would have white flowers? _______ 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.  If you crossed two hybrid plants with purple flowers and planted 200 of the seeds, how many would you expect to have with white flowers.  Create a Punnett square to support your answ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7772400" y="914400"/>
            <a:ext cx="1181160" cy="1066680"/>
            <a:chOff x="7772400" y="914400"/>
            <a:chExt cx="1181160" cy="1066680"/>
          </a:xfrm>
        </p:grpSpPr>
        <p:sp>
          <p:nvSpPr>
            <p:cNvPr id="72" name=""/>
            <p:cNvSpPr/>
            <p:nvPr/>
          </p:nvSpPr>
          <p:spPr>
            <a:xfrm>
              <a:off x="7772400" y="914400"/>
              <a:ext cx="1181160" cy="10666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" name=""/>
            <p:cNvGrpSpPr/>
            <p:nvPr/>
          </p:nvGrpSpPr>
          <p:grpSpPr>
            <a:xfrm>
              <a:off x="7772400" y="914400"/>
              <a:ext cx="1181160" cy="1066680"/>
              <a:chOff x="7772400" y="914400"/>
              <a:chExt cx="1181160" cy="1066680"/>
            </a:xfrm>
          </p:grpSpPr>
          <p:sp>
            <p:nvSpPr>
              <p:cNvPr id="74" name=""/>
              <p:cNvSpPr/>
              <p:nvPr/>
            </p:nvSpPr>
            <p:spPr>
              <a:xfrm>
                <a:off x="8362800" y="914400"/>
                <a:ext cx="0" cy="1066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772400" y="1447560"/>
                <a:ext cx="1181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6" name=""/>
          <p:cNvGrpSpPr/>
          <p:nvPr/>
        </p:nvGrpSpPr>
        <p:grpSpPr>
          <a:xfrm>
            <a:off x="1066680" y="5029200"/>
            <a:ext cx="1181160" cy="1066680"/>
            <a:chOff x="1066680" y="5029200"/>
            <a:chExt cx="1181160" cy="1066680"/>
          </a:xfrm>
        </p:grpSpPr>
        <p:sp>
          <p:nvSpPr>
            <p:cNvPr id="77" name=""/>
            <p:cNvSpPr/>
            <p:nvPr/>
          </p:nvSpPr>
          <p:spPr>
            <a:xfrm>
              <a:off x="1066680" y="5029200"/>
              <a:ext cx="1181160" cy="10666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1066680" y="5029200"/>
              <a:ext cx="1181160" cy="1066680"/>
              <a:chOff x="1066680" y="5029200"/>
              <a:chExt cx="1181160" cy="1066680"/>
            </a:xfrm>
          </p:grpSpPr>
          <p:sp>
            <p:nvSpPr>
              <p:cNvPr id="79" name=""/>
              <p:cNvSpPr/>
              <p:nvPr/>
            </p:nvSpPr>
            <p:spPr>
              <a:xfrm>
                <a:off x="1657080" y="5029200"/>
                <a:ext cx="0" cy="1066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1066680" y="5562360"/>
                <a:ext cx="1181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7086600" y="4952880"/>
            <a:ext cx="1523880" cy="15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52280" y="190440"/>
            <a:ext cx="8737560" cy="60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. Predict the offspring from a cross between a purebred pea plant with purple flowers and a pea plant with white flowers.  Use P for purple and p for whi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a) Give the genotypes.    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Purebred Purp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____     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Whit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b) Create a Punnett square to determine the genotypes for the offspr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c) What is the probability that a plant would have purple flowers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d) What is the probability that a plant would have white flowers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2819520" y="2768760"/>
            <a:ext cx="2019240" cy="1885680"/>
            <a:chOff x="2819520" y="2768760"/>
            <a:chExt cx="2019240" cy="1885680"/>
          </a:xfrm>
        </p:grpSpPr>
        <p:sp>
          <p:nvSpPr>
            <p:cNvPr id="84" name=""/>
            <p:cNvSpPr/>
            <p:nvPr/>
          </p:nvSpPr>
          <p:spPr>
            <a:xfrm>
              <a:off x="2819520" y="2768760"/>
              <a:ext cx="2019240" cy="18856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" name=""/>
            <p:cNvGrpSpPr/>
            <p:nvPr/>
          </p:nvGrpSpPr>
          <p:grpSpPr>
            <a:xfrm>
              <a:off x="2819520" y="2768760"/>
              <a:ext cx="2019240" cy="1885680"/>
              <a:chOff x="2819520" y="2768760"/>
              <a:chExt cx="2019240" cy="1885680"/>
            </a:xfrm>
          </p:grpSpPr>
          <p:sp>
            <p:nvSpPr>
              <p:cNvPr id="86" name=""/>
              <p:cNvSpPr/>
              <p:nvPr/>
            </p:nvSpPr>
            <p:spPr>
              <a:xfrm>
                <a:off x="3828960" y="2768760"/>
                <a:ext cx="0" cy="1885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2819520" y="3711600"/>
                <a:ext cx="2019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8" name=""/>
          <p:cNvGrpSpPr/>
          <p:nvPr/>
        </p:nvGrpSpPr>
        <p:grpSpPr>
          <a:xfrm>
            <a:off x="2209680" y="2971800"/>
            <a:ext cx="533520" cy="1557000"/>
            <a:chOff x="2209680" y="2971800"/>
            <a:chExt cx="533520" cy="1557000"/>
          </a:xfrm>
        </p:grpSpPr>
        <p:sp>
          <p:nvSpPr>
            <p:cNvPr id="89" name=""/>
            <p:cNvSpPr/>
            <p:nvPr/>
          </p:nvSpPr>
          <p:spPr>
            <a:xfrm>
              <a:off x="2209680" y="2971800"/>
              <a:ext cx="533520" cy="6426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209680" y="3886200"/>
              <a:ext cx="533520" cy="6426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3124080" y="2057400"/>
            <a:ext cx="1524240" cy="642600"/>
            <a:chOff x="3124080" y="2057400"/>
            <a:chExt cx="1524240" cy="642600"/>
          </a:xfrm>
        </p:grpSpPr>
        <p:sp>
          <p:nvSpPr>
            <p:cNvPr id="92" name=""/>
            <p:cNvSpPr/>
            <p:nvPr/>
          </p:nvSpPr>
          <p:spPr>
            <a:xfrm>
              <a:off x="3124080" y="2057400"/>
              <a:ext cx="533520" cy="6426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114800" y="2057400"/>
              <a:ext cx="533520" cy="6426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870280" y="2959200"/>
            <a:ext cx="1942920" cy="1525320"/>
            <a:chOff x="2870280" y="2959200"/>
            <a:chExt cx="1942920" cy="1525320"/>
          </a:xfrm>
        </p:grpSpPr>
        <p:sp>
          <p:nvSpPr>
            <p:cNvPr id="95" name=""/>
            <p:cNvSpPr/>
            <p:nvPr/>
          </p:nvSpPr>
          <p:spPr>
            <a:xfrm>
              <a:off x="2870280" y="2959200"/>
              <a:ext cx="952560" cy="6426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Pp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60640" y="2959200"/>
              <a:ext cx="952560" cy="6426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Pp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870280" y="3841920"/>
              <a:ext cx="952560" cy="6426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Pp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860640" y="3841920"/>
              <a:ext cx="952560" cy="6426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Pp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"/>
          <p:cNvSpPr/>
          <p:nvPr/>
        </p:nvSpPr>
        <p:spPr>
          <a:xfrm>
            <a:off x="7010280" y="5562720"/>
            <a:ext cx="87156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086600" y="5029200"/>
            <a:ext cx="87156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0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835520" y="990720"/>
            <a:ext cx="68580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737400" y="990720"/>
            <a:ext cx="68580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52280" y="190440"/>
            <a:ext cx="873756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.  If you crossed two hybrid plants with purple flowers and planted 200 of the seeds, how many would you expect to have with white flowers.  Create a Punnett square to support your answ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1143000" y="2133720"/>
            <a:ext cx="2019240" cy="1885680"/>
            <a:chOff x="1143000" y="2133720"/>
            <a:chExt cx="2019240" cy="1885680"/>
          </a:xfrm>
        </p:grpSpPr>
        <p:sp>
          <p:nvSpPr>
            <p:cNvPr id="105" name=""/>
            <p:cNvSpPr/>
            <p:nvPr/>
          </p:nvSpPr>
          <p:spPr>
            <a:xfrm>
              <a:off x="1143000" y="2133720"/>
              <a:ext cx="2019240" cy="18856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1143000" y="2133720"/>
              <a:ext cx="2019240" cy="1885680"/>
              <a:chOff x="1143000" y="2133720"/>
              <a:chExt cx="2019240" cy="1885680"/>
            </a:xfrm>
          </p:grpSpPr>
          <p:sp>
            <p:nvSpPr>
              <p:cNvPr id="107" name=""/>
              <p:cNvSpPr/>
              <p:nvPr/>
            </p:nvSpPr>
            <p:spPr>
              <a:xfrm>
                <a:off x="2152440" y="2133720"/>
                <a:ext cx="0" cy="1885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1143000" y="3076560"/>
                <a:ext cx="2019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9" name=""/>
          <p:cNvGrpSpPr/>
          <p:nvPr/>
        </p:nvGrpSpPr>
        <p:grpSpPr>
          <a:xfrm>
            <a:off x="533520" y="2336760"/>
            <a:ext cx="533160" cy="1557000"/>
            <a:chOff x="533520" y="2336760"/>
            <a:chExt cx="533160" cy="1557000"/>
          </a:xfrm>
        </p:grpSpPr>
        <p:sp>
          <p:nvSpPr>
            <p:cNvPr id="110" name=""/>
            <p:cNvSpPr/>
            <p:nvPr/>
          </p:nvSpPr>
          <p:spPr>
            <a:xfrm>
              <a:off x="533520" y="2336760"/>
              <a:ext cx="533160" cy="6426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33520" y="3251160"/>
              <a:ext cx="533160" cy="6426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1447920" y="1422360"/>
            <a:ext cx="1523520" cy="642600"/>
            <a:chOff x="1447920" y="1422360"/>
            <a:chExt cx="1523520" cy="642600"/>
          </a:xfrm>
        </p:grpSpPr>
        <p:sp>
          <p:nvSpPr>
            <p:cNvPr id="113" name=""/>
            <p:cNvSpPr/>
            <p:nvPr/>
          </p:nvSpPr>
          <p:spPr>
            <a:xfrm>
              <a:off x="1447920" y="1422360"/>
              <a:ext cx="533160" cy="6426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438280" y="1422360"/>
              <a:ext cx="533160" cy="6426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1193760" y="2324160"/>
            <a:ext cx="1943280" cy="1525320"/>
            <a:chOff x="1193760" y="2324160"/>
            <a:chExt cx="1943280" cy="1525320"/>
          </a:xfrm>
        </p:grpSpPr>
        <p:sp>
          <p:nvSpPr>
            <p:cNvPr id="116" name=""/>
            <p:cNvSpPr/>
            <p:nvPr/>
          </p:nvSpPr>
          <p:spPr>
            <a:xfrm>
              <a:off x="1193760" y="2324160"/>
              <a:ext cx="952560" cy="6426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PP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184480" y="2324160"/>
              <a:ext cx="952560" cy="6426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Pp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193760" y="3206880"/>
              <a:ext cx="952560" cy="6426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Pp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184480" y="3206880"/>
              <a:ext cx="952560" cy="6426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pp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2057400" y="3048120"/>
            <a:ext cx="5791320" cy="1161000"/>
            <a:chOff x="2057400" y="3048120"/>
            <a:chExt cx="5791320" cy="1161000"/>
          </a:xfrm>
        </p:grpSpPr>
        <p:sp>
          <p:nvSpPr>
            <p:cNvPr id="121" name=""/>
            <p:cNvSpPr/>
            <p:nvPr/>
          </p:nvSpPr>
          <p:spPr>
            <a:xfrm>
              <a:off x="2057400" y="3048120"/>
              <a:ext cx="1219320" cy="114300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505320" y="3200400"/>
              <a:ext cx="434340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You would expect to see white flowers on 25% of the plants, which would be 50 plants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6T01:53:26Z</dcterms:created>
  <dc:creator>Tracy Trimpe</dc:creator>
  <dc:description/>
  <dc:language>en-US</dc:language>
  <cp:lastModifiedBy>Tracy Trimpe</cp:lastModifiedBy>
  <dcterms:modified xsi:type="dcterms:W3CDTF">2008-06-03T04:22:09Z</dcterms:modified>
  <cp:revision>12</cp:revision>
  <dc:subject/>
  <dc:title>Slide 1</dc:title>
</cp:coreProperties>
</file>