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F3E-C8B1-4852-BD3F-B17D618A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B81-17BB-44E3-961D-78309479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EDD4-34D4-47AB-B182-43B42DAC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FB6-9A19-4B06-9922-2941C0B9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51E-0951-4E54-BCF7-5FA5D354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94D-B5CD-4D56-923B-A5AE5091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31B-8FB1-4504-AF76-F530B462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A01-0C55-4EB4-9A52-C4148B00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5F4-2538-42C4-80E4-5B45C599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036B-5AA5-4F77-92A0-E1004D30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BF5-96A7-40CA-A834-952F5631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1B5-DA1E-45BC-9913-0319D2AC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14AF-E928-4F36-8C31-9A0CBBE58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57600" y="5638680"/>
            <a:ext cx="14986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#2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5040" y="888840"/>
            <a:ext cx="78739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Cooper Black"/>
              </a:rPr>
              <a:t>Punnett Practic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Cooper Black"/>
              <a:ea typeface="Cooper Black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7800" y="3844800"/>
            <a:ext cx="2130840" cy="2108160"/>
            <a:chOff x="577800" y="3844800"/>
            <a:chExt cx="2130840" cy="2108160"/>
          </a:xfrm>
        </p:grpSpPr>
        <p:sp>
          <p:nvSpPr>
            <p:cNvPr id="44" name=""/>
            <p:cNvSpPr/>
            <p:nvPr/>
          </p:nvSpPr>
          <p:spPr>
            <a:xfrm rot="19696800">
              <a:off x="855720" y="4146120"/>
              <a:ext cx="1574640" cy="1505160"/>
            </a:xfrm>
            <a:prstGeom prst="rect">
              <a:avLst/>
            </a:prstGeom>
            <a:solidFill>
              <a:srgbClr val="cc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73440" y="4258800"/>
              <a:ext cx="1339200" cy="1280520"/>
              <a:chOff x="973440" y="4258800"/>
              <a:chExt cx="1339200" cy="1280520"/>
            </a:xfrm>
          </p:grpSpPr>
          <p:sp>
            <p:nvSpPr>
              <p:cNvPr id="46" name=""/>
              <p:cNvSpPr/>
              <p:nvPr/>
            </p:nvSpPr>
            <p:spPr>
              <a:xfrm>
                <a:off x="1247400" y="4258800"/>
                <a:ext cx="791280" cy="12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973440" y="4484880"/>
                <a:ext cx="1339200" cy="8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" name=""/>
          <p:cNvGrpSpPr/>
          <p:nvPr/>
        </p:nvGrpSpPr>
        <p:grpSpPr>
          <a:xfrm>
            <a:off x="6254280" y="3879720"/>
            <a:ext cx="2147040" cy="2127960"/>
            <a:chOff x="6254280" y="3879720"/>
            <a:chExt cx="2147040" cy="2127960"/>
          </a:xfrm>
        </p:grpSpPr>
        <p:sp>
          <p:nvSpPr>
            <p:cNvPr id="49" name=""/>
            <p:cNvSpPr/>
            <p:nvPr/>
          </p:nvSpPr>
          <p:spPr>
            <a:xfrm rot="2038800">
              <a:off x="6540120" y="4191120"/>
              <a:ext cx="1575000" cy="1504800"/>
            </a:xfrm>
            <a:prstGeom prst="rect">
              <a:avLst/>
            </a:prstGeom>
            <a:solidFill>
              <a:srgbClr val="33cc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6674760" y="4319640"/>
              <a:ext cx="1306440" cy="1247760"/>
              <a:chOff x="6674760" y="4319640"/>
              <a:chExt cx="1306440" cy="1247760"/>
            </a:xfrm>
          </p:grpSpPr>
          <p:sp>
            <p:nvSpPr>
              <p:cNvPr id="51" name=""/>
              <p:cNvSpPr/>
              <p:nvPr/>
            </p:nvSpPr>
            <p:spPr>
              <a:xfrm flipH="1">
                <a:off x="6907320" y="4319640"/>
                <a:ext cx="840960" cy="12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674760" y="4503600"/>
                <a:ext cx="1306440" cy="88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3864960" y="4235400"/>
            <a:ext cx="1210680" cy="1117440"/>
            <a:chOff x="3864960" y="4235400"/>
            <a:chExt cx="1210680" cy="1117440"/>
          </a:xfrm>
        </p:grpSpPr>
        <p:sp>
          <p:nvSpPr>
            <p:cNvPr id="54" name=""/>
            <p:cNvSpPr/>
            <p:nvPr/>
          </p:nvSpPr>
          <p:spPr>
            <a:xfrm rot="576600">
              <a:off x="3936960" y="4317480"/>
              <a:ext cx="1066680" cy="95256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944520" y="4324680"/>
              <a:ext cx="1051560" cy="938880"/>
              <a:chOff x="3944520" y="4324680"/>
              <a:chExt cx="1051560" cy="93888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4390560" y="4324680"/>
                <a:ext cx="159120" cy="93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44520" y="4705200"/>
                <a:ext cx="105156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510160" y="317880"/>
            <a:ext cx="917640" cy="824760"/>
            <a:chOff x="5510160" y="317880"/>
            <a:chExt cx="917640" cy="824760"/>
          </a:xfrm>
        </p:grpSpPr>
        <p:sp>
          <p:nvSpPr>
            <p:cNvPr id="59" name=""/>
            <p:cNvSpPr/>
            <p:nvPr/>
          </p:nvSpPr>
          <p:spPr>
            <a:xfrm rot="576600">
              <a:off x="5562720" y="380520"/>
              <a:ext cx="812520" cy="69876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568480" y="385920"/>
              <a:ext cx="801000" cy="688680"/>
              <a:chOff x="5568480" y="385920"/>
              <a:chExt cx="801000" cy="688680"/>
            </a:xfrm>
          </p:grpSpPr>
          <p:sp>
            <p:nvSpPr>
              <p:cNvPr id="61" name=""/>
              <p:cNvSpPr/>
              <p:nvPr/>
            </p:nvSpPr>
            <p:spPr>
              <a:xfrm flipH="1">
                <a:off x="5910480" y="385920"/>
                <a:ext cx="116640" cy="68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68480" y="662400"/>
                <a:ext cx="80100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2585160" y="309240"/>
            <a:ext cx="1027440" cy="969480"/>
            <a:chOff x="2585160" y="309240"/>
            <a:chExt cx="1027440" cy="969480"/>
          </a:xfrm>
        </p:grpSpPr>
        <p:sp>
          <p:nvSpPr>
            <p:cNvPr id="64" name=""/>
            <p:cNvSpPr/>
            <p:nvPr/>
          </p:nvSpPr>
          <p:spPr>
            <a:xfrm rot="20151600">
              <a:off x="2692080" y="444600"/>
              <a:ext cx="812880" cy="6984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728080" y="475200"/>
              <a:ext cx="741600" cy="637200"/>
              <a:chOff x="2728080" y="475200"/>
              <a:chExt cx="741600" cy="637200"/>
            </a:xfrm>
          </p:grpSpPr>
          <p:sp>
            <p:nvSpPr>
              <p:cNvPr id="66" name=""/>
              <p:cNvSpPr/>
              <p:nvPr/>
            </p:nvSpPr>
            <p:spPr>
              <a:xfrm>
                <a:off x="2955960" y="475200"/>
                <a:ext cx="285840" cy="63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2728080" y="627480"/>
                <a:ext cx="741600" cy="33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5181480" y="6489720"/>
            <a:ext cx="381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190440"/>
            <a:ext cx="873756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Predict the offspring from a cross between a purebred pea plant with purple flowers and a pea plant with white flowers.  Use P for purple and p for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Give the genotypes.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rebred Pur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____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Create a Punnett square to determine the genotypes for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What is the probability that a plant would have purple flowers? _______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 What is the probability that a plant would have white flowers? _______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If you crossed two hybrid plants with purple flowers and planted 200 of the seeds, how many would you expect to have with white flowers.  Create a Punnett square to support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772400" y="914400"/>
            <a:ext cx="1181160" cy="1066680"/>
            <a:chOff x="7772400" y="914400"/>
            <a:chExt cx="1181160" cy="1066680"/>
          </a:xfrm>
        </p:grpSpPr>
        <p:sp>
          <p:nvSpPr>
            <p:cNvPr id="72" name=""/>
            <p:cNvSpPr/>
            <p:nvPr/>
          </p:nvSpPr>
          <p:spPr>
            <a:xfrm>
              <a:off x="7772400" y="914400"/>
              <a:ext cx="1181160" cy="10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7772400" y="914400"/>
              <a:ext cx="1181160" cy="1066680"/>
              <a:chOff x="7772400" y="914400"/>
              <a:chExt cx="1181160" cy="1066680"/>
            </a:xfrm>
          </p:grpSpPr>
          <p:sp>
            <p:nvSpPr>
              <p:cNvPr id="74" name=""/>
              <p:cNvSpPr/>
              <p:nvPr/>
            </p:nvSpPr>
            <p:spPr>
              <a:xfrm>
                <a:off x="8362800" y="91440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72400" y="1447560"/>
                <a:ext cx="118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1066680" y="5029200"/>
            <a:ext cx="1181160" cy="1066680"/>
            <a:chOff x="1066680" y="5029200"/>
            <a:chExt cx="1181160" cy="1066680"/>
          </a:xfrm>
        </p:grpSpPr>
        <p:sp>
          <p:nvSpPr>
            <p:cNvPr id="77" name=""/>
            <p:cNvSpPr/>
            <p:nvPr/>
          </p:nvSpPr>
          <p:spPr>
            <a:xfrm>
              <a:off x="1066680" y="5029200"/>
              <a:ext cx="1181160" cy="10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066680" y="5029200"/>
              <a:ext cx="1181160" cy="1066680"/>
              <a:chOff x="1066680" y="5029200"/>
              <a:chExt cx="1181160" cy="1066680"/>
            </a:xfrm>
          </p:grpSpPr>
          <p:sp>
            <p:nvSpPr>
              <p:cNvPr id="79" name=""/>
              <p:cNvSpPr/>
              <p:nvPr/>
            </p:nvSpPr>
            <p:spPr>
              <a:xfrm>
                <a:off x="1657080" y="502920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066680" y="5562360"/>
                <a:ext cx="118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5238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190440"/>
            <a:ext cx="873756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Predict the offspring from a cross between a purebred pea plant with purple flowers and a pea plant with white flowers.  Use P for purple and p for w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Give the genotypes.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rebred Pur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____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Create a Punnett square to determine the genotypes for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What is the probability that a plant would have purple flower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 What is the probability that a plant would have white flower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819520" y="2768760"/>
            <a:ext cx="2019240" cy="1885680"/>
            <a:chOff x="2819520" y="2768760"/>
            <a:chExt cx="2019240" cy="1885680"/>
          </a:xfrm>
        </p:grpSpPr>
        <p:sp>
          <p:nvSpPr>
            <p:cNvPr id="84" name=""/>
            <p:cNvSpPr/>
            <p:nvPr/>
          </p:nvSpPr>
          <p:spPr>
            <a:xfrm>
              <a:off x="2819520" y="2768760"/>
              <a:ext cx="2019240" cy="1885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819520" y="2768760"/>
              <a:ext cx="2019240" cy="1885680"/>
              <a:chOff x="2819520" y="2768760"/>
              <a:chExt cx="2019240" cy="1885680"/>
            </a:xfrm>
          </p:grpSpPr>
          <p:sp>
            <p:nvSpPr>
              <p:cNvPr id="86" name=""/>
              <p:cNvSpPr/>
              <p:nvPr/>
            </p:nvSpPr>
            <p:spPr>
              <a:xfrm>
                <a:off x="3828960" y="2768760"/>
                <a:ext cx="0" cy="18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819520" y="371160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2209680" y="2971800"/>
            <a:ext cx="533520" cy="1557000"/>
            <a:chOff x="2209680" y="2971800"/>
            <a:chExt cx="533520" cy="1557000"/>
          </a:xfrm>
        </p:grpSpPr>
        <p:sp>
          <p:nvSpPr>
            <p:cNvPr id="89" name=""/>
            <p:cNvSpPr/>
            <p:nvPr/>
          </p:nvSpPr>
          <p:spPr>
            <a:xfrm>
              <a:off x="2209680" y="297180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09680" y="388620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124080" y="2057400"/>
            <a:ext cx="1524240" cy="642600"/>
            <a:chOff x="3124080" y="2057400"/>
            <a:chExt cx="1524240" cy="642600"/>
          </a:xfrm>
        </p:grpSpPr>
        <p:sp>
          <p:nvSpPr>
            <p:cNvPr id="92" name=""/>
            <p:cNvSpPr/>
            <p:nvPr/>
          </p:nvSpPr>
          <p:spPr>
            <a:xfrm>
              <a:off x="3124080" y="205740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14800" y="205740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870280" y="2959200"/>
            <a:ext cx="1942920" cy="1525320"/>
            <a:chOff x="2870280" y="2959200"/>
            <a:chExt cx="1942920" cy="1525320"/>
          </a:xfrm>
        </p:grpSpPr>
        <p:sp>
          <p:nvSpPr>
            <p:cNvPr id="95" name=""/>
            <p:cNvSpPr/>
            <p:nvPr/>
          </p:nvSpPr>
          <p:spPr>
            <a:xfrm>
              <a:off x="2870280" y="295920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60640" y="295920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70280" y="384192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60640" y="384192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010280" y="5562720"/>
            <a:ext cx="871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5029200"/>
            <a:ext cx="871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35520" y="99072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7400" y="99072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280" y="190440"/>
            <a:ext cx="8737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If you crossed two hybrid plants with purple flowers and planted 200 of the seeds, how many would you expect to have with white flowers.  Create a Punnett square to support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43000" y="2133720"/>
            <a:ext cx="2019240" cy="1885680"/>
            <a:chOff x="1143000" y="2133720"/>
            <a:chExt cx="2019240" cy="1885680"/>
          </a:xfrm>
        </p:grpSpPr>
        <p:sp>
          <p:nvSpPr>
            <p:cNvPr id="105" name=""/>
            <p:cNvSpPr/>
            <p:nvPr/>
          </p:nvSpPr>
          <p:spPr>
            <a:xfrm>
              <a:off x="1143000" y="2133720"/>
              <a:ext cx="2019240" cy="1885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143000" y="2133720"/>
              <a:ext cx="2019240" cy="1885680"/>
              <a:chOff x="1143000" y="2133720"/>
              <a:chExt cx="2019240" cy="1885680"/>
            </a:xfrm>
          </p:grpSpPr>
          <p:sp>
            <p:nvSpPr>
              <p:cNvPr id="107" name=""/>
              <p:cNvSpPr/>
              <p:nvPr/>
            </p:nvSpPr>
            <p:spPr>
              <a:xfrm>
                <a:off x="2152440" y="2133720"/>
                <a:ext cx="0" cy="18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143000" y="307656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533520" y="2336760"/>
            <a:ext cx="533160" cy="1557000"/>
            <a:chOff x="533520" y="2336760"/>
            <a:chExt cx="533160" cy="1557000"/>
          </a:xfrm>
        </p:grpSpPr>
        <p:sp>
          <p:nvSpPr>
            <p:cNvPr id="110" name=""/>
            <p:cNvSpPr/>
            <p:nvPr/>
          </p:nvSpPr>
          <p:spPr>
            <a:xfrm>
              <a:off x="533520" y="233676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3520" y="325116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447920" y="1422360"/>
            <a:ext cx="1523520" cy="642600"/>
            <a:chOff x="1447920" y="1422360"/>
            <a:chExt cx="1523520" cy="642600"/>
          </a:xfrm>
        </p:grpSpPr>
        <p:sp>
          <p:nvSpPr>
            <p:cNvPr id="113" name=""/>
            <p:cNvSpPr/>
            <p:nvPr/>
          </p:nvSpPr>
          <p:spPr>
            <a:xfrm>
              <a:off x="1447920" y="142236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38280" y="142236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193760" y="2324160"/>
            <a:ext cx="1943280" cy="1525320"/>
            <a:chOff x="1193760" y="2324160"/>
            <a:chExt cx="1943280" cy="1525320"/>
          </a:xfrm>
        </p:grpSpPr>
        <p:sp>
          <p:nvSpPr>
            <p:cNvPr id="116" name=""/>
            <p:cNvSpPr/>
            <p:nvPr/>
          </p:nvSpPr>
          <p:spPr>
            <a:xfrm>
              <a:off x="1193760" y="232416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84480" y="232416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93760" y="320688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84480" y="320688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057400" y="3048120"/>
            <a:ext cx="5791320" cy="1161000"/>
            <a:chOff x="2057400" y="3048120"/>
            <a:chExt cx="5791320" cy="1161000"/>
          </a:xfrm>
        </p:grpSpPr>
        <p:sp>
          <p:nvSpPr>
            <p:cNvPr id="121" name=""/>
            <p:cNvSpPr/>
            <p:nvPr/>
          </p:nvSpPr>
          <p:spPr>
            <a:xfrm>
              <a:off x="2057400" y="3048120"/>
              <a:ext cx="121932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05320" y="3200400"/>
              <a:ext cx="4343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ou would expect to see white flowers on 25% of the plants, which would be 50 plant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1:53:26Z</dcterms:created>
  <dc:creator>Tracy Trimpe</dc:creator>
  <dc:description/>
  <dc:language>en-US</dc:language>
  <cp:lastModifiedBy>Tracy Trimpe</cp:lastModifiedBy>
  <dcterms:modified xsi:type="dcterms:W3CDTF">2008-06-03T04:22:09Z</dcterms:modified>
  <cp:revision>12</cp:revision>
  <dc:subject/>
  <dc:title>Slide 1</dc:title>
</cp:coreProperties>
</file>