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D42-D91C-4890-836D-6E8BEE9F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978-6BB1-43DD-A886-EDBC41B8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012-1660-422B-8161-2C0F1417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C32-A916-44B1-9534-3AE2450C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817-8DAB-45C1-AB56-4C957078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536-2CC7-4377-8181-1F608542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CB2-22B1-4387-96A9-67748F30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6F2-5711-4DA1-9B8B-1FDFFDCC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1F0-E5CD-4C68-8F25-E7A1E50C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F64-4D77-4BA9-B104-08E1CE2F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6CF-8C51-45D2-8E4B-5451C545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E51-1B63-4C1E-9CEE-8727BA0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4BB0-ED8F-41F8-BF5C-8F32AE483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5638680"/>
            <a:ext cx="149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5040" y="888840"/>
            <a:ext cx="7873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Punnett Practic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7800" y="3844800"/>
            <a:ext cx="2130840" cy="2108160"/>
            <a:chOff x="577800" y="3844800"/>
            <a:chExt cx="2130840" cy="2108160"/>
          </a:xfrm>
        </p:grpSpPr>
        <p:sp>
          <p:nvSpPr>
            <p:cNvPr id="44" name=""/>
            <p:cNvSpPr/>
            <p:nvPr/>
          </p:nvSpPr>
          <p:spPr>
            <a:xfrm rot="19696800">
              <a:off x="855720" y="4146120"/>
              <a:ext cx="1574640" cy="1505160"/>
            </a:xfrm>
            <a:prstGeom prst="rect">
              <a:avLst/>
            </a:prstGeom>
            <a:solidFill>
              <a:srgbClr val="cc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73440" y="4258800"/>
              <a:ext cx="1339200" cy="1280520"/>
              <a:chOff x="973440" y="4258800"/>
              <a:chExt cx="1339200" cy="1280520"/>
            </a:xfrm>
          </p:grpSpPr>
          <p:sp>
            <p:nvSpPr>
              <p:cNvPr id="46" name=""/>
              <p:cNvSpPr/>
              <p:nvPr/>
            </p:nvSpPr>
            <p:spPr>
              <a:xfrm>
                <a:off x="1247400" y="4258800"/>
                <a:ext cx="791280" cy="12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973440" y="4484880"/>
                <a:ext cx="1339200" cy="8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6254280" y="3879720"/>
            <a:ext cx="2147040" cy="2127960"/>
            <a:chOff x="6254280" y="3879720"/>
            <a:chExt cx="2147040" cy="2127960"/>
          </a:xfrm>
        </p:grpSpPr>
        <p:sp>
          <p:nvSpPr>
            <p:cNvPr id="49" name=""/>
            <p:cNvSpPr/>
            <p:nvPr/>
          </p:nvSpPr>
          <p:spPr>
            <a:xfrm rot="2038800">
              <a:off x="6540120" y="4191120"/>
              <a:ext cx="1575000" cy="1504800"/>
            </a:xfrm>
            <a:prstGeom prst="rect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674760" y="4319640"/>
              <a:ext cx="1306440" cy="1247760"/>
              <a:chOff x="6674760" y="4319640"/>
              <a:chExt cx="1306440" cy="124776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6907320" y="4319640"/>
                <a:ext cx="840960" cy="12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74760" y="4503600"/>
                <a:ext cx="1306440" cy="88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864960" y="4235400"/>
            <a:ext cx="1210680" cy="1117440"/>
            <a:chOff x="3864960" y="4235400"/>
            <a:chExt cx="1210680" cy="1117440"/>
          </a:xfrm>
        </p:grpSpPr>
        <p:sp>
          <p:nvSpPr>
            <p:cNvPr id="54" name=""/>
            <p:cNvSpPr/>
            <p:nvPr/>
          </p:nvSpPr>
          <p:spPr>
            <a:xfrm rot="576600">
              <a:off x="3936960" y="4317480"/>
              <a:ext cx="1066680" cy="9525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944520" y="4324680"/>
              <a:ext cx="1051560" cy="938880"/>
              <a:chOff x="3944520" y="4324680"/>
              <a:chExt cx="1051560" cy="93888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390560" y="4324680"/>
                <a:ext cx="159120" cy="9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44520" y="4705200"/>
                <a:ext cx="1051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510160" y="317880"/>
            <a:ext cx="917640" cy="824760"/>
            <a:chOff x="5510160" y="317880"/>
            <a:chExt cx="917640" cy="824760"/>
          </a:xfrm>
        </p:grpSpPr>
        <p:sp>
          <p:nvSpPr>
            <p:cNvPr id="59" name=""/>
            <p:cNvSpPr/>
            <p:nvPr/>
          </p:nvSpPr>
          <p:spPr>
            <a:xfrm rot="576600">
              <a:off x="5562720" y="380520"/>
              <a:ext cx="812520" cy="69876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68480" y="385920"/>
              <a:ext cx="801000" cy="688680"/>
              <a:chOff x="5568480" y="385920"/>
              <a:chExt cx="801000" cy="68868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910480" y="385920"/>
                <a:ext cx="116640" cy="68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8480" y="662400"/>
                <a:ext cx="80100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2585160" y="309240"/>
            <a:ext cx="1027440" cy="969480"/>
            <a:chOff x="2585160" y="309240"/>
            <a:chExt cx="1027440" cy="969480"/>
          </a:xfrm>
        </p:grpSpPr>
        <p:sp>
          <p:nvSpPr>
            <p:cNvPr id="64" name=""/>
            <p:cNvSpPr/>
            <p:nvPr/>
          </p:nvSpPr>
          <p:spPr>
            <a:xfrm rot="20151600">
              <a:off x="2692080" y="444600"/>
              <a:ext cx="812880" cy="698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728080" y="475200"/>
              <a:ext cx="741600" cy="637200"/>
              <a:chOff x="2728080" y="475200"/>
              <a:chExt cx="741600" cy="637200"/>
            </a:xfrm>
          </p:grpSpPr>
          <p:sp>
            <p:nvSpPr>
              <p:cNvPr id="66" name=""/>
              <p:cNvSpPr/>
              <p:nvPr/>
            </p:nvSpPr>
            <p:spPr>
              <a:xfrm>
                <a:off x="2955960" y="475200"/>
                <a:ext cx="285840" cy="6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728080" y="627480"/>
                <a:ext cx="741600" cy="33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181480" y="648972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90440"/>
            <a:ext cx="873756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Predict the offspring from a cross between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ea pla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lant.  Use T for tall and t for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s.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be tall? __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be short? __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Predict the offspring from a cross between tw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ea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 for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nt.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be tall?  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be short?  _____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 If you were to plant 100 seeds from this cross, how many would you expect to be tal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772400" y="1600200"/>
            <a:ext cx="1181160" cy="1066680"/>
            <a:chOff x="7772400" y="1600200"/>
            <a:chExt cx="1181160" cy="1066680"/>
          </a:xfrm>
        </p:grpSpPr>
        <p:sp>
          <p:nvSpPr>
            <p:cNvPr id="72" name=""/>
            <p:cNvSpPr/>
            <p:nvPr/>
          </p:nvSpPr>
          <p:spPr>
            <a:xfrm>
              <a:off x="7772400" y="1600200"/>
              <a:ext cx="118116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7772400" y="1600200"/>
              <a:ext cx="1181160" cy="1066680"/>
              <a:chOff x="7772400" y="1600200"/>
              <a:chExt cx="1181160" cy="1066680"/>
            </a:xfrm>
          </p:grpSpPr>
          <p:sp>
            <p:nvSpPr>
              <p:cNvPr id="74" name=""/>
              <p:cNvSpPr/>
              <p:nvPr/>
            </p:nvSpPr>
            <p:spPr>
              <a:xfrm>
                <a:off x="8362800" y="160020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72400" y="213336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7772400" y="4267080"/>
            <a:ext cx="1181160" cy="1067040"/>
            <a:chOff x="7772400" y="4267080"/>
            <a:chExt cx="1181160" cy="1067040"/>
          </a:xfrm>
        </p:grpSpPr>
        <p:sp>
          <p:nvSpPr>
            <p:cNvPr id="77" name=""/>
            <p:cNvSpPr/>
            <p:nvPr/>
          </p:nvSpPr>
          <p:spPr>
            <a:xfrm>
              <a:off x="7772400" y="4267080"/>
              <a:ext cx="1181160" cy="1067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7772400" y="4267080"/>
              <a:ext cx="1181160" cy="1067040"/>
              <a:chOff x="7772400" y="4267080"/>
              <a:chExt cx="1181160" cy="1067040"/>
            </a:xfrm>
          </p:grpSpPr>
          <p:sp>
            <p:nvSpPr>
              <p:cNvPr id="79" name=""/>
              <p:cNvSpPr/>
              <p:nvPr/>
            </p:nvSpPr>
            <p:spPr>
              <a:xfrm>
                <a:off x="8362800" y="4267080"/>
                <a:ext cx="0" cy="106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72400" y="4800600"/>
                <a:ext cx="11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001000" y="152280"/>
            <a:ext cx="90504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90440"/>
            <a:ext cx="87375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Predict the offspring from a cross between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ea plant and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lant.  Use T for tall and t for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s.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rebre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be tal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be shor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819520" y="2819520"/>
            <a:ext cx="2019240" cy="1885680"/>
            <a:chOff x="2819520" y="2819520"/>
            <a:chExt cx="2019240" cy="1885680"/>
          </a:xfrm>
        </p:grpSpPr>
        <p:sp>
          <p:nvSpPr>
            <p:cNvPr id="84" name=""/>
            <p:cNvSpPr/>
            <p:nvPr/>
          </p:nvSpPr>
          <p:spPr>
            <a:xfrm>
              <a:off x="2819520" y="2819520"/>
              <a:ext cx="2019240" cy="1885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819520" y="2819520"/>
              <a:ext cx="2019240" cy="1885680"/>
              <a:chOff x="2819520" y="2819520"/>
              <a:chExt cx="2019240" cy="1885680"/>
            </a:xfrm>
          </p:grpSpPr>
          <p:sp>
            <p:nvSpPr>
              <p:cNvPr id="86" name=""/>
              <p:cNvSpPr/>
              <p:nvPr/>
            </p:nvSpPr>
            <p:spPr>
              <a:xfrm>
                <a:off x="3828960" y="2819520"/>
                <a:ext cx="0" cy="18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819520" y="376236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2209680" y="3022560"/>
            <a:ext cx="533520" cy="1557000"/>
            <a:chOff x="2209680" y="3022560"/>
            <a:chExt cx="533520" cy="1557000"/>
          </a:xfrm>
        </p:grpSpPr>
        <p:sp>
          <p:nvSpPr>
            <p:cNvPr id="89" name=""/>
            <p:cNvSpPr/>
            <p:nvPr/>
          </p:nvSpPr>
          <p:spPr>
            <a:xfrm>
              <a:off x="2209680" y="30225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09680" y="39369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24080" y="2108160"/>
            <a:ext cx="1524240" cy="642600"/>
            <a:chOff x="3124080" y="2108160"/>
            <a:chExt cx="1524240" cy="642600"/>
          </a:xfrm>
        </p:grpSpPr>
        <p:sp>
          <p:nvSpPr>
            <p:cNvPr id="92" name=""/>
            <p:cNvSpPr/>
            <p:nvPr/>
          </p:nvSpPr>
          <p:spPr>
            <a:xfrm>
              <a:off x="3124080" y="21081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14800" y="210816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870280" y="3009960"/>
            <a:ext cx="1942920" cy="1525320"/>
            <a:chOff x="2870280" y="3009960"/>
            <a:chExt cx="1942920" cy="1525320"/>
          </a:xfrm>
        </p:grpSpPr>
        <p:sp>
          <p:nvSpPr>
            <p:cNvPr id="95" name=""/>
            <p:cNvSpPr/>
            <p:nvPr/>
          </p:nvSpPr>
          <p:spPr>
            <a:xfrm>
              <a:off x="2870280" y="30099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60640" y="300996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0280" y="38926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60640" y="38926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986440" y="528948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465948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16280" y="106668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53120" y="106668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190440"/>
            <a:ext cx="87375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Predict the offspring from a cross between tw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all pea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Give the genotype for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ybrid t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nt.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Create a Punnett square to determine the genotypes for the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) What is the probability that a plant would be tall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) What is the probability that a plant would be short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 If you were to plant 100 seeds from this cross, how many would you expect to be tal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971800" y="2467080"/>
            <a:ext cx="2019240" cy="1885680"/>
            <a:chOff x="2971800" y="2467080"/>
            <a:chExt cx="2019240" cy="1885680"/>
          </a:xfrm>
        </p:grpSpPr>
        <p:sp>
          <p:nvSpPr>
            <p:cNvPr id="105" name=""/>
            <p:cNvSpPr/>
            <p:nvPr/>
          </p:nvSpPr>
          <p:spPr>
            <a:xfrm>
              <a:off x="2971800" y="2467080"/>
              <a:ext cx="2019240" cy="1885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971800" y="2467080"/>
              <a:ext cx="2019240" cy="1885680"/>
              <a:chOff x="2971800" y="2467080"/>
              <a:chExt cx="2019240" cy="1885680"/>
            </a:xfrm>
          </p:grpSpPr>
          <p:sp>
            <p:nvSpPr>
              <p:cNvPr id="107" name=""/>
              <p:cNvSpPr/>
              <p:nvPr/>
            </p:nvSpPr>
            <p:spPr>
              <a:xfrm>
                <a:off x="3981240" y="2467080"/>
                <a:ext cx="0" cy="18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71800" y="340992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2362320" y="2670120"/>
            <a:ext cx="533160" cy="1557000"/>
            <a:chOff x="2362320" y="2670120"/>
            <a:chExt cx="533160" cy="1557000"/>
          </a:xfrm>
        </p:grpSpPr>
        <p:sp>
          <p:nvSpPr>
            <p:cNvPr id="110" name=""/>
            <p:cNvSpPr/>
            <p:nvPr/>
          </p:nvSpPr>
          <p:spPr>
            <a:xfrm>
              <a:off x="2362320" y="26701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62320" y="35845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276720" y="1755720"/>
            <a:ext cx="1523520" cy="642600"/>
            <a:chOff x="3276720" y="1755720"/>
            <a:chExt cx="1523520" cy="642600"/>
          </a:xfrm>
        </p:grpSpPr>
        <p:sp>
          <p:nvSpPr>
            <p:cNvPr id="113" name=""/>
            <p:cNvSpPr/>
            <p:nvPr/>
          </p:nvSpPr>
          <p:spPr>
            <a:xfrm>
              <a:off x="3276720" y="17557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67080" y="1755720"/>
              <a:ext cx="5331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022560" y="2657520"/>
            <a:ext cx="1943280" cy="1525320"/>
            <a:chOff x="3022560" y="2657520"/>
            <a:chExt cx="1943280" cy="1525320"/>
          </a:xfrm>
        </p:grpSpPr>
        <p:sp>
          <p:nvSpPr>
            <p:cNvPr id="116" name=""/>
            <p:cNvSpPr/>
            <p:nvPr/>
          </p:nvSpPr>
          <p:spPr>
            <a:xfrm>
              <a:off x="3022560" y="26575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13280" y="26575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22560" y="354024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13280" y="354024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986440" y="531828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4687920"/>
            <a:ext cx="871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22920" y="71424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6095880"/>
            <a:ext cx="3124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% of 100 = 25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1:53:26Z</dcterms:created>
  <dc:creator>Tracy Trimpe</dc:creator>
  <dc:description/>
  <dc:language>en-US</dc:language>
  <cp:lastModifiedBy>Tracy Trimpe</cp:lastModifiedBy>
  <dcterms:modified xsi:type="dcterms:W3CDTF">2008-06-03T04:20:35Z</dcterms:modified>
  <cp:revision>10</cp:revision>
  <dc:subject/>
  <dc:title>Slide 1</dc:title>
</cp:coreProperties>
</file>