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537-80A6-4BE9-AA12-6AFD6544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806-4F8D-464C-89C5-6D50B06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BB1-B999-4826-B067-6025DF58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2E5-01C7-4B35-B23B-6837FDCD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518-740A-4A94-8AAB-52E2CE12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67D-6A82-4A87-8DE6-7AAC67D6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5F7-E566-451A-9428-5ED30863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E44-4256-4DA6-971C-C0DC42A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6F4-F0F8-4676-BABE-E94FA8CB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CC6-D346-4494-B1F9-F5189248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207-69E7-4CA9-A399-C797A17E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8E2-E3D5-4C7C-B38B-F1789DC4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0428-0462-408C-AA9B-95A2B11B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952880" y="39625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977760"/>
            <a:ext cx="83059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oper Black"/>
              </a:rPr>
              <a:t>Genetics Challenge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640080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36180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scramble the letters to figure our these genetic ter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U  N  E  T     Q  R  A  U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N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E  S  N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R  D  E   I  Y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R   I   T 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626256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int:  The first letter of each word is underlin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861840"/>
            <a:ext cx="87375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N  T  U  N  E  T     Q  R  A  U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.   R  E  N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.   E  N  S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.  R  D  E   I  Y  E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.  R   I   T   A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S     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27080"/>
            <a:ext cx="8737560" cy="44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e answers are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0440" y="1384200"/>
            <a:ext cx="452124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86280" y="2473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86280" y="3562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86280" y="46512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86280" y="5742000"/>
            <a:ext cx="2869920" cy="51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01:49:13Z</dcterms:modified>
  <cp:revision>28</cp:revision>
  <dc:subject/>
  <dc:title>Slide 1</dc:title>
</cp:coreProperties>
</file>