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2482-37A6-44EE-B74D-E44228119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2838-2CED-4B5B-8BDE-2782FDBDA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8B89-C6F8-4978-B200-73193D63D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A64E-850A-42F8-B1FB-13D923CE4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55A0-6DA7-4190-ACA0-4BCBADDB5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68BF-84BB-422B-99CF-2A8ECD84C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6941-360C-49BE-967F-C93DF19E5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D26E-EC04-485C-AD41-9C262C2D3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AA8D-5DD5-4732-92B4-D9F3AAEC5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F4DD-ABD4-4789-9058-2E29E6DC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A10E-B421-4A3C-9FA4-A8E2C37C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ED71-D765-4ECB-AE9B-4899E7B1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7F4F8-4C8A-4E29-9DB4-304AC8866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952880" y="3962520"/>
            <a:ext cx="22860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Cooper Black"/>
              </a:rPr>
              <a:t>#5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Cooper Black"/>
              <a:ea typeface="Cooper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80880" y="977760"/>
            <a:ext cx="830592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Cooper Black"/>
              </a:rPr>
              <a:t>Genetics Challenge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Cooper Black"/>
              <a:ea typeface="Cooper Black"/>
            </a:endParaRPr>
          </a:p>
        </p:txBody>
      </p:sp>
      <p:sp>
        <p:nvSpPr>
          <p:cNvPr id="43" name=""/>
          <p:cNvSpPr/>
          <p:nvPr/>
        </p:nvSpPr>
        <p:spPr>
          <a:xfrm>
            <a:off x="5181480" y="6400800"/>
            <a:ext cx="3733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7200" y="3124080"/>
            <a:ext cx="361800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280" y="127080"/>
            <a:ext cx="8737560" cy="442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Unscramble the letters to figure our these genetic term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861840"/>
            <a:ext cx="8737560" cy="52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N  T  U  N  E  T     Q  R  A  U 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2.   R  E  N  A 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3.   E  S  N  E 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4.  R  D  E   I  Y  E 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5.  R   I   T   A 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S     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6262560"/>
            <a:ext cx="8737560" cy="442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Hint:  The first letter of each word is underlined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2280" y="861840"/>
            <a:ext cx="8737560" cy="52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N  T  U  N  E  T     Q  R  A  U 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2.   R  E  N  A 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3.   E  N  S  E 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4.  R  D  E   I  Y  E 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5.  R   I   T   A 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S     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127080"/>
            <a:ext cx="8737560" cy="442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The answers are 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60440" y="1384200"/>
            <a:ext cx="4521240" cy="518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UNNETT SQU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86280" y="2473200"/>
            <a:ext cx="2869920" cy="518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86280" y="3562200"/>
            <a:ext cx="2869920" cy="518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86280" y="4651200"/>
            <a:ext cx="2869920" cy="518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RED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86280" y="5742000"/>
            <a:ext cx="2869920" cy="518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A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00:50:02Z</dcterms:created>
  <dc:creator>Tracy Trimpe</dc:creator>
  <dc:description/>
  <dc:language>en-US</dc:language>
  <cp:lastModifiedBy>Tracy Trimpe</cp:lastModifiedBy>
  <dcterms:modified xsi:type="dcterms:W3CDTF">2008-04-06T01:49:13Z</dcterms:modified>
  <cp:revision>28</cp:revision>
  <dc:subject/>
  <dc:title>Slide 1</dc:title>
</cp:coreProperties>
</file>