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993-81A9-4B65-8C54-1552F461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450-F019-4279-998D-9DDA4C82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8B4-228C-4E11-8657-A58C4223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6C8-BC31-4246-B94B-1EBB33CC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D27-E72A-460C-AE5C-7D4D1285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531-1A08-4CEB-B6BB-761490B0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843-DA56-4ADA-A155-00861CDC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98F-AD65-4D75-B26F-6B3CBF26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0D0-B6A2-4CA0-A51C-91E4A669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340-C1F7-4C27-BC7C-8523600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D78-1150-4651-B226-7701FF28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68C2-E245-4203-8F26-B853648C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D99B-4E2D-442C-A082-084EBD50A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2880" y="39625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#4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977760"/>
            <a:ext cx="8305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Genetics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640080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618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the clues to figure out these genetic ter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762120"/>
            <a:ext cx="8737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3 letters – I am the code of lif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8 letters – I am the actual gene makeup of a tra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6 letters – I have a genotype made up of a dominant trait and a recessive trai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10 letters –  I am a rod-shaped structure found in the nucleus of a ce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8 letters – I occur whenever there is a change in a gene or chromosom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737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3 letters – I am the code of lif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8 letters – I am the actual gene makeup of a tra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6 letters – I have a genotype made up of a dominant trait and a recessive trai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10 letters –  I am a rod-shaped structure found in the nucleus of a ce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8 letters – I occur whenever there is a change in a gene or chromosom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92840" y="914400"/>
            <a:ext cx="294624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92840" y="2286000"/>
            <a:ext cx="294624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92840" y="3276720"/>
            <a:ext cx="294624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92840" y="4648320"/>
            <a:ext cx="302400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92840" y="6033960"/>
            <a:ext cx="294624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1:39:26Z</dcterms:modified>
  <cp:revision>27</cp:revision>
  <dc:subject/>
  <dc:title>Slide 1</dc:title>
</cp:coreProperties>
</file>