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E9E-C64B-4D56-A416-7691FDC0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CFC-609F-497B-8333-2288FEB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5AE-B525-4A0C-ABAB-90881FEC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E31-AFF0-42B1-8801-0BF0483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D52-0E70-405E-987A-80746A4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89C-13FB-424E-A329-C3FD646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79C-BBEE-4CAC-876D-A5EE854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E73-0651-4E68-BF08-261704B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65D-22B9-4BC3-ACA2-B3C29AC3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192-FDCE-473F-8986-7A34166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C3C-8D5D-47E4-9C28-05DE627C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043-AF17-4559-9B39-C93EF8B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6BFF-ED45-450A-91EF-D05EABBC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the clue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76212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3 letters – I am the code of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8 letters – I am the actual gene makeup of a tra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6 letters – I have a genotype made up of a dominant trait and a recessive tra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10 letters –  I am a rod-shaped structure found in the nucleus of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occur whenever there is a change in a gene or chromos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3 letters – I am the code of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8 letters – I am the actual gene makeup of a tra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6 letters – I have a genotype made up of a dominant trait and a recessive tra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10 letters –  I am a rod-shaped structure found in the nucleus of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occur whenever there is a change in a gene or chromos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2840" y="91440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92840" y="228600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92840" y="327672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92840" y="4648320"/>
            <a:ext cx="302400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603396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9:26Z</dcterms:modified>
  <cp:revision>27</cp:revision>
  <dc:subject/>
  <dc:title>Slide 1</dc:title>
</cp:coreProperties>
</file>