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E26-4F38-4268-9F08-93FA2A7E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74E-5A6F-4F4A-8BFD-E5B26132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7F3-D7C4-43DA-957B-E1287D03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0FB-FBEB-4873-83DE-1E1FA8CC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5FD-9998-4A2F-A9FD-943AECBB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E278-9DFE-4471-9529-3F6CADC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CA6-A688-4C4F-A899-EE8BB6FA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508-C2B8-4180-AF7D-CCAEBD1A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DDF-DDDE-4F7E-B038-5331BB5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055-DF06-4803-AB1D-BC2570E9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F9E-F6E2-462D-A0D9-868EE28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EC9-4D30-4E53-8079-203CB8F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0B80-3350-4CE1-BDD3-B73589EE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762120"/>
            <a:ext cx="57276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 L  N  L  N  O  I  O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  T 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D  I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M  N  I  O  T  A 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 Y  O  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P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D  R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R  U  E 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3244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The first letter of each word is underlined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762120"/>
            <a:ext cx="57276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 L  N  L  N  O  I  O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A  T 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D  I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M  N  I  O  T  A 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 Y  O  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P  E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D  R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R  U  E 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6280" y="1295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2384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34732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6280" y="456264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6280" y="565308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3:07Z</dcterms:modified>
  <cp:revision>25</cp:revision>
  <dc:subject/>
  <dc:title>Slide 1</dc:title>
</cp:coreProperties>
</file>