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0ED-E0C5-4D72-893E-22B4FFB4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086-A40D-4151-80A6-35C637FB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296-6D83-4B55-987A-7FA2DE4B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D25-59B8-44EC-8D6A-1EBE6F9E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748-0874-4000-B857-86662981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123-B851-4AD4-8492-040E0E14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2A5-8445-4269-ABF7-B5158485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8F03-9541-44A6-AA1D-20F98BBB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3EF-5368-4AD3-8B77-85AAB053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916-AAED-4D57-8720-6A430CD0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502-CF56-4F96-9050-B0FF5F90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F53-097A-4A55-BF85-A7B2CB34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0C2C-2AF6-4BE6-AB91-C5123891F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52880" y="39625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#3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977760"/>
            <a:ext cx="8305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Genetics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640080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618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nscramble the letters to figure out these genetic ter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762120"/>
            <a:ext cx="57276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 L  N  L  N  O  I  O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A  T 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 R  E  D  I  Y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E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M  N  I  O  T  A 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 Y  O  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E  P  E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D  R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R  U  E 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3244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INT: The first letter of each word is underlined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762120"/>
            <a:ext cx="57276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 L  N  L  N  O  I  O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A  T 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 R  E  D  I  Y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E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M  N  I  O  T  A 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 Y  O  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E  P  E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D  R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R  U  E 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86280" y="129528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86280" y="238428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86280" y="347328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86280" y="456264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86280" y="565308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RE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1:33:07Z</dcterms:modified>
  <cp:revision>25</cp:revision>
  <dc:subject/>
  <dc:title>Slide 1</dc:title>
</cp:coreProperties>
</file>