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24D2-BE72-4B3F-A02A-A4F9957DD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8D68-7B35-4061-87E6-08ADDD15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E35B-A0E8-4663-BBCD-5220C9C08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D2BE-7CB6-4660-B4AF-F4AB64B03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D469-45B7-4C80-9A10-ACD83B56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44AA-7E20-47C2-BB74-32F07B24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0507-B637-44BF-AE19-EA382387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F64F-3C64-4F2F-8A76-DB2B07B7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051B-0CE9-4097-96F2-36458A2F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80A2-0F4B-4A08-A9F9-7452A386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CFAE-E8F0-423F-B2BB-875CDFE5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8C23-F4A7-4AAD-9FAA-B9EFDBF0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2D29-9D57-4DF1-B67E-5EC36799B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952880" y="3962520"/>
            <a:ext cx="22860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oper Black"/>
              </a:rPr>
              <a:t>#2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977760"/>
            <a:ext cx="83059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oper Black"/>
              </a:rPr>
              <a:t>Genetics Challenge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/>
          <p:nvPr/>
        </p:nvSpPr>
        <p:spPr>
          <a:xfrm>
            <a:off x="5181480" y="6400800"/>
            <a:ext cx="3733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3124080"/>
            <a:ext cx="36180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127080"/>
            <a:ext cx="8737560" cy="44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Use the clues to figure out these genetic term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861840"/>
            <a:ext cx="8737560" cy="56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.  5 letters – I am passed along by your pare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.  6 letters – I am controlled by the gen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.  3 letters – I am the type of plant Mendel used for his experiment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.  6 letters –  I am produced by the stamen in flow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5.   8 letters – I have a genotype made up of two of the same letters.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861840"/>
            <a:ext cx="8737560" cy="56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.  5 letters – I am passed along by your pare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.  6 letters – I am controlled by the gen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.  3 letters – I am the type of plant Mendel used for his experiment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.  6 letters –  I am produced by the stamen in flow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5.   8 letters – I have a genotype made up of two of the same letters.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127080"/>
            <a:ext cx="8737560" cy="44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The answers are 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92840" y="1384200"/>
            <a:ext cx="2870280" cy="51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92840" y="2351160"/>
            <a:ext cx="2870280" cy="51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92840" y="3352680"/>
            <a:ext cx="2870280" cy="51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92840" y="4651200"/>
            <a:ext cx="2870280" cy="51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92840" y="5715000"/>
            <a:ext cx="2870280" cy="51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REB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0:50:02Z</dcterms:created>
  <dc:creator>Tracy Trimpe</dc:creator>
  <dc:description/>
  <dc:language>en-US</dc:language>
  <cp:lastModifiedBy>Tracy Trimpe</cp:lastModifiedBy>
  <dcterms:modified xsi:type="dcterms:W3CDTF">2008-04-06T01:34:40Z</dcterms:modified>
  <cp:revision>25</cp:revision>
  <dc:subject/>
  <dc:title>Slide 1</dc:title>
</cp:coreProperties>
</file>