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2FC-FC56-4265-B575-D582D72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7C5-29AC-4C41-82BA-5A42A9AD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B8C-94D2-4BFE-9298-07614535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E54-AFAC-430D-AF43-DED725CD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342-E0D4-4ED7-AE3D-98BE0C8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3D6-3D60-4DC4-931A-DC9EF54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051-BCB3-4013-9BAD-F49A6DF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507-FD22-4DEB-8757-308430A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80F-72BE-4B7B-8597-F0639C3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183-2708-49E7-9A9F-43D64DB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F37-4813-4BBF-8B4D-9377A23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1DF-E397-44E2-AD2C-921B523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54B-E863-4F6D-B81A-B7095A3D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the clue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5 letters – I am passed along by your par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6 letters – I am controlled by the ge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3 letters – I am the type of plant Mendel used for his experim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6 letters –  I am produced by the stamen in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have a genotype made up of two of the same letter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5 letters – I am passed along by your par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6 letters – I am controlled by the ge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3 letters – I am the type of plant Mendel used for his experim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6 letters –  I am produced by the stamen in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have a genotype made up of two of the same letter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2840" y="1384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92840" y="235116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92840" y="335268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92840" y="4651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57150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4:40Z</dcterms:modified>
  <cp:revision>25</cp:revision>
  <dc:subject/>
  <dc:title>Slide 1</dc:title>
</cp:coreProperties>
</file>