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6B84-245D-4050-8288-B0E09D81F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4F4B-FB49-4400-A224-75FDFBD9F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0C17-F474-4AD8-829B-DFC949D48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9633-07F2-4590-AD99-4BB1D9ED8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E661-E63E-465F-96E1-08069A1DD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B30F-69C4-46CE-BE48-8873E8BB0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9625-3F5B-49C2-96D7-828C50A3F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5B21-9A47-453C-8EA6-1C57ADB8E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ED35-B05B-4171-927F-11B2E6486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E9A8-EBC2-4D60-8280-E9F7498F9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166D-0FB7-4CFB-A50F-4A079866F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BAE6-4E44-4C35-B7F9-8677D6816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C64F7-D40E-4FB7-9DE3-141DA7CDC0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952880" y="3962520"/>
            <a:ext cx="228600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4140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Cooper Black"/>
              </a:rPr>
              <a:t>#1</a:t>
            </a:r>
            <a:endParaRPr b="0" lang="en-US" sz="1800" spc="1" strike="noStrike">
              <a:ln w="4140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Cooper Black"/>
              <a:ea typeface="Cooper Black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80880" y="977760"/>
            <a:ext cx="830592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4140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Cooper Black"/>
              </a:rPr>
              <a:t>Genetics Challenge</a:t>
            </a:r>
            <a:endParaRPr b="0" lang="en-US" sz="1800" spc="1" strike="noStrike">
              <a:ln w="4140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Cooper Black"/>
              <a:ea typeface="Cooper Black"/>
            </a:endParaRPr>
          </a:p>
        </p:txBody>
      </p:sp>
      <p:sp>
        <p:nvSpPr>
          <p:cNvPr id="43" name=""/>
          <p:cNvSpPr/>
          <p:nvPr/>
        </p:nvSpPr>
        <p:spPr>
          <a:xfrm>
            <a:off x="5181480" y="6400800"/>
            <a:ext cx="3733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57200" y="3124080"/>
            <a:ext cx="361800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52280" y="127080"/>
            <a:ext cx="8737560" cy="442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Unscramble the letters to figure our these genetic term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52280" y="861840"/>
            <a:ext cx="8737560" cy="52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1.  H  N  O  P  E  Y 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T  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2. 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N  T  E  C  I  E  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3.  C  E 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S  V  I  E  S  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4.  D  L  E  N  E 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5.   L 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Times New Roman"/>
              </a:rPr>
              <a:t>A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E   L   E   L 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52280" y="6262560"/>
            <a:ext cx="8737560" cy="442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Hint:  The first letter of each word is underlined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52280" y="127080"/>
            <a:ext cx="8737560" cy="442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The answers are ..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52280" y="861840"/>
            <a:ext cx="8737560" cy="52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1.  H  N  O  P  E  Y 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T  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2. 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N  T  E  C  I  E  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3.  C  E 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S  V  I  E  S  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4.  D  L  E  N  E 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5.   L 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Times New Roman"/>
              </a:rPr>
              <a:t>A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E   L   E   L 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174840" y="1384200"/>
            <a:ext cx="2870280" cy="518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HENO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74840" y="2473200"/>
            <a:ext cx="2870280" cy="518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ENE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174840" y="3562200"/>
            <a:ext cx="2870280" cy="518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CES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74840" y="4651200"/>
            <a:ext cx="2870280" cy="518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EN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174840" y="5742000"/>
            <a:ext cx="2870280" cy="518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LLE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6T00:50:02Z</dcterms:created>
  <dc:creator>Tracy Trimpe</dc:creator>
  <dc:description/>
  <dc:language>en-US</dc:language>
  <cp:lastModifiedBy>Tracy Trimpe</cp:lastModifiedBy>
  <dcterms:modified xsi:type="dcterms:W3CDTF">2008-04-06T01:33:32Z</dcterms:modified>
  <cp:revision>23</cp:revision>
  <dc:subject/>
  <dc:title>Slide 1</dc:title>
</cp:coreProperties>
</file>