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106-3274-4E92-9066-44947E16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D32-830E-49C9-A795-7A9AB363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671-FE6C-4995-BAEB-6DB097D4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F0A-D32F-4D55-8861-C1D95AD2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BFF-F48E-476E-AE25-971015BE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FA0-1C8B-4B5A-95C5-1966C446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F9E-8AAD-455F-8596-FDDAF9DB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472-FAD5-4308-8CA8-1C93560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07F-7D56-4478-BF5D-0EE96701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883-A25D-44AE-91C0-FA808A7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AB3-6646-4E82-BB0F-050020E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2FC-D531-4A04-9D3F-D860CC67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7B7-CB82-47A9-97C4-B75F4ED8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r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H  N  O  P  E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E  C  I  E 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C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V  I  E  S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D  L  E  N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L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 L   E   L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26256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int:  The first letter of each word is underlin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H  N  O  P  E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E  C  I  E 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C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V  I  E  S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D  L  E  N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L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 L   E   L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4840" y="1384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4840" y="2473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4840" y="3562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4840" y="4651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74840" y="57420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3:32Z</dcterms:modified>
  <cp:revision>23</cp:revision>
  <dc:subject/>
  <dc:title>Slide 1</dc:title>
</cp:coreProperties>
</file>