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0F26-589D-4DD8-BC42-BBCE004A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8EE5-F05A-406D-A10B-16688991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89B4-7FE7-4AC8-A8D3-4FB8FEF7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7C08-FCA4-4D3F-9E21-31622BF27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F155-FCDA-4F98-848B-7E2A2B40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A381-CE29-4EAC-947B-9F873F45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1083-04D8-4991-BE15-29077EC6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8B05-C593-4FB3-B493-A83CDCDC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7925-B7D9-4231-AE5A-042C33FF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07C7-905B-49C6-9D5B-FE0EABCD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6F63-BCF6-496E-AA4B-F7FD3C76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D7B9-FF42-4C64-BAD0-FE1E6AF6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6425-9A1A-4750-9C7B-7AC5C5F75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666880" y="4419720"/>
            <a:ext cx="2286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Cooper Black"/>
              </a:rPr>
              <a:t>#5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0" y="838080"/>
            <a:ext cx="640080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Cooper Black"/>
              </a:rPr>
              <a:t>Genetics Basics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4343400"/>
            <a:ext cx="4114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know about the world of gene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898640" cy="6400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71600" y="648972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7840" y="190440"/>
            <a:ext cx="8737560" cy="39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your knowledge of genetics to answer these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7840" y="838080"/>
            <a:ext cx="873756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Indicate whether each genotype is a heterozygous (He) or homozygous (Ho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T _____      Pp _____      dd _____      Ff _____      Tt 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ones would be considered purebred? 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 In SpongeBob’s family, a yellow body color (Y) is dominant to blue (y) color.  Determine the phenotype for each genotype below based on this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Y ______________        Yy  ______________        yy   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 If round eyeballs (R) are dominant to oval eyeballs (r), give the genotypes that are possible for members of SpongeBob’s fam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nd eyeballs = ______________   Oval eyeballs = 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1371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7840" y="838080"/>
            <a:ext cx="873756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Indicate whether each genotype is a heterozygous (He) or homozygous (Ho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T _____      Pp _____      dd _____      Ff _____      Tt ____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ones would be considered purebred? 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 In SpongeBob’s family, a yellow body color (Y) is dominant to blue (y) color.  Determine the phenotype for each genotype below based on this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Y ______________        Yy  ______________        yy   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 If round eyeballs (R) are dominant to oval eyeballs (r), give the genotypes that are possible for members of SpongeBob’s fam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nd eyeballs = ______________   Oval eyeballs = 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41400" y="1224000"/>
            <a:ext cx="698760" cy="38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8640" y="1224000"/>
            <a:ext cx="698400" cy="38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74840" y="1220760"/>
            <a:ext cx="698760" cy="38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42080" y="1220760"/>
            <a:ext cx="698400" cy="38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12160" y="1220760"/>
            <a:ext cx="698400" cy="38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9600" y="1982880"/>
            <a:ext cx="1460520" cy="38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T and 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97160" y="4014720"/>
            <a:ext cx="1460520" cy="38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64040" y="4014720"/>
            <a:ext cx="1460520" cy="38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0" y="4014720"/>
            <a:ext cx="1460520" cy="38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57680" y="6019920"/>
            <a:ext cx="1460160" cy="38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R or 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40480" y="6019920"/>
            <a:ext cx="1460520" cy="38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7840" y="190440"/>
            <a:ext cx="8737560" cy="39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0:50:02Z</dcterms:created>
  <dc:creator>Tracy Trimpe</dc:creator>
  <dc:description/>
  <dc:language>en-US</dc:language>
  <cp:lastModifiedBy>Tracy Trimpe</cp:lastModifiedBy>
  <dcterms:modified xsi:type="dcterms:W3CDTF">2008-04-06T23:02:19Z</dcterms:modified>
  <cp:revision>21</cp:revision>
  <dc:subject/>
  <dc:title>Slide 1</dc:title>
</cp:coreProperties>
</file>