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F07-7781-473B-8523-1CDB63CB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740-B6D8-4B89-928B-0BD183A4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1D4-2B7B-4D9A-9F80-17001719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974-069B-4918-9929-F3234466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F3A-D124-4C01-B470-108D3532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5499-E527-40FD-BE1E-0DA8432B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60B-D526-4982-A060-79801FE9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D07-277F-44C5-B4D7-DC73305B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D05-3899-4A7D-AA64-7D8DD398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67D-3A76-4317-859C-CEA34744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005-6B4F-4677-84C9-DB988DB7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7A6-A7DA-422E-A45C-A095B55B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EB61-6293-427D-8F10-9ADD31872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66880" y="44197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oper Black"/>
              </a:rPr>
              <a:t>#5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838080"/>
            <a:ext cx="640080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oper Black"/>
              </a:rPr>
              <a:t>Genetics Basics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343400"/>
            <a:ext cx="411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know about the world of gene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9864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7840" y="190440"/>
            <a:ext cx="8737560" cy="39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your knowledge of genetics to answer these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7840" y="838080"/>
            <a:ext cx="87375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Indicate whether each genotype is a heterozygous (He) or homozygous (Ho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 _____      Pp _____      dd _____      Ff _____      Tt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ones would be considered purebred? 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In SpongeBob’s family, a yellow body color (Y) is dominant to blue (y) color.  Determine the phenotype for each genotype below based on this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Y ______________        Yy  ______________        yy   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If round eyeballs (R) are dominant to oval eyeballs (r), give the genotypes that are possible for members of SpongeBob’s fam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nd eyeballs = ______________   Oval eyeballs = 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1371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7840" y="838080"/>
            <a:ext cx="87375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Indicate whether each genotype is a heterozygous (He) or homozygous (Ho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 _____      Pp _____      dd _____      Ff _____      Tt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ones would be considered purebred? 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In SpongeBob’s family, a yellow body color (Y) is dominant to blue (y) color.  Determine the phenotype for each genotype below based on this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Y ______________        Yy  ______________        yy   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If round eyeballs (R) are dominant to oval eyeballs (r), give the genotypes that are possible for members of SpongeBob’s fam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nd eyeballs = ______________   Oval eyeballs = 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41400" y="1224000"/>
            <a:ext cx="69876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8640" y="1224000"/>
            <a:ext cx="69840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74840" y="1220760"/>
            <a:ext cx="69876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42080" y="1220760"/>
            <a:ext cx="69840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12160" y="1220760"/>
            <a:ext cx="69840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9600" y="1982880"/>
            <a:ext cx="146052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 and 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97160" y="4014720"/>
            <a:ext cx="146052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4040" y="4014720"/>
            <a:ext cx="146052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4014720"/>
            <a:ext cx="146052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7680" y="6019920"/>
            <a:ext cx="146016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 or 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40480" y="6019920"/>
            <a:ext cx="146052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7840" y="190440"/>
            <a:ext cx="8737560" cy="39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4-06T23:02:19Z</dcterms:modified>
  <cp:revision>21</cp:revision>
  <dc:subject/>
  <dc:title>Slide 1</dc:title>
</cp:coreProperties>
</file>