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F56-4EF8-4533-B7A1-A5189D50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BAF-2EC5-4ED0-B7B5-01220521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8DE-4D8D-4353-A37D-31C895A5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CE9-04F9-45C1-9AF3-808DABAF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9C3-D225-48D3-97C9-0D2162A1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146-92F5-4765-8C7A-80D3F99C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82B-45F8-4D22-BF90-63D96B30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312-9147-44C6-B3CA-C17F3AAC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855-1461-468D-B054-34F04CA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8C8-ADCD-4823-B841-7A8A581B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BD2-430B-4E3A-8BF9-98AFCD63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3B7-8D35-4C6F-8E32-BAA450C7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CA48-53C4-445E-817F-C0000FDB8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Cooper Black"/>
              </a:rPr>
              <a:t>#4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genetics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360" y="861840"/>
            <a:ext cx="8737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 If Y represents the dominant yellow gene and y represents the recessive blue gene, what phenotype would be observed for each geno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Y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B. y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C.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 What do we call a scientist who studies heredity?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 If your parents are the F2 generation, what would be the P gene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chart is used to show the possible gene combinations in a cross between two organis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 Identify each gene pair as homozygous (Ho) or heterozygous (H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- 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 -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9360" y="861840"/>
            <a:ext cx="8737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 If Y represents the dominant yellow gene and y represents the recessive blue gene, what phenotype would be observed for each geno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Y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B. y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C.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 What do we call a scientist who studies heredity?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 If your parents are the F2 generation, what would be the P gene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chart is used to show the possible gene combinations in a cross between two organis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 Identify each gene pair as homozygous (Ho) or heterozygous (H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- 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- 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 -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920" y="1650960"/>
            <a:ext cx="10670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286000"/>
            <a:ext cx="1905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netic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352680"/>
            <a:ext cx="41274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ir great-grandpar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267080"/>
            <a:ext cx="2857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17640" y="5321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84600" y="5321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5321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1676520"/>
            <a:ext cx="1066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1676520"/>
            <a:ext cx="1066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admin</cp:lastModifiedBy>
  <dcterms:modified xsi:type="dcterms:W3CDTF">2008-04-24T15:40:15Z</dcterms:modified>
  <cp:revision>16</cp:revision>
  <dc:subject/>
  <dc:title>Slide 1</dc:title>
</cp:coreProperties>
</file>