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C15-9F59-4F7F-89F9-C31F48D4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FDB-7BCE-40FB-B531-7C9E7296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0FC-D6EA-4FAC-A0FB-06DA68AB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509-6ADE-4DB8-B285-6520EDD8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F44-E2C1-40CF-A575-C8611499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3AF-C69D-4D81-99A2-F79DBFF1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420-ADE4-4F1F-8BD5-426F78D5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26C-4CB1-40A7-B9D7-0FBE19D4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EC6-7A55-4159-BA29-2A89B6BB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3B2-A939-4B5B-9D1D-E7B86135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005-54E0-476B-B6C7-91BFCC8A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E26-1E57-42F6-BA9B-7026CB5A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6D71-5F14-4AC1-BB22-31BF024E9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66880" y="44197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latin typeface="Cooper Black"/>
              </a:rPr>
              <a:t>#4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7c8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838080"/>
            <a:ext cx="640080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7c80"/>
                </a:solidFill>
                <a:latin typeface="Cooper Black"/>
              </a:rPr>
              <a:t>Genetics Basic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7c8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343400"/>
            <a:ext cx="411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know about the world of gene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9864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se your knowledge of genetics to answer each ques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9360" y="861840"/>
            <a:ext cx="87375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 If Y represents the dominant yellow gene and y represents the recessive blue gene, what phenotype would be observed for each geno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Y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B. y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C. 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 What do we call a scientist who studies heredity?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  If your parents are the F2 generation, what would be the P gene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type chart is used to show the possible gene combinations in a cross between two organis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  Identify each gene pair as homozygous (Ho) or heterozygous (H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 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- 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 -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And the answers are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9360" y="861840"/>
            <a:ext cx="87375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 If Y represents the dominant yellow gene and y represents the recessive blue gene, what phenotype would be observed for each geno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Y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B. y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C. 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 What do we call a scientist who studies heredity?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  If your parents are the F2 generation, what would be the P gene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type chart is used to show the possible gene combinations in a cross between two organis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  Identify each gene pair as homozygous (Ho) or heterozygous (H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 - 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- __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 - 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58920" y="1650960"/>
            <a:ext cx="106704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2286000"/>
            <a:ext cx="1905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Genetic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352680"/>
            <a:ext cx="412740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ir great-grandpar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4267080"/>
            <a:ext cx="28576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nnett Squ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17640" y="5321160"/>
            <a:ext cx="762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84600" y="5321160"/>
            <a:ext cx="762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5321160"/>
            <a:ext cx="762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1676520"/>
            <a:ext cx="10666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1676520"/>
            <a:ext cx="10666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admin</cp:lastModifiedBy>
  <dcterms:modified xsi:type="dcterms:W3CDTF">2008-04-24T15:40:15Z</dcterms:modified>
  <cp:revision>16</cp:revision>
  <dc:subject/>
  <dc:title>Slide 1</dc:title>
</cp:coreProperties>
</file>