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285-808F-4D97-9BAC-28E60F37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E94-08AE-48CB-BAE1-FE643A97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52A-33F0-44DD-B178-29E384AA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DA3-EDED-46C8-87EF-24579516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5BD-6ABA-4AB0-B8BC-D77EA3C4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90D-F4B5-41CA-AC2B-CA8DF32B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14A-2CB4-417B-A8ED-E377CE43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FDD-2532-41A7-8C2E-C9BDC147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46F-7409-4ABA-9549-D15638F1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4DC-8E79-474B-8D1C-DB2D61FF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4D8-4F98-4756-B271-5D137E51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215-AA7A-4047-816F-C02CFA38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4EFF-2388-4C8F-9505-F1F78E45F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oper Black"/>
              </a:rPr>
              <a:t>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genetics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360" y="861840"/>
            <a:ext cx="873756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  What term refers to the actual genetic make-up of a trait?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:  Yy or R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  What term refers to the gene that is NOT expressed when tw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genes for a trait are present in a gene pair? 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  If you are the parental generation, what term would refer to your grandchildre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What type of pollination occurs when pollen from the stamen on one flower is transferred to the pistil on a flower on a different pla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  Identify each gene pair as purebred (P) or hybrid (H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B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t -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genetics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9360" y="86184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  What term refers to the actual genetic make-up of a trait?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:  Yy or R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  What term refers to the gene that is NOT expressed when tw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genes for a trait are present in a gene pair? 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  If you are the parental generation, what term would refer to your grandchildre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What type of pollination occurs when pollen from the stamen on one flower is transferred to the pistil on a flower on a different pla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  Identify each gene pair as purebred (P) or hybrid (H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B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t -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95280"/>
            <a:ext cx="15242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362320"/>
            <a:ext cx="190476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ces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65640" y="3429000"/>
            <a:ext cx="41274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2 or Second filial gen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876920"/>
            <a:ext cx="2857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ross-pollin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06560" y="604512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604512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73720" y="604512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0:59:32Z</dcterms:modified>
  <cp:revision>8</cp:revision>
  <dc:subject/>
  <dc:title>Slide 1</dc:title>
</cp:coreProperties>
</file>