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5039-ED08-49F8-A8BB-3F395F10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949-534C-4905-80A2-E7E025F6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517-8E7B-468A-BCBF-6142F873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28A-353F-4F54-ABDD-20C7D459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A1C-C07B-47C3-B9F5-F408F6B7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7FC-C006-4D3D-9007-C337B0F9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19A-D70E-4B23-B75A-2EA993EF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E97-9FBD-49D9-925F-2B7ED518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3D9-DA5C-465F-9C3E-540F1864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930-DF18-424B-87E1-ED859FE3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B1D-F127-4AB2-AB30-F1F8CC3B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4B4-3DD8-4C98-9212-1122FB95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7839-75BD-4FD0-A054-E7B6621AE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44197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oper Black"/>
              </a:rPr>
              <a:t>#3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64008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oper Black"/>
              </a:rPr>
              <a:t>Genetics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3434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the world of gene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genetics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9360" y="861840"/>
            <a:ext cx="873756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.   What term refers to the actual genetic make-up of a trait?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:  Yy or R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   What term refers to the gene that is NOT expressed when two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differ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genes for a trait are present in a gene pair? 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.   If you are the parental generation, what term would refer to your grandchildre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. What type of pollination occurs when pollen from the stamen on one flower is transferred to the pistil on a flower on a different pla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.   Identify each gene pair as purebred (P) or hybrid (H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B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t -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se your knowledge of genetics to answer each ques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9360" y="861840"/>
            <a:ext cx="873756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.   What term refers to the actual genetic make-up of a trait?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:  Yy or R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.   What term refers to the gene that is NOT expressed when two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differ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genes for a trait are present in a gene pair? 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.   If you are the parental generation, what term would refer to your grandchildre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4. What type of pollination occurs when pollen from the stamen on one flower is transferred to the pistil on a flower on a different plant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.   Identify each gene pair as purebred (P) or hybrid (H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B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d - ______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t - 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95280"/>
            <a:ext cx="152424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362320"/>
            <a:ext cx="190476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ces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65640" y="3429000"/>
            <a:ext cx="412740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2 or Second filial gen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876920"/>
            <a:ext cx="285768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ross-pollin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06560" y="604512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604512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73720" y="6045120"/>
            <a:ext cx="762120" cy="4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0:59:32Z</dcterms:modified>
  <cp:revision>8</cp:revision>
  <dc:subject/>
  <dc:title>Slide 1</dc:title>
</cp:coreProperties>
</file>