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D1A-C72C-4606-9541-F70FE546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5AA-7E5F-486A-9A32-F74C3038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108-1030-4D43-83BB-0343C985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997-9C69-49F8-9886-CB95A30B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623-EC8D-4BDD-B320-2DDD7475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3A9-7C43-4820-88EF-C9F74CF6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4C2-9104-47F8-9A58-0AA742C3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74D-324A-447B-8700-BD0EE03C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03B2-CDFE-4E5B-8EA9-DA6E5AF6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7E6-3032-43A0-9F61-585A0CA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F77-3818-4EDD-A442-86A79942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A59-8A7D-43C8-94E6-BCF4A99F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AA48-D3B3-4EBF-935F-7A6F50A7D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Cooper Black"/>
              </a:rPr>
              <a:t>#2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genetics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360" y="86184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  What term refers to the physical appearance of a trait?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:  Yellow body c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  What term refers to the gene that is expressed when tw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genes for a trait are present in a gene pair? 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  If your grandparents are the parental generation, what term would refer to your parent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What type of pollination occurs when pollen from the stamen on one flower is transferred to the pistil on the same flower or to the pistil of a different flower on the same pla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  Identify each gene pair as purebred (P) or hybrid (H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b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63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  What term refers to the physical appearance of a trait?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:  Yellow body col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  What term refers to the gene that is expressed when two different genes for a trait are present in a gene pair? 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  If your grandparents are the parental generation, what term would refer to your generat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What type of pollination occurs when pollen from the stamen on one flower is transferred to the pistil on the same flower or to the pistil of a different flower on the same pla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  Identify each gene pair as purebred (P) or hybrid (H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b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85080" y="825480"/>
            <a:ext cx="15238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60840" y="2349360"/>
            <a:ext cx="20066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65640" y="3429000"/>
            <a:ext cx="41274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1 or First filial gen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826160"/>
            <a:ext cx="2857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5969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969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5969160"/>
            <a:ext cx="76176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00:39Z</dcterms:modified>
  <cp:revision>9</cp:revision>
  <dc:subject/>
  <dc:title>Slide 1</dc:title>
</cp:coreProperties>
</file>