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1152-009B-4FAD-B853-DB188B5E1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0770-4B67-4435-94C2-1556D104A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52A0-4459-4A59-9C1A-0D2BFF426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9FD0-5E9E-4111-8981-14CF15693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B393-54EC-4FE9-A9AD-74F11D917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1CA5-0959-4281-BFBB-380F51357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873A-6632-47AD-B840-9EE42F716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66EA-2CAE-4572-8FEF-E28A933B2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933A-1466-4CE9-9D52-FEA75BD2A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FB42-2316-484E-BF55-8D8DD757D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C0D8-70F2-47C5-889A-0882B0B0F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62D2-11A0-42BC-8079-CF0FA7D19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037FC-AFAA-4CC2-B143-EFDCAE88DA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666880" y="4419720"/>
            <a:ext cx="22860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1400">
                  <a:solidFill>
                    <a:srgbClr val="000000"/>
                  </a:solidFill>
                  <a:miter/>
                </a:ln>
                <a:solidFill>
                  <a:srgbClr val="ff9933"/>
                </a:solidFill>
                <a:latin typeface="Cooper Black"/>
              </a:rPr>
              <a:t>#2</a:t>
            </a:r>
            <a:endParaRPr b="0" lang="en-US" sz="1800" spc="1" strike="noStrike">
              <a:ln w="41400">
                <a:solidFill>
                  <a:srgbClr val="000000"/>
                </a:solidFill>
                <a:miter/>
              </a:ln>
              <a:solidFill>
                <a:srgbClr val="ff9933"/>
              </a:solidFill>
              <a:latin typeface="Cooper Black"/>
              <a:ea typeface="Cooper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286000" y="838080"/>
            <a:ext cx="6400800" cy="285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1400">
                  <a:solidFill>
                    <a:srgbClr val="000000"/>
                  </a:solidFill>
                  <a:miter/>
                </a:ln>
                <a:solidFill>
                  <a:srgbClr val="ff9933"/>
                </a:solidFill>
                <a:latin typeface="Cooper Black"/>
              </a:rPr>
              <a:t>Genetics Basics</a:t>
            </a:r>
            <a:endParaRPr b="0" lang="en-US" sz="1800" spc="1" strike="noStrike">
              <a:ln w="41400">
                <a:solidFill>
                  <a:srgbClr val="000000"/>
                </a:solidFill>
                <a:miter/>
              </a:ln>
              <a:solidFill>
                <a:srgbClr val="ff9933"/>
              </a:solidFill>
              <a:latin typeface="Cooper Black"/>
              <a:ea typeface="Cooper Black"/>
            </a:endParaRPr>
          </a:p>
        </p:txBody>
      </p:sp>
      <p:sp>
        <p:nvSpPr>
          <p:cNvPr id="43" name=""/>
          <p:cNvSpPr/>
          <p:nvPr/>
        </p:nvSpPr>
        <p:spPr>
          <a:xfrm>
            <a:off x="4724280" y="4343400"/>
            <a:ext cx="41148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o you know about the world of genetic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1898640" cy="64008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371600" y="648972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2280" y="127080"/>
            <a:ext cx="8737560" cy="442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Use your knowledge of genetics to answer each ques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9360" y="861840"/>
            <a:ext cx="8737560" cy="56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1.   What term refers to the physical appearance of a trait?  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Example:  Yellow body colo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2.   What term refers to the gene that is expressed when two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Times New Roman"/>
              </a:rPr>
              <a:t>different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genes for a trait are present in a gene pair?  </a:t>
            </a:r>
            <a:br>
              <a:rPr sz="2300"/>
            </a:b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3.   If your grandparents are the parental generation, what term would refer to your parents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4. What type of pollination occurs when pollen from the stamen on one flower is transferred to the pistil on the same flower or to the pistil of a different flower on the same plant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5.   Identify each gene pair as purebred (P) or hybrid (H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Bb ______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DD - ______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dd - _____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52280" y="127080"/>
            <a:ext cx="8737560" cy="635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And the answers are 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1.   What term refers to the physical appearance of a trait?  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Example:  Yellow body colo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2.   What term refers to the gene that is expressed when two different genes for a trait are present in a gene pair?  </a:t>
            </a:r>
            <a:br>
              <a:rPr sz="2300"/>
            </a:b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3.   If your grandparents are the parental generation, what term would refer to your generation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4. What type of pollination occurs when pollen from the stamen on one flower is transferred to the pistil on the same flower or to the pistil of a different flower on the same plant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5.   Identify each gene pair as purebred (P) or hybrid (H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Bb - ______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DD - ______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dd - _____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985080" y="825480"/>
            <a:ext cx="1523880" cy="426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Phenotyp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460840" y="2349360"/>
            <a:ext cx="2006640" cy="426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Dominan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365640" y="3429000"/>
            <a:ext cx="4127400" cy="426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F1 or First filial gener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0" y="4826160"/>
            <a:ext cx="2857680" cy="426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elf-pollin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6880" y="5969160"/>
            <a:ext cx="762120" cy="426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0" y="5969160"/>
            <a:ext cx="762120" cy="426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248520" y="5969160"/>
            <a:ext cx="761760" cy="426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6T00:50:02Z</dcterms:created>
  <dc:creator>Tracy Trimpe</dc:creator>
  <dc:description/>
  <dc:language>en-US</dc:language>
  <cp:lastModifiedBy>Tracy Trimpe</cp:lastModifiedBy>
  <dcterms:modified xsi:type="dcterms:W3CDTF">2008-04-06T01:00:39Z</dcterms:modified>
  <cp:revision>9</cp:revision>
  <dc:subject/>
  <dc:title>Slide 1</dc:title>
</cp:coreProperties>
</file>