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BE12-6D90-4112-86CE-E27EC5A4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7423-7DA2-4E83-8ACA-0921C32D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B977-C220-4368-A1E5-74CB6A6F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20B-8C8D-4B6F-AE2C-F5502154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D0CB-E0E3-45D7-B498-757BB269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449-6D13-4279-A55A-CDD9B10A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E6B-5087-41AC-B5C6-AABA436D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1FD-C326-4D82-BB9F-847EE001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551-3766-40F2-9954-07E6C99D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89D-B490-41B8-BD4A-C75D87CC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C44-9B33-4CFA-8CE6-5DB9FB07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E75-BD3C-4105-AD1D-6A03D4C5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0ABC-04B0-47F9-B78E-9372B2463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66880" y="44197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Cooper Black"/>
              </a:rPr>
              <a:t>#1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838080"/>
            <a:ext cx="640080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Cooper Black"/>
              </a:rPr>
              <a:t>Genetics Basics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434340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know about the world of gene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9864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127080"/>
            <a:ext cx="8737560" cy="56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. Who is known as the Father of Genetic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.  Albert Einste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. Charles Darw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.  Gregor Mend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2. What are the female reproductive structures of a flower called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.  Stam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.  Pistil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.  Poll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3. Which insect is the most common pollinator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.  House fli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.  Butterfli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.  Honey Be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4.  What is used to determine the offspring of a genetic cros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.  Gene Squar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. Punnett Squar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.  Mendel Squa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5. Which gene is represented by a capital letter in a genotyp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. Recessi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.  Domina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. Parent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127080"/>
            <a:ext cx="8991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. Who is known as the Father of Genetic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 Albert Einstei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Charles Darwi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 Gregor Mend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. What are the female reproductive structures of a flower called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 Stame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 Pistil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 Poll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. Which insect is the most common pollinator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 House flie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 Butterflie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 Honey B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4.  What is used to determine the offspring of a genetic cros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 Gene Squar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Punnett Squar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 Mendel Squ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. Which gene is represented by a capital letter in a genotype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Recessiv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 Dominan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Parent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93960" y="1523880"/>
            <a:ext cx="1650960" cy="571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75320" y="2514600"/>
            <a:ext cx="2222640" cy="571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93960" y="3619440"/>
            <a:ext cx="2540160" cy="571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4648320"/>
            <a:ext cx="209556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031840" y="444600"/>
            <a:ext cx="6222960" cy="6230880"/>
            <a:chOff x="2031840" y="444600"/>
            <a:chExt cx="6222960" cy="6230880"/>
          </a:xfrm>
        </p:grpSpPr>
        <p:sp>
          <p:nvSpPr>
            <p:cNvPr id="54" name=""/>
            <p:cNvSpPr/>
            <p:nvPr/>
          </p:nvSpPr>
          <p:spPr>
            <a:xfrm>
              <a:off x="5587920" y="444600"/>
              <a:ext cx="2666880" cy="571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031840" y="5588280"/>
              <a:ext cx="3976200" cy="1087200"/>
              <a:chOff x="2031840" y="5588280"/>
              <a:chExt cx="3976200" cy="1087200"/>
            </a:xfrm>
          </p:grpSpPr>
          <p:pic>
            <p:nvPicPr>
              <p:cNvPr id="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79600" y="5588280"/>
                <a:ext cx="928440" cy="108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2031840" y="5814360"/>
                <a:ext cx="27302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regor Mendel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ather of Genetic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4-06T00:55:14Z</dcterms:modified>
  <cp:revision>4</cp:revision>
  <dc:subject/>
  <dc:title>Slide 1</dc:title>
</cp:coreProperties>
</file>