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ACE-7435-4BCF-9F53-52AE4A48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6A8-F6FB-4519-86A2-7C45F189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678-9073-471D-ACDD-933E45AA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C09-EB56-41A1-BE5A-7E8C71D4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665-89B3-4134-82BE-D25D00CF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2D7-08A0-4E65-AC2C-95785CF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AEC-B5BE-4651-AB18-90FAAD0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E2B3-6521-411C-A40F-8EA5D5A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AD5-E161-4789-B96A-60B80473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F33-D562-410F-8361-D693860E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28F-7FF8-4060-94D3-F43A720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0D7-18F8-4498-A339-FC5B352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017A-CD4E-43ED-9606-5C469881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 Who is known as the Father of Genetic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Albert Einste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Charles Darw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Gregor Men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 What are the female reproductive structures of a flower called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Stame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Pistil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Pol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Which insect is the most common pollinator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House fl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Butterflies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Honey B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.  What is used to determine the offspring of a genetic cros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 Gene Squ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Punnett Squar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 Mendel Squa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5. Which gene is represented by a capital letter in a genotyp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. Recessiv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.  Domina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. Parent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127080"/>
            <a:ext cx="8991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Who is known as the Father of Genetic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Albert Einstei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Charles Darwi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Gregor Mend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What are the female reproductive structures of a flower called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Stame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Pistil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Poll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Which insect is the most common pollinato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House fl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Butterfl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Honey B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 What is used to determine the offspring of a genetic cros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 Gene Squar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Punnett Squar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 Mendel Squ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Which gene is represented by a capital letter in a genotyp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cessiv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.  Domina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. Par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93960" y="1523880"/>
            <a:ext cx="16509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75320" y="2514600"/>
            <a:ext cx="22226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93960" y="3619440"/>
            <a:ext cx="254016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648320"/>
            <a:ext cx="209556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031840" y="444600"/>
            <a:ext cx="6222960" cy="6230880"/>
            <a:chOff x="2031840" y="444600"/>
            <a:chExt cx="6222960" cy="6230880"/>
          </a:xfrm>
        </p:grpSpPr>
        <p:sp>
          <p:nvSpPr>
            <p:cNvPr id="54" name=""/>
            <p:cNvSpPr/>
            <p:nvPr/>
          </p:nvSpPr>
          <p:spPr>
            <a:xfrm>
              <a:off x="5587920" y="444600"/>
              <a:ext cx="2666880" cy="571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031840" y="5588280"/>
              <a:ext cx="3976200" cy="1087200"/>
              <a:chOff x="2031840" y="5588280"/>
              <a:chExt cx="3976200" cy="108720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79600" y="5588280"/>
                <a:ext cx="92844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031840" y="5814360"/>
                <a:ext cx="273024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egor Mendel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Father of Genetic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0:55:14Z</dcterms:modified>
  <cp:revision>4</cp:revision>
  <dc:subject/>
  <dc:title>Slide 1</dc:title>
</cp:coreProperties>
</file>