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9DA-896F-468D-B4DB-6F1AC0AD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6D2-DF78-4B52-879D-6A74A42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C2C-8A2C-4EAE-9CB3-FA60A8F4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E28-2C97-4D72-ABB4-1C24EF39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C85-3344-4C9F-820F-1B7BD446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8DE-BDC3-44D3-A7F0-D2E6025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B11-5805-4C43-BA38-9F1809D9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181-C768-45C4-8DFA-B241FE2C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82D-5433-4364-85D1-955890FC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340-7F96-482C-91AE-D7C51E1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06F-4205-41B6-824C-B803441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DF5-C0C3-4A1E-A866-672DF03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D09-9730-4AA7-95A2-C4D245D9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3962520" y="64008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MCj02811360000[1]"/>
          <p:cNvPicPr/>
          <p:nvPr/>
        </p:nvPicPr>
        <p:blipFill>
          <a:blip r:embed="rId2"/>
          <a:stretch/>
        </p:blipFill>
        <p:spPr>
          <a:xfrm>
            <a:off x="1600200" y="4114800"/>
            <a:ext cx="251460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685800" y="76212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DNA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5638680" y="44197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7375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 names of these scientists who have contributed to the field of genetic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5800" y="1371600"/>
            <a:ext cx="396252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  O  S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A  K  L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N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K  I  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  I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C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  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G  A  O  N  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T  O  N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991040" y="14778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ATS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952880" y="2324160"/>
            <a:ext cx="31244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RANKL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952880" y="3171960"/>
            <a:ext cx="31244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ILKI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991040" y="40194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RI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991040" y="48672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ORG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029200" y="57150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TT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85800" y="1371600"/>
            <a:ext cx="396252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  O  S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A  K  L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N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K  I  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  I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C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  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G  A  O  N  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T  O  N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09-04-30T23:44:46Z</dcterms:modified>
  <cp:revision>35</cp:revision>
  <dc:subject/>
  <dc:title>Slide 1</dc:title>
</cp:coreProperties>
</file>