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316-6A1A-42A4-AE83-8E80EC32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C47-9FCC-449E-B4E5-327C811A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EAF-6EDE-4FF3-918A-841AFDFF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F7C-FC9D-47EF-ACAB-F9E48CAB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8C8-7123-4EDA-91D3-DAF3C701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92A-9370-447C-9CC6-1B0E1D75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304-4AD1-4C29-8BB3-3EA4CEA8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2C8-F91B-4685-B1E1-47D56B84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EA1-7A95-4906-B608-0F336A6D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027-4D58-4175-B54F-6A291C32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B68-125A-4153-AFD7-08342CFA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043-11DA-4F77-8EBA-46557D10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4CB3-6DF5-4664-9AEF-2CD10BB23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3962520" y="640080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MCj02811360000[1]"/>
          <p:cNvPicPr/>
          <p:nvPr/>
        </p:nvPicPr>
        <p:blipFill>
          <a:blip r:embed="rId2"/>
          <a:stretch/>
        </p:blipFill>
        <p:spPr>
          <a:xfrm>
            <a:off x="1600200" y="4114800"/>
            <a:ext cx="2514600" cy="2371680"/>
          </a:xfrm>
          <a:prstGeom prst="rect">
            <a:avLst/>
          </a:prstGeom>
          <a:ln w="0">
            <a:noFill/>
          </a:ln>
        </p:spPr>
      </p:pic>
      <p:sp>
        <p:nvSpPr>
          <p:cNvPr id="44" name="WordArt 3"/>
          <p:cNvSpPr txBox="1"/>
          <p:nvPr/>
        </p:nvSpPr>
        <p:spPr>
          <a:xfrm>
            <a:off x="685800" y="762120"/>
            <a:ext cx="815328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DNA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  <p:sp>
        <p:nvSpPr>
          <p:cNvPr id="45" name="WordArt 10"/>
          <p:cNvSpPr txBox="1"/>
          <p:nvPr/>
        </p:nvSpPr>
        <p:spPr>
          <a:xfrm>
            <a:off x="5638680" y="4419720"/>
            <a:ext cx="1600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Cooper Black"/>
              </a:rPr>
              <a:t>#3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127080"/>
            <a:ext cx="873756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nscramble the letters to figure out the names of these scientists who have contributed to the field of genetic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85800" y="1371600"/>
            <a:ext cx="396252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T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N  O  S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A  K  L  N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  N 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K  I  S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  I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C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K  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G  A  O  N  R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 T  O  N  T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79360" y="1279440"/>
            <a:ext cx="873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991040" y="147780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WATS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952880" y="2324160"/>
            <a:ext cx="312444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FRANKL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952880" y="3171960"/>
            <a:ext cx="312444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WILKI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991040" y="401940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RIC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991040" y="486720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ORG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029200" y="5715000"/>
            <a:ext cx="3048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TT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85800" y="1371600"/>
            <a:ext cx="396252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T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N  O  S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A  K  L  N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  N 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K  I  S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  I 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C  I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K  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G  A  O  N  R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 T  O  N  T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</cp:lastModifiedBy>
  <dcterms:modified xsi:type="dcterms:W3CDTF">2009-04-30T23:44:46Z</dcterms:modified>
  <cp:revision>35</cp:revision>
  <dc:subject/>
  <dc:title>Slide 1</dc:title>
</cp:coreProperties>
</file>