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758-448E-47E4-9091-3DBCD80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C5C-8C4F-44AD-B97E-926C3FA8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85D-5FC0-405E-BD16-2EC9CB45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A3D-C50D-4943-8F7B-6D37444B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95D-6440-43CB-919D-D56FEBFB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F0A-1204-49F4-9E43-016A9EA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2B2-3A1B-4612-9EA5-3B765ED7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7DB-86ED-423D-8326-E888AC9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A66-25FD-42C3-BF4E-FEB4443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067-02F9-410C-B913-617E1F24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DF4-D648-4814-8DF1-D8A7913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DAC-E6F9-449B-AB10-3E2371FD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572E-0781-43B0-97B8-763822FC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352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wor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990720"/>
            <a:ext cx="7950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  N  O     C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T  L  D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E  Y  E  P    I  H  A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I  E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N  A  T  U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C  B  N  K  O  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990720"/>
            <a:ext cx="7950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M  N  O     C  I  D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 T  L  D  O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E  Y  E  P    I  H  A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  O  I  E 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N  A  T  U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C  B  N  K  O  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38560" y="155412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646360"/>
            <a:ext cx="3809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OLYPEPTIDE CH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13040"/>
            <a:ext cx="31240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38560" y="479268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38560" y="597384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20:06:22Z</dcterms:modified>
  <cp:revision>29</cp:revision>
  <dc:subject/>
  <dc:title>Slide 1</dc:title>
</cp:coreProperties>
</file>