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05A-A3A0-443C-B179-B58BDEDA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98D-90F1-4AF9-BE29-1A36834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BB0-6A27-4D30-B17F-0F160AB6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677-4667-454F-A883-91F827E2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EC1-1784-4472-AA37-D994441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3C4-B02C-42E9-A18F-D6C7947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E60-1260-45AA-97DC-4CA1225A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FD9-9B0A-47B3-99C0-BDCABBD0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90C-9F72-40D5-83B9-F68EA601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694-B29D-414E-BD45-DEA10E1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B1A-9961-4D79-826D-E0A2437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493-694F-4B5D-AE20-E03D09DD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747-08F6-481D-8A5B-76734B9A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64008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251460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520" y="76212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DNA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38680" y="44197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 wor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7950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  N  O     C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 T  L  D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E  Y  E  P    I  H  A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I  E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N  A  T  U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C  B  N  K  O  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990720"/>
            <a:ext cx="7950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  N  O     C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 T  L  D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E  Y  E  P    I  H  A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I  E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N  A  T  U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C  B  N  K  O  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38560" y="155412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646360"/>
            <a:ext cx="3809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OLYPEPTIDE CH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713040"/>
            <a:ext cx="31240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38560" y="479268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38560" y="597384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5-05T20:06:22Z</dcterms:modified>
  <cp:revision>29</cp:revision>
  <dc:subject/>
  <dc:title>Slide 1</dc:title>
</cp:coreProperties>
</file>