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40E-BDED-40B4-8204-8E62EAC4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5B2-3548-4AFE-AB1D-0C64C4C9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AC2F-74A3-4A93-AF63-E15B5B86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946-AA34-4B88-BAFC-DFF6AE63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BC0-5639-4B29-9CCA-2B10586C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FFA-2628-448B-8883-19304CD7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E97-A9AB-45C3-BB3B-4E47F49B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64F-8733-46CD-ABCD-6CA7C5A6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373-4895-4364-A811-4D1B2F2C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C76-B7E8-4B95-9EDD-19C5FBEA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2E0-52BA-47C5-929C-7D19CDB7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E69-4CF3-43CC-8E9B-821CC332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B7F7-F36D-4795-ACEC-83882B19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640080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2514600" cy="2371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5800" y="762120"/>
            <a:ext cx="81532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ooper Black"/>
              </a:rPr>
              <a:t>DNA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638680" y="4419720"/>
            <a:ext cx="1600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ooper Black"/>
              </a:rPr>
              <a:t>#1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1600" y="838080"/>
            <a:ext cx="65786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U  C  L  O  E  I  D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E 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B  E  U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O  L     L  I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X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N  O  E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E  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 R  M  O  H  O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  O  E 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 G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U  T  E  N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9360" y="1279440"/>
            <a:ext cx="873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nscramble the letters to figure out the word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71600" y="838080"/>
            <a:ext cx="65786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U  C  L  O  E  I  D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E 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B  E  U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O  L     L  I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X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N  O  E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E  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 R  M  O  H  O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  O  E 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 G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U  T  E  N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9360" y="1279440"/>
            <a:ext cx="873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nd the answers are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38560" y="129528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UCLEOTI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387520"/>
            <a:ext cx="31240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3454560"/>
            <a:ext cx="31240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GENO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38560" y="453384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38560" y="571500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MUTAG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5-05T20:06:47Z</dcterms:modified>
  <cp:revision>28</cp:revision>
  <dc:subject/>
  <dc:title>Slide 1</dc:title>
</cp:coreProperties>
</file>