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033-7B4C-4FB2-AC36-0F8936EA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B82-CF6F-4736-A2CA-47CAE721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EA6-04FD-43AC-9F4B-723B7AFE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B15-63A4-4C8D-BC98-2EEC43B2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C4D4-E1BC-4D44-A976-67C90001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6A8-C376-4C22-B291-3C3A0180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D6E-F834-4710-B6D1-F5677E2D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275-4CA5-4D94-AFC8-04970DAD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42D-2BB8-468E-967C-FD42CFA0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8A3-FB0C-44E4-A327-AD391B70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A13-68FC-4499-8456-25D3A0F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A72-94EB-4E36-A837-AEAAAD06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F2DA-7A1F-496C-B4DE-9D304E366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640080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251460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85800" y="762120"/>
            <a:ext cx="8153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DNA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38680" y="4419720"/>
            <a:ext cx="1600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838080"/>
            <a:ext cx="65786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U  C  L  O  E  I  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 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B  E  U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O  L     L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N  O  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  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R  M  O  H  O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  O  E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G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  T  E  N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360" y="1279440"/>
            <a:ext cx="873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t the wor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838080"/>
            <a:ext cx="65786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U  C  L  O  E  I  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 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B  E  U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O  L     L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X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N  O  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  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R  M  O  H  O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  O  E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G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  T  E  N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9360" y="1279440"/>
            <a:ext cx="873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38560" y="129528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CLEOT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387520"/>
            <a:ext cx="31240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454560"/>
            <a:ext cx="31240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38560" y="453384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8560" y="57150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UTAG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5-05T20:06:47Z</dcterms:modified>
  <cp:revision>28</cp:revision>
  <dc:subject/>
  <dc:title>Slide 1</dc:title>
</cp:coreProperties>
</file>