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6CF-F5D9-4C40-A4F3-9C95B92B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4DD-070B-4A42-9A5A-BF19F33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284-8EDC-41E1-810E-17F3A66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7A6-EF2C-407F-AD0C-933651CE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A83-3913-41CA-B503-E68B103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6B4-2FF6-4FEA-9633-581ED76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421-5A05-4C00-827D-FDB11E23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CE7-8057-4FC4-893C-A4EA50B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FF1-CAC6-4E14-9377-0ECE9926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C03-1410-46E1-BAD7-EBFE354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D0F-40BA-44CA-94A4-FF7CB64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615-8B5D-4F28-8C5F-1ACA14B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547-A861-4C9B-941F-A9E576E7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838080"/>
            <a:ext cx="64008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DNA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5486400"/>
            <a:ext cx="62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DNA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“backbone” of a DNA molecule mad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 and _____________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are the four letters of the R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building blocks of proteins? __________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NA base would pair with each one of the follow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is the genotype for a 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360" y="12794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“backbone” of a DNA molecule mad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 and _____________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are the four letters of the R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building blocks of proteins? __________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NA base would pair with each one of the follow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is the genotype for a 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80240" y="241308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, U, G,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84880" y="3314880"/>
            <a:ext cx="22860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5765760"/>
            <a:ext cx="6094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1752480"/>
            <a:ext cx="3429000" cy="426960"/>
            <a:chOff x="2286000" y="1752480"/>
            <a:chExt cx="3429000" cy="426960"/>
          </a:xfrm>
        </p:grpSpPr>
        <p:sp>
          <p:nvSpPr>
            <p:cNvPr id="54" name=""/>
            <p:cNvSpPr/>
            <p:nvPr/>
          </p:nvSpPr>
          <p:spPr>
            <a:xfrm>
              <a:off x="2286000" y="1752480"/>
              <a:ext cx="137160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Suga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752480"/>
              <a:ext cx="137160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4838760"/>
            <a:ext cx="5181480" cy="426960"/>
            <a:chOff x="1905120" y="4838760"/>
            <a:chExt cx="5181480" cy="426960"/>
          </a:xfrm>
        </p:grpSpPr>
        <p:sp>
          <p:nvSpPr>
            <p:cNvPr id="57" name=""/>
            <p:cNvSpPr/>
            <p:nvPr/>
          </p:nvSpPr>
          <p:spPr>
            <a:xfrm>
              <a:off x="19051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69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771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19:56:47Z</dcterms:modified>
  <cp:revision>24</cp:revision>
  <dc:subject/>
  <dc:title>Slide 1</dc:title>
</cp:coreProperties>
</file>