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9C38-6986-4D5A-9FD2-2A115F82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5C1-DD8C-4B47-A623-5BD87C8A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DA7-577C-44B2-8CF4-155FD6C4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547-0C56-42C1-9E8D-6130AF49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9A5-580D-4E76-913D-AEA4BE07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75D-7AB8-4B00-AAFC-94D0FA69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3D7-2956-4209-BA7D-2732A204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261-F1CB-4198-A772-30940727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6E4-66CE-481C-BB64-FBA0CB88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89B-C5A0-4877-8B15-949B3E82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EC1-A2DC-4CC6-B2B9-D23C808A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B93-2FB1-4B67-94B6-C1F6994A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2D92-FB8D-4F80-A951-D2DFDC56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838080"/>
            <a:ext cx="64008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latin typeface="Cooper Black"/>
              </a:rPr>
              <a:t>DNA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9933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5486400"/>
            <a:ext cx="6248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D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your knowledge of DNA to answer each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360" y="1279440"/>
            <a:ext cx="87375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“backbone” of a DNA molecule made fro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 and _____________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are the four letters of the RNA alphabet? ___ ___ ___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are the building blocks of proteins? __________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DNA base would pair with each one of the follow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G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     C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     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is the genotype for a male?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9360" y="1279440"/>
            <a:ext cx="87375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the “backbone” of a DNA molecule made fro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 and _____________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are the four letters of the RNA alphabet? ___ ___ ___ 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are the building blocks of proteins? __________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DNA base would pair with each one of the follow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    G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     C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     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is the genotype for a male?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80240" y="2413080"/>
            <a:ext cx="15238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, U, G, 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84880" y="3314880"/>
            <a:ext cx="228600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mino Ac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5765760"/>
            <a:ext cx="6094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0" y="1752480"/>
            <a:ext cx="3429000" cy="426960"/>
            <a:chOff x="2286000" y="1752480"/>
            <a:chExt cx="3429000" cy="426960"/>
          </a:xfrm>
        </p:grpSpPr>
        <p:sp>
          <p:nvSpPr>
            <p:cNvPr id="54" name=""/>
            <p:cNvSpPr/>
            <p:nvPr/>
          </p:nvSpPr>
          <p:spPr>
            <a:xfrm>
              <a:off x="2286000" y="1752480"/>
              <a:ext cx="1371600" cy="4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Suga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752480"/>
              <a:ext cx="1371600" cy="4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905120" y="4838760"/>
            <a:ext cx="5181480" cy="426960"/>
            <a:chOff x="1905120" y="4838760"/>
            <a:chExt cx="5181480" cy="426960"/>
          </a:xfrm>
        </p:grpSpPr>
        <p:sp>
          <p:nvSpPr>
            <p:cNvPr id="57" name=""/>
            <p:cNvSpPr/>
            <p:nvPr/>
          </p:nvSpPr>
          <p:spPr>
            <a:xfrm>
              <a:off x="1905120" y="4838760"/>
              <a:ext cx="609480" cy="4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4838760"/>
              <a:ext cx="609480" cy="4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76920" y="4838760"/>
              <a:ext cx="609480" cy="4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77120" y="4838760"/>
              <a:ext cx="609480" cy="426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ctr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5-05T19:56:47Z</dcterms:modified>
  <cp:revision>24</cp:revision>
  <dc:subject/>
  <dc:title>Slide 1</dc:title>
</cp:coreProperties>
</file>