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0AE-25EF-4D90-895B-D622A389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264-1821-4493-865C-EB8C8685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6D0-C897-4A26-9864-88285B27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B94-1A14-4683-9C69-874DEE24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806-FB52-4202-8B52-C2A7FD7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CD5-F287-4CD5-938D-AD94E51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C3C-044B-4A9F-A658-4E6444A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F48-2984-4A1B-B12B-2905352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6B1-5FEE-4103-A9A7-DF93CBDB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9D1-D242-4492-8E8B-7A807D3E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9AA-19FC-4ACE-8481-F858CD0F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A1C-0A0E-4723-BB3C-2722B1E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86CE-1EEA-4A34-A225-2DEDC7C9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838080"/>
            <a:ext cx="64008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DNA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5486400"/>
            <a:ext cx="62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DNA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es the abbreviation DNA represent? ___________________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four letters of the D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the shape of the DNA molecule? __________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function of gen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genotype for a fe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360" y="1279440"/>
            <a:ext cx="87375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es the abbreviation DNA represent? ___________________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four letters of the D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the shape of the DNA molecule? __________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function of gen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genotype for a fe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1168560"/>
            <a:ext cx="3200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oxyribonucleic Ac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69160" y="205740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, T, G,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22860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92400"/>
            <a:ext cx="48769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trol the production of protei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33840" y="4838760"/>
            <a:ext cx="6098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6-03T04:30:26Z</dcterms:modified>
  <cp:revision>20</cp:revision>
  <dc:subject/>
  <dc:title>Slide 1</dc:title>
</cp:coreProperties>
</file>