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947F-D9C5-4935-A969-BAEC3C706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8197-E316-4A2C-8E15-BAC0758B4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D90C-2F3F-4F52-986A-3C3A8E7ED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A6E4-4079-4375-B922-8A4CA16E1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BA25-F90F-4459-926C-4A29FD569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1A4F-8A5D-44B0-B798-C7EBFDCC1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9C41-4845-48C1-88B6-3821A5274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F4DA-F5D4-4246-9768-EFDABA635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EAFA-AF24-4FF2-BFEB-3F61F93DA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1E49-6B21-45B3-AD9B-5BA08EF9C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01F7-6038-42D3-A14A-6BC895752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7440-28BC-4989-B828-B6BB231D3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F9F35-28EC-493F-8225-D562174A6C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286000" y="838080"/>
            <a:ext cx="6400800" cy="403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41400">
                  <a:solidFill>
                    <a:srgbClr val="000000"/>
                  </a:solidFill>
                  <a:miter/>
                </a:ln>
                <a:solidFill>
                  <a:srgbClr val="ff7c80"/>
                </a:solidFill>
                <a:latin typeface="Cooper Black"/>
              </a:rPr>
              <a:t>DNA Basics</a:t>
            </a:r>
            <a:endParaRPr b="0" lang="en-US" sz="1800" spc="1" strike="noStrike">
              <a:ln w="41400">
                <a:solidFill>
                  <a:srgbClr val="000000"/>
                </a:solidFill>
                <a:miter/>
              </a:ln>
              <a:solidFill>
                <a:srgbClr val="ff7c80"/>
              </a:solidFill>
              <a:latin typeface="Cooper Black"/>
              <a:ea typeface="Cooper Black"/>
            </a:endParaRPr>
          </a:p>
        </p:txBody>
      </p:sp>
      <p:sp>
        <p:nvSpPr>
          <p:cNvPr id="42" name=""/>
          <p:cNvSpPr/>
          <p:nvPr/>
        </p:nvSpPr>
        <p:spPr>
          <a:xfrm>
            <a:off x="2590920" y="5486400"/>
            <a:ext cx="62481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do you know about DN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1898640" cy="64008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371600" y="648972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52280" y="127080"/>
            <a:ext cx="8737560" cy="442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Use your knowledge of DNA to answer each ques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9360" y="1279440"/>
            <a:ext cx="8737560" cy="40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at does the abbreviation DNA represent? ___________________ 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at are the four letters of the DNA alphabet? ___ ___ ___ 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at term refers to the shape of the DNA molecule? __________ 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at is the function of genes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at is the genotype for a female? 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79360" y="1279440"/>
            <a:ext cx="8737560" cy="40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at does the abbreviation DNA represent? ___________________ 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at are the four letters of the DNA alphabet? ___ ___ ___ 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at term refers to the shape of the DNA molecule? __________ 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at is the function of genes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at is the genotype for a female? 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52280" y="127080"/>
            <a:ext cx="8737560" cy="442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And the answers are …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638680" y="1168560"/>
            <a:ext cx="3200400" cy="426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Deoxyribonucleic Aci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969160" y="2057400"/>
            <a:ext cx="1523880" cy="426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A, T, G, C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77120" y="2971800"/>
            <a:ext cx="2286000" cy="426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Double Helix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114800" y="3992400"/>
            <a:ext cx="4876920" cy="426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Control the production of protein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33840" y="4838760"/>
            <a:ext cx="609840" cy="426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XX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6T00:50:02Z</dcterms:created>
  <dc:creator>Tracy Trimpe</dc:creator>
  <dc:description/>
  <dc:language>en-US</dc:language>
  <cp:lastModifiedBy>Tracy Trimpe</cp:lastModifiedBy>
  <dcterms:modified xsi:type="dcterms:W3CDTF">2008-06-03T04:30:26Z</dcterms:modified>
  <cp:revision>20</cp:revision>
  <dc:subject/>
  <dc:title>Slide 1</dc:title>
</cp:coreProperties>
</file>