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0BC-CE85-4A07-B8CB-BCA8C61E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842-5CB3-4F02-8027-65B44739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A71-7432-4345-9CEA-812D7313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9BC-C248-416A-9409-F4A6230C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200-C440-407A-A01E-18181E0C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DBC-F10C-49C6-89B9-59D9255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037-77DF-4890-BF7D-819F14B4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744-56C4-4897-9076-139EE26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517-69B4-4216-991D-48BB841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C14-BA9B-49B2-AA03-BF4A862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461-5409-473B-BC33-6C01726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564-3A73-4954-BAF6-AD8DA19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F3FE-FA95-46EA-A193-4D08C64E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ience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091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phrase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re all related to saf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8288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    O L G E G 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, not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 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 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O R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S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L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W O    I E C 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 O N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N’   O 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    R U O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8215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8288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    O L G E G 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, not 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 H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S 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S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L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W O    I E C 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 O N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N’   O 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    R U O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97160" y="1841400"/>
            <a:ext cx="473688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R GOGG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9760" y="2581200"/>
            <a:ext cx="473688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FT, not WH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760" y="3321000"/>
            <a:ext cx="52578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H Y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9760" y="4060800"/>
            <a:ext cx="64008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9760" y="4800600"/>
            <a:ext cx="64008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FOOL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23:12:07Z</dcterms:modified>
  <cp:revision>25</cp:revision>
  <dc:subject/>
  <dc:title>Slide 1</dc:title>
</cp:coreProperties>
</file>