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17D-7520-4784-8F60-A716881B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36C-B2F2-494F-A5D5-5EBAAD54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EE2-C20E-472E-948A-550845A1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34E-4737-486B-9DC0-A60B4628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431-5E85-41B4-AC52-9C78A883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415-1E18-48CC-B322-4A8DB924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845-9D30-46D3-8F15-1DF801BE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D08-1967-43B9-8635-F028198A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96F-2B7A-413D-9A99-30D187BF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F7D-936C-4994-AE98-765685AA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E84-CAC6-4057-8F1D-AAC5382A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063-ABEA-4285-9768-7CFEC304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7D72-66A9-4E5C-82E2-540C1C8D5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ience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091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phrase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re all related to saf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8288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    O L G E G 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A, not 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 H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S H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O R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S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L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 W O    I E C 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 O N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N’   O 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    R U O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82152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8288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    O L G E G 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A, not 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 H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S H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S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L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 W O    I E C 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 O N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N’   O 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    R U O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97160" y="1841400"/>
            <a:ext cx="473688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AR GO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9760" y="2581200"/>
            <a:ext cx="473688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FT, not WH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760" y="3321000"/>
            <a:ext cx="52578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H Y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9760" y="4060800"/>
            <a:ext cx="64008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LLOW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9760" y="4800600"/>
            <a:ext cx="64008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FOOL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23:12:07Z</dcterms:modified>
  <cp:revision>25</cp:revision>
  <dc:subject/>
  <dc:title>Slide 1</dc:title>
</cp:coreProperties>
</file>