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022-53CE-4028-9273-C76FBCC7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407-BA00-419B-9E63-1DC409A6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F78-E439-4C27-99D2-7307E658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B65-68F5-4806-BDAC-0BCDF82F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435-56B4-4B52-BC01-49F6D6F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790-E224-48D4-947F-A95F021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3F5-0383-483E-84EB-D6BEFFB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E3C-4248-455B-B242-33BF568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635-A31C-4477-8013-B2979619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C20-BE14-44FD-927E-51C9A8A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AFE-2E05-46CC-BB21-AC7E317E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089-5914-4B3B-A570-FE165361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80E3-CCB6-41ED-96DD-7E1D60A0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724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ience Experi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related to science experi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828800"/>
            <a:ext cx="5029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E H I S Y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 R C D E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N O C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I N O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L A Y S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5029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 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 E H I S Y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O R C D E R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N O C 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 I N O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L A Y S 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828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25401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325296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3965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4678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57Z</dcterms:modified>
  <cp:revision>18</cp:revision>
  <dc:subject/>
  <dc:title>Slide 1</dc:title>
</cp:coreProperties>
</file>