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F0A-5C90-4B41-9A27-2F640D0F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6C7-3494-4D89-92E2-16A3D7EB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19E-F50F-4B4D-A507-BD135E3D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AEF-7284-46F9-B1EA-631BFE08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7D4-45E0-4778-845B-76F5E12B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B83-0594-4368-83B1-EFF8451A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56B-B121-4F6F-A8D2-0FD3CB3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E66-D4B3-4FCA-B667-31C0139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8C1-5514-4F43-8BA9-68203296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4C7-3513-4259-8F43-AEBD03C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8BF-9106-4569-A7B6-12C8877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ED9-AAB6-46C5-9638-CA39E6C0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B48C-37D6-47EF-8946-E24FACD6E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724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ience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091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re all related to science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828800"/>
            <a:ext cx="5029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E H I S Y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O R C D E R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N O C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I N O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L A Y S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8215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828800"/>
            <a:ext cx="5029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E H I S Y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O R C D E R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N O C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I N O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L A Y S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1828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25401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2529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965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4678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23:12:57Z</dcterms:modified>
  <cp:revision>18</cp:revision>
  <dc:subject/>
  <dc:title>Slide 1</dc:title>
</cp:coreProperties>
</file>