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7EE8-7CA3-4559-9607-D0B88488B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2883-75DB-41B7-9E9D-722AF8D6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0130-2BBE-49E2-8C11-D58E978EB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51A1-4563-4208-8F49-47DE4B1F9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2AE5-BA24-45DE-A4E9-56363CBB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18F8-2C63-4AA4-9846-83C12A05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9324-3D0C-40D3-A54F-BB640430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E846-8954-42B3-8C91-13A0F72F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59A9-B87C-424F-8CB0-AA333179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694E-322F-44E9-807A-7E7E88B9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DA2B-23B1-4BAC-AE00-9B168955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A7DD-1126-458D-A3FC-16BCDC4B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19A7-E305-4A52-A963-DFAED683A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457200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cience Experiments #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533520" y="762120"/>
            <a:ext cx="815328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6699"/>
                </a:solidFill>
                <a:latin typeface="Cooper Black"/>
              </a:rPr>
              <a:t>Lab Tim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6699"/>
              </a:solidFill>
              <a:latin typeface="Cooper Black"/>
              <a:ea typeface="Cooper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89584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151200"/>
            <a:ext cx="8915400" cy="459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the information below and then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746280"/>
            <a:ext cx="7391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ongeBob loves to grow flowers for his pal Sandy, who loves big, colorful flowers.  He found a new brand of seeds coated with a special “booster” fertilizer that said it would produce huge flowers.  He planted 5 of the new seeds in one container and 5 of the old brand of seeds in another container.  He placed both containers on a sunny windowsill and watered them every day.  He measured the diameter of each flower, which is shown in the ch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11480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group was the contro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6432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What is the independent vari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517356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What is the dependent vari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570240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What is the average diameter for each grou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944640"/>
            <a:ext cx="1420920" cy="182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457200" y="3048120"/>
          <a:ext cx="8458200" cy="790560"/>
        </p:xfrm>
        <a:graphic>
          <a:graphicData uri="http://schemas.openxmlformats.org/drawingml/2006/table">
            <a:tbl>
              <a:tblPr/>
              <a:tblGrid>
                <a:gridCol w="1409400"/>
                <a:gridCol w="1410120"/>
                <a:gridCol w="1409400"/>
                <a:gridCol w="1409760"/>
                <a:gridCol w="1409760"/>
                <a:gridCol w="14097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d See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ee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28600" y="623268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Which seeds are the best for big flow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2280" y="151200"/>
            <a:ext cx="8915400" cy="459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the information below and then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746280"/>
            <a:ext cx="7391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ongeBob loves to grow flowers for his pal Sandy, who loves big, colorful flowers.  He found a new brand of seeds coated with a special “booster” fertilizer that said it would produce huge flowers.  He planted 5 of the new seeds in one container and 5 of the old brand of seeds in another container.  He placed both containers on a sunny windowsill and watered them every day.  He measured the diameter of each flower, which is shown in the ch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group was the contro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6432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What is the independent vari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517356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What is the dependent vari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570240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What is the average diameter for each grou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280" y="944640"/>
            <a:ext cx="1420920" cy="182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457200" y="3048120"/>
          <a:ext cx="8458200" cy="790560"/>
        </p:xfrm>
        <a:graphic>
          <a:graphicData uri="http://schemas.openxmlformats.org/drawingml/2006/table">
            <a:tbl>
              <a:tblPr/>
              <a:tblGrid>
                <a:gridCol w="1409400"/>
                <a:gridCol w="1410120"/>
                <a:gridCol w="1409400"/>
                <a:gridCol w="1409760"/>
                <a:gridCol w="1409760"/>
                <a:gridCol w="14097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d See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ee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228600" y="623268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Which seeds are the best for big flow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4098960"/>
            <a:ext cx="4267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eeds without the booster fertil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4632480"/>
            <a:ext cx="37339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ster fertilizer on the new s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5181480"/>
            <a:ext cx="4038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or diameter of the f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4120" y="5699160"/>
            <a:ext cx="30477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d = 10 cm, New = 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6232680"/>
            <a:ext cx="33530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seeds w/ the boo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6T04:42:17Z</dcterms:modified>
  <cp:revision>27</cp:revision>
  <dc:subject/>
  <dc:title>Slide 1</dc:title>
</cp:coreProperties>
</file>