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4D3-7F3E-4BCB-A061-8D90E88BA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89E-765B-410B-AE86-4FAD32B2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80C-7ED6-4761-B5BF-ABF9FCBE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9F7-A7CD-4CA4-9976-9BB7E636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EE2-7495-4988-8611-B114BC3F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1AB-0820-42C2-B471-79780A0C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47B-529D-4FC5-B15F-77D05921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91B-F4C5-47C8-B270-602AD768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6F8-311F-4BE2-9E5F-9B52651D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05E7-864A-4735-A282-4AD6ABDC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7A5-512E-4CB7-BF0F-4A219E5E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831-1E91-4811-B943-41323E3C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9E00-39CD-4A10-8157-F1E8F053B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ience Experiments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3520" y="762120"/>
            <a:ext cx="81532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Cooper Black"/>
              </a:rPr>
              <a:t>Lab Tim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8958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51200"/>
            <a:ext cx="891540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the information below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746280"/>
            <a:ext cx="739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ngeBob loves to grow flowers for his pal Sandy, who loves big, colorful flowers.  He found a new brand of seeds coated with a special “booster” fertilizer that said it would produce huge flowers.  He planted 5 of the new seeds in one container and 5 of the old brand of seeds in another container.  He placed both containers on a sunny windowsill and watered them every day.  He measured the diameter of each flower, which is shown in the ch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group was the contr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643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is the independent vari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17356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at is the dependent vari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702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at is the average diameter for each gro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944640"/>
            <a:ext cx="142092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57200" y="3048120"/>
          <a:ext cx="8458200" cy="790560"/>
        </p:xfrm>
        <a:graphic>
          <a:graphicData uri="http://schemas.openxmlformats.org/drawingml/2006/table">
            <a:tbl>
              <a:tblPr/>
              <a:tblGrid>
                <a:gridCol w="1409400"/>
                <a:gridCol w="1410120"/>
                <a:gridCol w="1409400"/>
                <a:gridCol w="1409760"/>
                <a:gridCol w="1409760"/>
                <a:gridCol w="14097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S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62326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Which seeds are the best for big flow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151200"/>
            <a:ext cx="8915400" cy="459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the information below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46280"/>
            <a:ext cx="739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ngeBob loves to grow flowers for his pal Sandy, who loves big, colorful flowers.  He found a new brand of seeds coated with a special “booster” fertilizer that said it would produce huge flowers.  He planted 5 of the new seeds in one container and 5 of the old brand of seeds in another container.  He placed both containers on a sunny windowsill and watered them every day.  He measured the diameter of each flower, which is shown in the ch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group was the contr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643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is the independent vari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17356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at is the dependent vari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702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at is the average diameter for each grou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944640"/>
            <a:ext cx="1420920" cy="18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3048120"/>
          <a:ext cx="8458200" cy="790560"/>
        </p:xfrm>
        <a:graphic>
          <a:graphicData uri="http://schemas.openxmlformats.org/drawingml/2006/table">
            <a:tbl>
              <a:tblPr/>
              <a:tblGrid>
                <a:gridCol w="1409400"/>
                <a:gridCol w="1410120"/>
                <a:gridCol w="1409400"/>
                <a:gridCol w="1409760"/>
                <a:gridCol w="1409760"/>
                <a:gridCol w="14097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S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e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28600" y="62326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Which seeds are the best for big flow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4098960"/>
            <a:ext cx="4267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eds without the booster fertil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4632480"/>
            <a:ext cx="37339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ster fertilizer on the new s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5181480"/>
            <a:ext cx="4038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or diameter of the 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5699160"/>
            <a:ext cx="3047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d = 10 cm, New =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232680"/>
            <a:ext cx="3353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seeds w/ the boo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6T04:42:17Z</dcterms:modified>
  <cp:revision>27</cp:revision>
  <dc:subject/>
  <dc:title>Slide 1</dc:title>
</cp:coreProperties>
</file>