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D8BC-7B74-4F48-9571-82A5C349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36BB-EBE8-4E19-A5CB-97116D22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F619-D930-482B-8DFA-BC0F5CBF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9E0D-0F56-453B-977A-50A0AA3F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C7FE-5D3D-402D-921A-615094AF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E50B-FFA2-482A-BB12-64E81C96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C835-C66D-4A59-87F0-C61ACC73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DCCF-A340-4CF9-998B-D70872A5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93EA-85F7-43AC-99A1-9447D83C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56EE-2472-4D52-B3F7-2F84AB73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8D0D-D750-4365-B4BE-0D4817FE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E6D6-EDC1-47E1-9C61-372501AE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2D34-9E88-4355-B249-851D6DD1F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762120"/>
            <a:ext cx="784872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Cooper Black"/>
              </a:rPr>
              <a:t>Name That Critter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2819520" y="472428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you know the critter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see in pond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1995480" cy="2381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93960" y="6477120"/>
            <a:ext cx="533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227880"/>
            <a:ext cx="8915400" cy="52056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y each pond water cri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1219320"/>
            <a:ext cx="3353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quito Larv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onfly Nymp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mselfly Nymp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fly Nymp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matod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Fle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ti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324480" y="990720"/>
            <a:ext cx="2362320" cy="1753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4246560"/>
            <a:ext cx="2514600" cy="2135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895480" y="4572000"/>
            <a:ext cx="3048120" cy="1131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95200" y="2627280"/>
            <a:ext cx="2381400" cy="1552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rcRect l="0" t="10107" r="0" b="14303"/>
          <a:stretch/>
        </p:blipFill>
        <p:spPr>
          <a:xfrm>
            <a:off x="304920" y="1066680"/>
            <a:ext cx="2361960" cy="1417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rcRect l="7501" t="0" r="0" b="20003"/>
          <a:stretch/>
        </p:blipFill>
        <p:spPr>
          <a:xfrm>
            <a:off x="6286680" y="4648320"/>
            <a:ext cx="2438280" cy="1581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rcRect l="0" t="15700" r="0" b="10608"/>
          <a:stretch/>
        </p:blipFill>
        <p:spPr>
          <a:xfrm>
            <a:off x="6267600" y="2857680"/>
            <a:ext cx="2476440" cy="1676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990720" y="11430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7432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752480" y="579132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343400" y="518148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400800" y="106668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934320" y="29718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477120" y="57150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320" y="227880"/>
            <a:ext cx="8915400" cy="52056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1219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qui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24480" y="990720"/>
            <a:ext cx="2362320" cy="1753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28600" y="4246560"/>
            <a:ext cx="2514600" cy="2135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895480" y="4572000"/>
            <a:ext cx="3048120" cy="1131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95200" y="2627280"/>
            <a:ext cx="2381400" cy="1552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rcRect l="0" t="10107" r="0" b="14303"/>
          <a:stretch/>
        </p:blipFill>
        <p:spPr>
          <a:xfrm>
            <a:off x="304920" y="1066680"/>
            <a:ext cx="2361960" cy="1417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rcRect l="7501" t="0" r="0" b="20003"/>
          <a:stretch/>
        </p:blipFill>
        <p:spPr>
          <a:xfrm>
            <a:off x="6286680" y="4648320"/>
            <a:ext cx="2438280" cy="158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rcRect l="0" t="15700" r="0" b="10608"/>
          <a:stretch/>
        </p:blipFill>
        <p:spPr>
          <a:xfrm>
            <a:off x="6267600" y="2857680"/>
            <a:ext cx="2476440" cy="1676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990720" y="11430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7432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52480" y="579132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343400" y="518148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400800" y="106668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934320" y="29718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477120" y="57150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29401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onfl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y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1432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ti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294012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mselfl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y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715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mat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5360" y="63007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Fl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6324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fly Ny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5T02:20:00Z</dcterms:modified>
  <cp:revision>24</cp:revision>
  <dc:subject/>
  <dc:title>Slide 1</dc:title>
</cp:coreProperties>
</file>