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C47-3871-4FC3-AFFB-90B26218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612-2C36-4467-B836-A21F723D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8BF-B4A0-408D-A6C1-173C588A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D13-E39A-4273-96F5-DDE59BCE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8B24-EDB0-440A-A452-D7CE8E35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9A3-0D5F-4DD8-89DF-EC4F0FFE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645-5E66-411F-85C6-CE46D3DC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F9A-F59D-400B-86AB-4469DFEA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7B5-AEA7-4D1A-B1AB-8A523BC2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971-7BAA-4F4E-95CE-2B59B357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002-4F88-4EFA-8FC6-CA925736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2C5-65FB-4FC3-AB5E-7E4F3EB6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687F-18FF-48AB-A251-F28256134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762120"/>
            <a:ext cx="78487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Cooper Black"/>
              </a:rPr>
              <a:t>Name That Critter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472428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know the critter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see in pond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1995480" cy="2381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960" y="647712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227880"/>
            <a:ext cx="891540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each pond water cri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1219320"/>
            <a:ext cx="3353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quito Larv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onfly Nymp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selfly Nymp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fly Nymp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to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Fle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i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324480" y="990720"/>
            <a:ext cx="2362320" cy="1753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4246560"/>
            <a:ext cx="2514600" cy="213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895480" y="4572000"/>
            <a:ext cx="3048120" cy="113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95200" y="2627280"/>
            <a:ext cx="2381400" cy="1552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0" t="10107" r="0" b="14303"/>
          <a:stretch/>
        </p:blipFill>
        <p:spPr>
          <a:xfrm>
            <a:off x="304920" y="1066680"/>
            <a:ext cx="2361960" cy="141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7501" t="0" r="0" b="20003"/>
          <a:stretch/>
        </p:blipFill>
        <p:spPr>
          <a:xfrm>
            <a:off x="6286680" y="4648320"/>
            <a:ext cx="2438280" cy="158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rcRect l="0" t="15700" r="0" b="10608"/>
          <a:stretch/>
        </p:blipFill>
        <p:spPr>
          <a:xfrm>
            <a:off x="6267600" y="2857680"/>
            <a:ext cx="2476440" cy="1676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990720" y="1143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7432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52480" y="57913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43400" y="51814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400800" y="10666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934320" y="29718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77120" y="5715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227880"/>
            <a:ext cx="8915400" cy="52056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219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qui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990720"/>
            <a:ext cx="2362320" cy="1753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8600" y="4246560"/>
            <a:ext cx="2514600" cy="2135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895480" y="4572000"/>
            <a:ext cx="3048120" cy="1131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95200" y="2627280"/>
            <a:ext cx="2381400" cy="1552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rcRect l="0" t="10107" r="0" b="14303"/>
          <a:stretch/>
        </p:blipFill>
        <p:spPr>
          <a:xfrm>
            <a:off x="304920" y="1066680"/>
            <a:ext cx="2361960" cy="1417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rcRect l="7501" t="0" r="0" b="20003"/>
          <a:stretch/>
        </p:blipFill>
        <p:spPr>
          <a:xfrm>
            <a:off x="6286680" y="4648320"/>
            <a:ext cx="2438280" cy="158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rcRect l="0" t="15700" r="0" b="10608"/>
          <a:stretch/>
        </p:blipFill>
        <p:spPr>
          <a:xfrm>
            <a:off x="6267600" y="2857680"/>
            <a:ext cx="2476440" cy="1676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990720" y="1143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7432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52480" y="579132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43400" y="51814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400800" y="10666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934320" y="29718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477120" y="5715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29401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onf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y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432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i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94012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self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y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715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t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360" y="63007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Fl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6324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fly Ny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5T02:20:00Z</dcterms:modified>
  <cp:revision>24</cp:revision>
  <dc:subject/>
  <dc:title>Slide 1</dc:title>
</cp:coreProperties>
</file>