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9D4-B0CF-41C1-B103-B5391FFC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F85-0D16-43F2-9205-1454CB9C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DEC-6B19-4E5B-826D-F4600BA7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B7E-D9A5-4FFE-923E-4A6E75A2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D5F-E9FD-4A7E-9559-7C729E25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AFF-4B82-4FE0-837E-CB08696A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3ED-B55C-43D2-B34F-BB991EB1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46A-5087-4E06-8049-E9BC70EB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E99-F6AB-46A6-BABC-A339782B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BFC-0D51-4C7C-B72B-50C7A55F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B6B-7190-4D49-91DB-95D14C42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9BF-A26D-45EF-9C0F-6BEC3B55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28AE-FE54-4FF2-94D3-639D1A056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685800"/>
            <a:ext cx="8153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Microscope Basics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409760" y="62485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938680" cy="295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46483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6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s of 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28600"/>
            <a:ext cx="87631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 in the missing information in the cha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ased on your knowledge of powers of magn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1727280"/>
          <a:ext cx="7086600" cy="4063680"/>
        </p:xfrm>
        <a:graphic>
          <a:graphicData uri="http://schemas.openxmlformats.org/drawingml/2006/table">
            <a:tbl>
              <a:tblPr/>
              <a:tblGrid>
                <a:gridCol w="2361960"/>
                <a:gridCol w="2362320"/>
                <a:gridCol w="2362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ular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ctive L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 of Magn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6172200" y="2921040"/>
            <a:ext cx="1600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3956040"/>
            <a:ext cx="1600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946760"/>
            <a:ext cx="1600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66680" y="1727280"/>
          <a:ext cx="7086600" cy="4063680"/>
        </p:xfrm>
        <a:graphic>
          <a:graphicData uri="http://schemas.openxmlformats.org/drawingml/2006/table">
            <a:tbl>
              <a:tblPr/>
              <a:tblGrid>
                <a:gridCol w="2361960"/>
                <a:gridCol w="2362320"/>
                <a:gridCol w="2362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ular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ctive L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 of Magn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52280" y="228600"/>
            <a:ext cx="87631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2946240"/>
            <a:ext cx="1600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959280"/>
            <a:ext cx="1600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950000"/>
            <a:ext cx="1600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46240"/>
            <a:ext cx="1600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959280"/>
            <a:ext cx="1600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950000"/>
            <a:ext cx="1600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7524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4:46:29Z</dcterms:created>
  <dc:creator>admin</dc:creator>
  <dc:description/>
  <dc:language>en-US</dc:language>
  <cp:lastModifiedBy>Tracy Trimpe</cp:lastModifiedBy>
  <dcterms:modified xsi:type="dcterms:W3CDTF">2008-10-26T20:12:52Z</dcterms:modified>
  <cp:revision>46</cp:revision>
  <dc:subject/>
  <dc:title>Microscope Basics</dc:title>
</cp:coreProperties>
</file>