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2772A-22D9-4D7B-8C01-4C0EF50A2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7209C-242A-48AA-B153-DE3AF34ED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78EB1-876E-4CB3-80E9-4D11DA73A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6953D-4023-45D3-8CF1-99B0890CB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280C5-D610-490B-A2D4-17A061AB2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A411E-EF81-439C-AADB-1A4A17DDE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9274B-CD8F-4D2E-B37B-5CFE40DEB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9A0C1-2945-43C1-91A2-4AAB4A079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20854-B238-4811-A450-D5DD0BCA4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561CA-6BCB-48F8-B5A5-46DCAEDD8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D1332-B4BE-4810-A2BC-1CD100297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B3E21-B159-48F8-98F7-18DAD7AB1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07CAA-91E9-4589-878B-871EE202BD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80880" y="685800"/>
            <a:ext cx="815364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3333cc"/>
                </a:solidFill>
                <a:latin typeface="Arial Black"/>
              </a:rPr>
              <a:t>Microscope Basics</a:t>
            </a:r>
            <a:endParaRPr b="0" lang="en-US" sz="2400" spc="1" strike="noStrike">
              <a:ln w="28440">
                <a:solidFill>
                  <a:srgbClr val="000000"/>
                </a:solidFill>
                <a:miter/>
              </a:ln>
              <a:solidFill>
                <a:srgbClr val="3333cc"/>
              </a:solidFill>
              <a:latin typeface="Arial Black"/>
              <a:ea typeface="Arial Black"/>
            </a:endParaRPr>
          </a:p>
        </p:txBody>
      </p:sp>
      <p:sp>
        <p:nvSpPr>
          <p:cNvPr id="42" name=""/>
          <p:cNvSpPr/>
          <p:nvPr/>
        </p:nvSpPr>
        <p:spPr>
          <a:xfrm>
            <a:off x="1409760" y="6248520"/>
            <a:ext cx="2971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T. Trimpe 2008   http://sciencespot.net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629400" y="152280"/>
            <a:ext cx="2381400" cy="4478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4952880" y="3657600"/>
            <a:ext cx="2938680" cy="29592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33520" y="4648320"/>
            <a:ext cx="4419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hallenge #6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owers of Magn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52280" y="228600"/>
            <a:ext cx="8763120" cy="825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ll in the missing information in the chart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based on your knowledge of powers of magnific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1066680" y="1727280"/>
          <a:ext cx="7086600" cy="4063680"/>
        </p:xfrm>
        <a:graphic>
          <a:graphicData uri="http://schemas.openxmlformats.org/drawingml/2006/table">
            <a:tbl>
              <a:tblPr/>
              <a:tblGrid>
                <a:gridCol w="2361960"/>
                <a:gridCol w="2362320"/>
                <a:gridCol w="2362320"/>
              </a:tblGrid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cular </a:t>
                      </a:r>
                      <a:br>
                        <a:rPr sz="2800"/>
                      </a:b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e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bjective Le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wer of Magnific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" name=""/>
          <p:cNvSpPr/>
          <p:nvPr/>
        </p:nvSpPr>
        <p:spPr>
          <a:xfrm>
            <a:off x="6172200" y="2921040"/>
            <a:ext cx="160020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9880" y="3956040"/>
            <a:ext cx="160020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447920" y="4946760"/>
            <a:ext cx="160020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1066680" y="1727280"/>
          <a:ext cx="7086600" cy="4063680"/>
        </p:xfrm>
        <a:graphic>
          <a:graphicData uri="http://schemas.openxmlformats.org/drawingml/2006/table">
            <a:tbl>
              <a:tblPr/>
              <a:tblGrid>
                <a:gridCol w="2361960"/>
                <a:gridCol w="2362320"/>
                <a:gridCol w="2362320"/>
              </a:tblGrid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cular </a:t>
                      </a:r>
                      <a:br>
                        <a:rPr sz="2800"/>
                      </a:b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e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bjective Le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wer of Magnific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" name=""/>
          <p:cNvSpPr/>
          <p:nvPr/>
        </p:nvSpPr>
        <p:spPr>
          <a:xfrm>
            <a:off x="152280" y="228600"/>
            <a:ext cx="8763120" cy="4597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answers are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172200" y="2946240"/>
            <a:ext cx="160020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809880" y="3959280"/>
            <a:ext cx="160020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447920" y="4950000"/>
            <a:ext cx="160020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172200" y="2946240"/>
            <a:ext cx="1600200" cy="6426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9880" y="3959280"/>
            <a:ext cx="1600200" cy="6426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447920" y="4950000"/>
            <a:ext cx="1600200" cy="6426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102120" y="175248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475240" y="175248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1T14:46:29Z</dcterms:created>
  <dc:creator>admin</dc:creator>
  <dc:description/>
  <dc:language>en-US</dc:language>
  <cp:lastModifiedBy>Tracy Trimpe</cp:lastModifiedBy>
  <dcterms:modified xsi:type="dcterms:W3CDTF">2008-10-26T20:12:52Z</dcterms:modified>
  <cp:revision>46</cp:revision>
  <dc:subject/>
  <dc:title>Microscope Basics</dc:title>
</cp:coreProperties>
</file>